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FD3-4002-4CC4-AC7B-C9C7874D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9A6-B708-43D4-A207-77E41760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C44-5B3E-4B83-AC45-2BEE08A9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724-38FB-425C-8F22-F94C8B2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620F-64A0-4B7E-BFC6-1487CA86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241-1FB7-47DF-BE17-55BBE2B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506-E965-4900-AEDD-FFACDE35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301-72DA-4F39-B48A-D0B3D0B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474-9EA2-488F-BB3A-775C7C26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CB9A-8091-4752-AC10-B9B7F512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E92-01A2-4D15-ACA0-8DDBC9E6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171-60EC-4448-9B4F-99314FD2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8320-C3A2-4F00-8F18-3FCD37C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D7AB-1751-45D5-A454-336175D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379-224F-48E8-ACA9-B594E9B4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41D5-044F-4AD5-89EC-4622D0B8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CB21-D50F-4233-BCB6-FB1B3F47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4E2-E8C6-445A-94DC-3F71F7B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93F-4451-41E0-A8E3-F66E033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E4B-7EE1-444C-B085-2A0C8027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FB3-1D44-4C71-BD83-32C9C724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0E8-81D2-48C2-9B00-F9DA322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D26-F079-40FF-B6D8-7E12031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C03-BF12-4312-AC81-750E2CA9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875-B1E4-4A60-B2C1-50246688DFED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A1B0-B9CF-498A-A2CE-34F55B9D3FA8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Marker Felt"/>
              </a:rPr>
              <a:t>Mass vs. Weight</a:t>
            </a:r>
            <a:endParaRPr b="0" lang="en-US" sz="5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hat’s the difference anyway?!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So what does all this have to do with weight?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the force on an object caused by gravity trying to pull the object down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scale measures how much gravity your mass has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person with more mass has more gravity, and therefore weighs more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y seem to float between each step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Remember that the moon has about 1/6 the amount of gravity that the Earth has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ll, if you went to the moon, you'd weigh less than you do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Does this mean you would suddenly be thinner on the moon?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bsolutely not…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sam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-- there is no less of you on the moo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i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differen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the moon's gravity is different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a measurement of the force on a object caused by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rying to pull the object dow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3873600"/>
            <a:ext cx="22100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Mars has less gravity tha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refore if you were on Mars you'd weigh less because the force of gravity wouldn't be as strong as it is here o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Does this mean you’d suddenly be thinner on Mars?!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No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You would have the same amount of mass as you do on Earth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Mass is the amount of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stuff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inside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an object.</a:t>
            </a:r>
            <a:endParaRPr b="0" lang="en-US" sz="7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On Mars….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same as it is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'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le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Mars has les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ha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Gravity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attractiv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force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s doesn't mean it's pretty or cute…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3421080"/>
            <a:ext cx="350532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What "attractive" means is that an object's gravity pulls other objects toward i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's gravity naturally pulls us, and everything else, toward the center of the planet, which keeps us from drifting off into space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Mass is the amount of stuff contained inside an objec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It takes a lot of mass to make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 has a lot of mass, so it has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moon's gravity is about 1/6 the amount of the Earth's because the moon has less mass than the Earth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8:21:04Z</dcterms:created>
  <dc:creator>hms</dc:creator>
  <dc:description/>
  <dc:language>en-US</dc:language>
  <cp:lastModifiedBy>asd</cp:lastModifiedBy>
  <dcterms:modified xsi:type="dcterms:W3CDTF">2011-02-09T21:12:16Z</dcterms:modified>
  <cp:revision>2</cp:revision>
  <dc:subject/>
  <dc:title>Mass vs. Weight</dc:title>
</cp:coreProperties>
</file>