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E59-71FB-4C5A-8FCC-8D15CEBC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C71-CAB2-486F-8939-EF933F50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F51-F940-4D64-A25E-C8201A4C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E27-78CD-4931-A67E-749363A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065E-53B0-4F34-AD0D-D6A1B7D3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4D80-1D2D-449E-B04C-E58971F7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D256-97A1-4C4C-B687-4B045442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2111-0ADC-48F8-BAD3-D5E9741E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E6F9-66AB-4DB8-9C45-3109392E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4DD7-DD8A-4BA3-AEE2-686EC2E3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0B8D-47AC-4A6D-B4E5-EC9D8169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FFB-5F14-4E25-A61B-2FF3D92C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8928-1CD8-42B0-B27B-34ADCC0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EA19-5378-4A6A-BD0F-5815926E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7949-CF01-4DBA-AAAF-3607DF4A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856B-A3A8-4E5C-B84F-A90B37A3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1793-6616-4AA7-AFD1-5D78101A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663-6E3C-48FF-8588-0B42F914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C50-2102-40A4-850F-0FC0F802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CA7-E2C7-4106-8219-A970A5AE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F30-81D2-40C5-B094-B2D9A57C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36D-FF14-40D4-900E-F2C4982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10D-4992-4BBF-BE1B-47F00CBB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6E2-4C57-4A15-955B-B886E7DD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C32-D9A5-41A7-9013-5C0F0D98AF7F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2EA1-EF3F-449B-8F5E-976E1991CDB4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Marker Felt"/>
              </a:rPr>
              <a:t>Mass vs. Weight</a:t>
            </a:r>
            <a:endParaRPr b="0" lang="en-US" sz="5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hat’s the difference anyway?!?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So what does all this have to do with weight?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ight is the force on an object caused by gravity trying to pull the object down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 scale measures how much gravity your mass has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 person with more mass has more gravity, and therefore weighs more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ey seem to float between each step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Remember that the moon has about 1/6 the amount of gravity that the Earth has?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ll, if you went to the moon, you'd weigh less than you do here o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Does this mean you would suddenly be thinner on the moon?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bsolutely not…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ma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would be the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same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-- there is no less of you on the moon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But 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weight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is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different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because the moon's gravity is different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hat is Weight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ight is a measurement of the force on a object caused by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gravity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trying to pull the object down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352680" y="3873600"/>
            <a:ext cx="22100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hat is Weight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Mars has less gravity tha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erefore if you were on Mars you'd weigh less because the force of gravity wouldn't be as strong as it is here on Earth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Does this mean you’d suddenly be thinner on Mars?!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No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You would have the same amount of mass as you do on Earth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Mass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	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Mass is the amount of </a:t>
            </a:r>
            <a:r>
              <a:rPr b="0" lang="en-US" sz="7200" spc="-1" strike="noStrike" u="sng">
                <a:solidFill>
                  <a:srgbClr val="330000"/>
                </a:solidFill>
                <a:uFillTx/>
                <a:latin typeface="Arial Rounded MT Bold"/>
              </a:rPr>
              <a:t>stuff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 </a:t>
            </a:r>
            <a:r>
              <a:rPr b="0" lang="en-US" sz="7200" spc="-1" strike="noStrike" u="sng">
                <a:solidFill>
                  <a:srgbClr val="330000"/>
                </a:solidFill>
                <a:uFillTx/>
                <a:latin typeface="Arial Rounded MT Bold"/>
              </a:rPr>
              <a:t>inside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 an object.</a:t>
            </a:r>
            <a:endParaRPr b="0" lang="en-US" sz="7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On Mars….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ma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would be the same as it is here o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But you'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weigh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le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because Mars has less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gravity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than Earth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Gravity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Gravity is an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attractive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force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is doesn't mean it's pretty or cute…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3421080"/>
            <a:ext cx="3505320" cy="255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Gravity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What "attractive" means is that an object's gravity pulls other objects toward it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Earth's gravity naturally pulls us, and everything else, toward the center of the planet, which keeps us from drifting off into space.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Mass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Mass is the amount of stuff contained inside an object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It takes a lot of mass to make a lot of gravity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Earth has a lot of mass, so it has a lot of gravity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moon's gravity is about 1/6 the amount of the Earth's because the moon has less mass than the Earth.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8:21:04Z</dcterms:created>
  <dc:creator>hms</dc:creator>
  <dc:description/>
  <dc:language>en-US</dc:language>
  <cp:lastModifiedBy>asd</cp:lastModifiedBy>
  <dcterms:modified xsi:type="dcterms:W3CDTF">2011-02-09T21:12:16Z</dcterms:modified>
  <cp:revision>2</cp:revision>
  <dc:subject/>
  <dc:title>Mass vs. Weight</dc:title>
</cp:coreProperties>
</file>