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D006-2845-4577-86B5-CD70B0D41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4EE6-9816-46AD-8A7B-CA9ABD7F0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6C3A-1552-47EE-A3A8-E6A85F87A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A484-6A4E-4A45-B08B-46C47D5DD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CAFBA-4219-4AD5-AB44-DA23E24D6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52A7A-4146-4F33-A5D2-2F4A68BDF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6463D-BA26-4F97-9343-5BBD667B4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70F3F-A4F8-4BFB-88FE-3CF6A535A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B1F87-3DDD-4526-B172-B831DD5C6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9930C-D34F-4CB0-921B-DCA8172B4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119DE-503A-4CB2-B405-168BB512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20E6-C919-4F3C-8B6E-195655026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880A4-F61A-494B-8067-0019E24E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DF3DB-0649-4438-AC26-2CD341F9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5F680-838A-4C7F-A362-6C3F965EA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8BD32-7949-4030-90F2-39C05A88C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ED9B8-1D4A-41AE-AE84-709DFA039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B653-15AE-4126-BDD4-1DA8998BB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83DA-312B-48E8-A6AB-D03BAFA23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C676-2AB4-41C6-996F-C3A21040C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98B3-42A9-4B9B-8EC1-EF9A8FEF6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243B-4BC1-4DD2-9B5B-6352999D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869A-BCFF-4439-B89A-E86B2C37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BE82-6C3A-4DF8-8ADC-C3B0643B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Marker Felt"/>
              </a:rPr>
              <a:t>Click to edit the title text format</a:t>
            </a: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D3AFC-DA40-4522-B73B-37D792FDF21B}" type="slidenum">
              <a: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Marker Felt"/>
              </a:rPr>
              <a:t>Click to edit the title text format</a:t>
            </a: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98E75-FD67-491F-B88E-3F382C824720}" type="slidenum">
              <a: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Rounded MT Bold"/>
              </a:rPr>
              <a:t>Second Outline Level</a:t>
            </a:r>
            <a:endParaRPr b="0" lang="en-US" sz="2800" spc="-1" strike="noStrike">
              <a:solidFill>
                <a:srgbClr val="330000"/>
              </a:solidFill>
              <a:latin typeface="Arial Rounded MT Bold"/>
            </a:endParaRPr>
          </a:p>
          <a:p>
            <a:pPr lvl="2" marL="914400" algn="ctr">
              <a:spcBef>
                <a:spcPts val="601"/>
              </a:spcBef>
              <a:buClr>
                <a:srgbClr val="330000"/>
              </a:buClr>
              <a:buFont typeface="Arial Rounded MT Bol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330000"/>
              </a:solidFill>
              <a:latin typeface="Arial Rounded MT Bold"/>
            </a:endParaRPr>
          </a:p>
          <a:p>
            <a:pPr lvl="3" marL="1371600" algn="ctr">
              <a:spcBef>
                <a:spcPts val="499"/>
              </a:spcBef>
              <a:buClr>
                <a:srgbClr val="330000"/>
              </a:buClr>
              <a:buFont typeface="Arial Rounded MT Bol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 Rounded MT Bold"/>
              </a:rPr>
              <a:t>Fourth Outline Level</a:t>
            </a:r>
            <a:endParaRPr b="0" lang="en-US" sz="2000" spc="-1" strike="noStrike">
              <a:solidFill>
                <a:srgbClr val="330000"/>
              </a:solidFill>
              <a:latin typeface="Arial Rounded MT Bold"/>
            </a:endParaRPr>
          </a:p>
          <a:p>
            <a:pPr lvl="4" marL="1828800" algn="ctr">
              <a:spcBef>
                <a:spcPts val="499"/>
              </a:spcBef>
              <a:buClr>
                <a:srgbClr val="330000"/>
              </a:buClr>
              <a:buFont typeface="Arial Rounded MT Bold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 Rounded MT Bold"/>
              </a:rPr>
              <a:t>Fifth Outline Level</a:t>
            </a:r>
            <a:endParaRPr b="0" lang="en-US" sz="2000" spc="-1" strike="noStrike">
              <a:solidFill>
                <a:srgbClr val="330000"/>
              </a:solidFill>
              <a:latin typeface="Arial Rounded MT Bold"/>
            </a:endParaRPr>
          </a:p>
          <a:p>
            <a:pPr lvl="5" marL="1828800">
              <a:spcBef>
                <a:spcPts val="499"/>
              </a:spcBef>
              <a:buClr>
                <a:srgbClr val="33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 Rounded MT Bold"/>
              </a:rPr>
              <a:t>Sixth Outline Level</a:t>
            </a:r>
            <a:endParaRPr b="0" lang="en-US" sz="2000" spc="-1" strike="noStrike">
              <a:solidFill>
                <a:srgbClr val="330000"/>
              </a:solidFill>
              <a:latin typeface="Arial Rounded MT Bold"/>
            </a:endParaRPr>
          </a:p>
          <a:p>
            <a:pPr lvl="6" marL="1828800">
              <a:spcBef>
                <a:spcPts val="499"/>
              </a:spcBef>
              <a:buClr>
                <a:srgbClr val="33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 Rounded MT Bold"/>
              </a:rPr>
              <a:t>Seventh Outline Level</a:t>
            </a:r>
            <a:endParaRPr b="0" lang="en-US" sz="2000" spc="-1" strike="noStrike">
              <a:solidFill>
                <a:srgbClr val="330000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ct"/><Relationship Id="rId3" Type="http://schemas.openxmlformats.org/officeDocument/2006/relationships/image" Target="../media/image7.pct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9999"/>
                </a:solidFill>
                <a:latin typeface="Marker Felt"/>
              </a:rPr>
              <a:t>Mass vs. Weight</a:t>
            </a:r>
            <a:endParaRPr b="0" lang="en-US" sz="5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What’s the difference anyway?!?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Marker Felt"/>
              </a:rPr>
              <a:t>So what does all this have to do with weight??</a:t>
            </a: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Weight is the force on an object caused by gravity trying to pull the object down. 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A scale measures how much gravity your mass has. 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A person with more mass has more gravity, and therefore weighs more.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Marker Felt"/>
              </a:rPr>
              <a:t>Walking on the Moon…</a:t>
            </a: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They seem to float between each step. 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Remember that the moon has about 1/6 the amount of gravity that the Earth has?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Marker Felt"/>
              </a:rPr>
              <a:t>Walking on the Moon…</a:t>
            </a: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Well, if you went to the moon, you'd weigh less than you do here on Earth. 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Does this mean you would suddenly be thinner on the moon? 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Absolutely not…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Marker Felt"/>
              </a:rPr>
              <a:t>Walking on the Moon…</a:t>
            </a: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Your </a:t>
            </a:r>
            <a:r>
              <a:rPr b="0" lang="en-US" sz="3200" spc="-1" strike="noStrike" u="sng">
                <a:solidFill>
                  <a:srgbClr val="330000"/>
                </a:solidFill>
                <a:uFillTx/>
                <a:latin typeface="Arial Rounded MT Bold"/>
              </a:rPr>
              <a:t>mass</a:t>
            </a: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 would be the </a:t>
            </a:r>
            <a:r>
              <a:rPr b="0" lang="en-US" sz="3200" spc="-1" strike="noStrike" u="sng">
                <a:solidFill>
                  <a:srgbClr val="330000"/>
                </a:solidFill>
                <a:uFillTx/>
                <a:latin typeface="Arial Rounded MT Bold"/>
              </a:rPr>
              <a:t>same</a:t>
            </a: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 -- there is no less of you on the moon.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But your </a:t>
            </a:r>
            <a:r>
              <a:rPr b="0" lang="en-US" sz="3200" spc="-1" strike="noStrike" u="sng">
                <a:solidFill>
                  <a:srgbClr val="330000"/>
                </a:solidFill>
                <a:uFillTx/>
                <a:latin typeface="Arial Rounded MT Bold"/>
              </a:rPr>
              <a:t>weight</a:t>
            </a: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 is </a:t>
            </a:r>
            <a:r>
              <a:rPr b="0" lang="en-US" sz="3200" spc="-1" strike="noStrike" u="sng">
                <a:solidFill>
                  <a:srgbClr val="330000"/>
                </a:solidFill>
                <a:uFillTx/>
                <a:latin typeface="Arial Rounded MT Bold"/>
              </a:rPr>
              <a:t>different</a:t>
            </a: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 because the moon's gravity is different.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Marker Felt"/>
              </a:rPr>
              <a:t>What is Weight?</a:t>
            </a: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Weight is a measurement of the force on a object caused by </a:t>
            </a:r>
            <a:r>
              <a:rPr b="0" lang="en-US" sz="3200" spc="-1" strike="noStrike" u="sng">
                <a:solidFill>
                  <a:srgbClr val="330000"/>
                </a:solidFill>
                <a:uFillTx/>
                <a:latin typeface="Arial Rounded MT Bold"/>
              </a:rPr>
              <a:t>gravity</a:t>
            </a: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 trying to pull the object down.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352680" y="3873600"/>
            <a:ext cx="221004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Marker Felt"/>
              </a:rPr>
              <a:t>What is Weight?</a:t>
            </a: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Mars has less gravity than Earth. 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Therefore if you were on Mars you'd weigh less because the force of gravity wouldn't be as strong as it is here on Earth.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Marker Felt"/>
              </a:rPr>
              <a:t>Does this mean you’d suddenly be thinner on Mars?!?</a:t>
            </a: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No. 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Rounded MT Bold"/>
              </a:rPr>
              <a:t>You would have the same amount of mass as you do on Earth. </a:t>
            </a:r>
            <a:endParaRPr b="0" lang="en-US" sz="28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124080" y="3581280"/>
            <a:ext cx="2819520" cy="21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Marker Felt"/>
              </a:rPr>
              <a:t>Mass</a:t>
            </a: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0000"/>
                </a:solidFill>
                <a:latin typeface="Arial Rounded MT Bold"/>
              </a:rPr>
              <a:t>	</a:t>
            </a:r>
            <a:r>
              <a:rPr b="0" lang="en-US" sz="7200" spc="-1" strike="noStrike">
                <a:solidFill>
                  <a:srgbClr val="330000"/>
                </a:solidFill>
                <a:latin typeface="Arial Rounded MT Bold"/>
              </a:rPr>
              <a:t>Mass is the amount of </a:t>
            </a:r>
            <a:r>
              <a:rPr b="0" lang="en-US" sz="7200" spc="-1" strike="noStrike" u="sng">
                <a:solidFill>
                  <a:srgbClr val="330000"/>
                </a:solidFill>
                <a:uFillTx/>
                <a:latin typeface="Arial Rounded MT Bold"/>
              </a:rPr>
              <a:t>stuff</a:t>
            </a:r>
            <a:r>
              <a:rPr b="0" lang="en-US" sz="7200" spc="-1" strike="noStrike">
                <a:solidFill>
                  <a:srgbClr val="330000"/>
                </a:solidFill>
                <a:latin typeface="Arial Rounded MT Bold"/>
              </a:rPr>
              <a:t> </a:t>
            </a:r>
            <a:r>
              <a:rPr b="0" lang="en-US" sz="7200" spc="-1" strike="noStrike" u="sng">
                <a:solidFill>
                  <a:srgbClr val="330000"/>
                </a:solidFill>
                <a:uFillTx/>
                <a:latin typeface="Arial Rounded MT Bold"/>
              </a:rPr>
              <a:t>inside</a:t>
            </a:r>
            <a:r>
              <a:rPr b="0" lang="en-US" sz="7200" spc="-1" strike="noStrike">
                <a:solidFill>
                  <a:srgbClr val="330000"/>
                </a:solidFill>
                <a:latin typeface="Arial Rounded MT Bold"/>
              </a:rPr>
              <a:t> an object.</a:t>
            </a:r>
            <a:endParaRPr b="0" lang="en-US" sz="7200" spc="-1" strike="noStrike">
              <a:solidFill>
                <a:srgbClr val="33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Marker Felt"/>
              </a:rPr>
              <a:t>On Mars….</a:t>
            </a: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your </a:t>
            </a:r>
            <a:r>
              <a:rPr b="0" lang="en-US" sz="3200" spc="-1" strike="noStrike" u="sng">
                <a:solidFill>
                  <a:srgbClr val="330000"/>
                </a:solidFill>
                <a:uFillTx/>
                <a:latin typeface="Arial Rounded MT Bold"/>
              </a:rPr>
              <a:t>mass</a:t>
            </a: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 would be the same as it is here on Earth. 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But you'd </a:t>
            </a:r>
            <a:r>
              <a:rPr b="0" lang="en-US" sz="3200" spc="-1" strike="noStrike" u="sng">
                <a:solidFill>
                  <a:srgbClr val="330000"/>
                </a:solidFill>
                <a:uFillTx/>
                <a:latin typeface="Arial Rounded MT Bold"/>
              </a:rPr>
              <a:t>weigh</a:t>
            </a: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 </a:t>
            </a:r>
            <a:r>
              <a:rPr b="0" lang="en-US" sz="3200" spc="-1" strike="noStrike" u="sng">
                <a:solidFill>
                  <a:srgbClr val="330000"/>
                </a:solidFill>
                <a:uFillTx/>
                <a:latin typeface="Arial Rounded MT Bold"/>
              </a:rPr>
              <a:t>less</a:t>
            </a: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 because Mars has less </a:t>
            </a:r>
            <a:r>
              <a:rPr b="0" lang="en-US" sz="3200" spc="-1" strike="noStrike" u="sng">
                <a:solidFill>
                  <a:srgbClr val="330000"/>
                </a:solidFill>
                <a:uFillTx/>
                <a:latin typeface="Arial Rounded MT Bold"/>
              </a:rPr>
              <a:t>gravity</a:t>
            </a: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 than Earth.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Marker Felt"/>
              </a:rPr>
              <a:t>Gravity</a:t>
            </a: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Gravity is an </a:t>
            </a:r>
            <a:r>
              <a:rPr b="0" lang="en-US" sz="3200" spc="-1" strike="noStrike" u="sng">
                <a:solidFill>
                  <a:srgbClr val="330000"/>
                </a:solidFill>
                <a:uFillTx/>
                <a:latin typeface="Arial Rounded MT Bold"/>
              </a:rPr>
              <a:t>attractive</a:t>
            </a: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 force. 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This doesn't mean it's pretty or cute….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09480" y="3421080"/>
            <a:ext cx="3505320" cy="25588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495680" y="3505320"/>
            <a:ext cx="3886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Marker Felt"/>
              </a:rPr>
              <a:t>Gravity</a:t>
            </a: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Rounded MT Bold"/>
              </a:rPr>
              <a:t>What "attractive" means is that an object's gravity pulls other objects toward it. </a:t>
            </a:r>
            <a:endParaRPr b="0" lang="en-US" sz="28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Rounded MT Bold"/>
              </a:rPr>
              <a:t>The Earth's gravity naturally pulls us, and everything else, toward the center of the planet, which keeps us from drifting off into space.</a:t>
            </a:r>
            <a:endParaRPr b="0" lang="en-US" sz="28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Marker Felt"/>
              </a:rPr>
              <a:t>Mass</a:t>
            </a: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Rounded MT Bold"/>
              </a:rPr>
              <a:t>Mass is the amount of stuff contained inside an object. </a:t>
            </a:r>
            <a:endParaRPr b="0" lang="en-US" sz="28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Rounded MT Bold"/>
              </a:rPr>
              <a:t>It takes a lot of mass to make a lot of gravity. </a:t>
            </a:r>
            <a:endParaRPr b="0" lang="en-US" sz="28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Rounded MT Bold"/>
              </a:rPr>
              <a:t>The Earth has a lot of mass, so it has a lot of gravity. </a:t>
            </a:r>
            <a:endParaRPr b="0" lang="en-US" sz="28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Rounded MT Bold"/>
              </a:rPr>
              <a:t>The moon's gravity is about 1/6 the amount of the Earth's because the moon has less mass than the Earth.</a:t>
            </a:r>
            <a:endParaRPr b="0" lang="en-US" sz="28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8:21:04Z</dcterms:created>
  <dc:creator>hms</dc:creator>
  <dc:description/>
  <dc:language>en-US</dc:language>
  <cp:lastModifiedBy>asd</cp:lastModifiedBy>
  <dcterms:modified xsi:type="dcterms:W3CDTF">2011-02-09T21:12:16Z</dcterms:modified>
  <cp:revision>2</cp:revision>
  <dc:subject/>
  <dc:title>Mass vs. Weight</dc:title>
</cp:coreProperties>
</file>