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C71-B8F7-464B-8CC2-51AB2228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B77-466E-42BF-88EA-77337BEC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B5B-EA12-4B34-9968-44DBC0EE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B0D-CE62-487B-B3C0-C3335B92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F8F9-85BC-4E88-8398-AFD4E047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A12A-0B9D-467A-ADCB-CA9163A8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C142-4E75-4E1E-8033-9CFD7738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0926-B25B-4F27-95F3-F1664298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94AC-57A0-4640-A469-59A52F42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00BF-3AF6-4B7A-8008-03475FFF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72A9-32C8-468C-B727-730AE673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AFD-C9FB-4C90-9DD6-71F2F485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1214-A910-4B53-849F-B68A45A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68D9-8C23-4916-A12A-83E6A208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0CFA-551D-4616-9DE2-7DFDB09D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2F45-B197-4A8A-8936-5D8F5D42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778D-97F9-42A7-88CD-569C191B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D5D-996B-496D-8D1A-DD5E54DA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EB4-CEDA-461F-90B3-977124F4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BAA-39EB-4626-BE98-5D2A4CF8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D81-B02D-49E3-8F23-FD63DE8D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58F-5C66-446C-B498-DF802D8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860-5AE4-436E-99C0-C4AAE252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132-869B-4959-872B-42A0F471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C931-36C5-43C0-9943-60FDEE8EAEAE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D462-106E-493B-B225-593F69821DC2}" type="slidenum">
              <a:rPr b="0" lang="en-US" sz="1400" spc="-1" strike="noStrike">
                <a:solidFill>
                  <a:srgbClr val="33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99"/>
                </a:solidFill>
                <a:latin typeface="Marker Felt"/>
              </a:rPr>
              <a:t>Mass vs. Weight</a:t>
            </a:r>
            <a:endParaRPr b="0" lang="en-US" sz="5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hat’s the difference anyway?!?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So what does all this have to do with weight?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ight is the force on an object caused by gravity trying to pull the object down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 scale measures how much gravity your mass has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 person with more mass has more gravity, and therefore weighs more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ey seem to float between each step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Remember that the moon has about 1/6 the amount of gravity that the Earth has?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ll, if you went to the moon, you'd weigh less than you do here o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Does this mean you would suddenly be thinner on the moon?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Absolutely not…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alking on the Moon…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ma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would be the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same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-- there is no less of you on the moon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But 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weight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is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different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because the moon's gravity is different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hat is Weight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Weight is a measurement of the force on a object caused by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gravity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trying to pull the object down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352680" y="3873600"/>
            <a:ext cx="22100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What is Weight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Mars has less gravity tha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erefore if you were on Mars you'd weigh less because the force of gravity wouldn't be as strong as it is here on Earth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Does this mean you’d suddenly be thinner on Mars?!?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No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You would have the same amount of mass as you do on Earth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8195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Mass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	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Mass is the amount of </a:t>
            </a:r>
            <a:r>
              <a:rPr b="0" lang="en-US" sz="7200" spc="-1" strike="noStrike" u="sng">
                <a:solidFill>
                  <a:srgbClr val="330000"/>
                </a:solidFill>
                <a:uFillTx/>
                <a:latin typeface="Arial Rounded MT Bold"/>
              </a:rPr>
              <a:t>stuff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 </a:t>
            </a:r>
            <a:r>
              <a:rPr b="0" lang="en-US" sz="7200" spc="-1" strike="noStrike" u="sng">
                <a:solidFill>
                  <a:srgbClr val="330000"/>
                </a:solidFill>
                <a:uFillTx/>
                <a:latin typeface="Arial Rounded MT Bold"/>
              </a:rPr>
              <a:t>inside</a:t>
            </a:r>
            <a:r>
              <a:rPr b="0" lang="en-US" sz="7200" spc="-1" strike="noStrike">
                <a:solidFill>
                  <a:srgbClr val="330000"/>
                </a:solidFill>
                <a:latin typeface="Arial Rounded MT Bold"/>
              </a:rPr>
              <a:t> an object.</a:t>
            </a:r>
            <a:endParaRPr b="0" lang="en-US" sz="7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On Mars….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ma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would be the same as it is here on Earth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But you'd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weigh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less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because Mars has less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gravity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than Earth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Gravity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Gravity is an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 Rounded MT Bold"/>
              </a:rPr>
              <a:t>attractive</a:t>
            </a: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 force. 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 Rounded MT Bold"/>
              </a:rPr>
              <a:t>This doesn't mean it's pretty or cute….</a:t>
            </a:r>
            <a:endParaRPr b="0" lang="en-US" sz="3200" spc="-1" strike="noStrike">
              <a:solidFill>
                <a:srgbClr val="330000"/>
              </a:solidFill>
              <a:latin typeface="Arial Rounded MT Bol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3421080"/>
            <a:ext cx="3505320" cy="2558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Gravity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What "attractive" means is that an object's gravity pulls other objects toward it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Earth's gravity naturally pulls us, and everything else, toward the center of the planet, which keeps us from drifting off into space.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Marker Felt"/>
              </a:rPr>
              <a:t>Mass</a:t>
            </a:r>
            <a:endParaRPr b="0" lang="en-US" sz="4400" spc="-1" strike="noStrike">
              <a:solidFill>
                <a:srgbClr val="009999"/>
              </a:solidFill>
              <a:latin typeface="Marker Fel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Mass is the amount of stuff contained inside an object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It takes a lot of mass to make a lot of gravity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Earth has a lot of mass, so it has a lot of gravity. 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Rounded MT Bold"/>
              </a:rPr>
              <a:t>The moon's gravity is about 1/6 the amount of the Earth's because the moon has less mass than the Earth.</a:t>
            </a:r>
            <a:endParaRPr b="0" lang="en-US" sz="28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8:21:04Z</dcterms:created>
  <dc:creator>hms</dc:creator>
  <dc:description/>
  <dc:language>en-US</dc:language>
  <cp:lastModifiedBy>asd</cp:lastModifiedBy>
  <dcterms:modified xsi:type="dcterms:W3CDTF">2011-02-09T21:12:16Z</dcterms:modified>
  <cp:revision>2</cp:revision>
  <dc:subject/>
  <dc:title>Mass vs. Weight</dc:title>
</cp:coreProperties>
</file>