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jeop.wav" ContentType="audio/x-wav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820-EF35-4258-8D20-8C22BC13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8B2-5C03-4AFA-AD75-B5156AD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1F1-B023-40CB-A4BB-0B79F100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ADC-AF24-4506-8625-51479DE7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335F-EF43-4D97-99D9-2E13FD2C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1CAD-BF78-4A14-B445-80E7D81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3849-0B19-4139-AC65-C3224428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6DFF-D20E-40E8-A7F9-12EDF658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BAFC-91F0-487E-8807-E7FA9E7D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E28E-9016-4D13-87B3-2151EE41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0E93-79D2-48BB-8CFD-81049CC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6FC-20D8-46A0-B1A2-BAA1DF0B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C409-49CA-4D37-BBA9-6888CEB7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BC2-6FBE-4D00-BA1D-E6B904E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4383-33F6-4228-97E3-B591AF9F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FAD8-A01E-4253-B6E4-43B37354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26DB-028A-460C-9877-0CF899A0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FC8-0EA0-40C3-9D2E-82EDADF8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BC7-C049-4AFB-BD3B-80155C7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EDD-A397-4A68-9C34-F36D43F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FFF-7F6F-4710-815B-512D0C00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1DC-0EC6-47DE-A700-97920AD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CB8-00EB-4C18-9ECB-1B85596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CD3-0EEC-41E4-A177-5F5051B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BA6-4946-4313-B8B4-B9479A14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96B-32F5-4E17-BAC1-35BF1EF7D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22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9.xml"/><Relationship Id="rId17" Type="http://schemas.openxmlformats.org/officeDocument/2006/relationships/slide" Target="slide14.xml"/><Relationship Id="rId18" Type="http://schemas.openxmlformats.org/officeDocument/2006/relationships/slide" Target="slide19.xml"/><Relationship Id="rId19" Type="http://schemas.openxmlformats.org/officeDocument/2006/relationships/slide" Target="slide24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audio" Target="../media/jeop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jeo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Marker Felt"/>
              </a:rPr>
              <a:t>Jeopardy!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907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vement of 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nd 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62520" y="1600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6400" y="14479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re 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eps in plate bound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 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14400" y="38098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n underwater volcano or volcanic isl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3320" y="259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5640" y="4495680"/>
            <a:ext cx="45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untain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8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different types of plate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2120" y="3581280"/>
            <a:ext cx="73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oceanic and continenta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3 types of plate bound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1080" y="365760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divergent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vergent, and transform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f False;  when 2 oceanic plates diverge, a volcano will form on the sea floo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160" y="373392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 a convergent boundary of 2 oceanic plates, how can we predict which plate will subduct underneath the oth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27040" y="4038480"/>
            <a:ext cx="804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older and denser pl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ere not an example of a continental plate subducting?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7280" y="3657600"/>
            <a:ext cx="82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continental plates 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ss dense than 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divergent plate boundary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829240" y="34290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par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transform bounda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747800" y="365760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iding past o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rock of a plate that has subducte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30481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elts into magm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52480" y="4267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4240" y="263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38280" y="2438280"/>
          <a:ext cx="3429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3429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magma is formed from a subducting plate, where does it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2120" y="3733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upward through the non-subducted pl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f an oceanic plate is subducting on one side of the plate, what is occurring on the other side of that pl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1447920" y="5562720"/>
            <a:ext cx="2133360" cy="1066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71600" y="3505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the plates move during a rift valley formati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065960" y="3809880"/>
            <a:ext cx="653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valley or crack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plates move during seafloor spread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52480" y="3657600"/>
            <a:ext cx="61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plits, expos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ep that occurs after two continental plates converge.  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4038480"/>
            <a:ext cx="524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rumble up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tep that occurs after an oceanic plate converges with any type of plat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81080" y="411480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st likely to occur to form a volcano.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5720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5800" y="1600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04920" y="25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1143000" y="380988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685800" y="152280"/>
            <a:ext cx="426708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Knowing what we now know about plate boundaries, what type of plate boundary are we sitting on here in Washington state and what are the plates involved in this boundary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2960" y="5105520"/>
            <a:ext cx="771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convergent, oceanic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tinental boundar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131560" y="441972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2666880"/>
          <a:ext cx="419112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4191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42670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1295280" y="53341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52480" y="4267080"/>
            <a:ext cx="51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5592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190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95280" y="4114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>
            <a:hlinkClick r:id="" action="ppaction://hlinkshowjump?jump=firstslide"/>
          </p:cNvPr>
          <p:cNvSpPr/>
          <p:nvPr/>
        </p:nvSpPr>
        <p:spPr>
          <a:xfrm>
            <a:off x="1295280" y="55627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9240" y="27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19320" y="42670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volca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895480"/>
          <a:ext cx="37335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95480"/>
                    <a:ext cx="3733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land formation made from plates in this pictur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600560" y="411480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rift valle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2514600"/>
          <a:ext cx="38862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388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320" y="434340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d</cp:lastModifiedBy>
  <dcterms:modified xsi:type="dcterms:W3CDTF">2010-11-08T17:30:10Z</dcterms:modified>
  <cp:revision>65</cp:revision>
  <dc:subject/>
  <dc:title>Jeopardy</dc:title>
</cp:coreProperties>
</file>