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jeop.wav" ContentType="audio/x-wav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6F7-C827-40EF-94D0-3C4831E7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749-532D-4031-A9B9-C2D7A357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45E-4AD3-44B1-A302-5C1A2176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E82-B623-4083-8491-74EFF120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50E1-11AA-4596-A970-4486AED1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2321-17A4-4526-BF4A-3313061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862-1A58-4C82-9666-479E78A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DDCF-80E3-4569-9D27-3621ECC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BA96-A743-4112-A88C-40A7A4D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460C-83E3-4644-9094-AB8DE8A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BA4D-ACC9-49D0-B31A-CC653DD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7BF-58C5-494D-AA2E-B0F1486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2A27-6B71-4F00-89BE-7637E667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A32A-4BD6-4CE9-B954-FB84F19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08EE-28FC-48D9-8251-543EB51E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94E1-71EA-472D-BEFE-D6591D75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CC67-D30B-45D4-82A4-BEB359E3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A1D-8253-42C4-8B31-DA712851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210-4143-48D1-B021-99A75280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9B6-8E9A-4C34-BEE4-71E9E7FF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7D1-4B4F-4EE9-9AF8-C223B1D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427-3297-4124-A4CD-7037EE47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FCD-1E30-4180-8063-7915729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A81-F1D4-4F4F-95FE-DF70E14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88C-E42A-454E-B0F8-0EFAA53D6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8CA2-07DF-417C-BCE8-A34297F0D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22.xml"/><Relationship Id="rId12" Type="http://schemas.openxmlformats.org/officeDocument/2006/relationships/slide" Target="slide8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9.xml"/><Relationship Id="rId17" Type="http://schemas.openxmlformats.org/officeDocument/2006/relationships/slide" Target="slide14.xml"/><Relationship Id="rId18" Type="http://schemas.openxmlformats.org/officeDocument/2006/relationships/slide" Target="slide19.xml"/><Relationship Id="rId19" Type="http://schemas.openxmlformats.org/officeDocument/2006/relationships/slide" Target="slide24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audio" Target="../media/jeop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jeo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Marker Felt"/>
              </a:rPr>
              <a:t>Jeopardy!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907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ovement of 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nd 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62520" y="1600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86400" y="14479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re 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02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eps in plate bound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 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14400" y="38098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n underwater volcano or volcanic islan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3320" y="259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5640" y="4495680"/>
            <a:ext cx="454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ountain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88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different types of plate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2120" y="3581280"/>
            <a:ext cx="73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oceanic and continenta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3 types of plate bound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1080" y="365760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divergent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vergent, and transform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f False;  when 2 oceanic plates diverge, a volcano will form on the sea floo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819160" y="3733920"/>
            <a:ext cx="335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al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 a convergent boundary of 2 oceanic plates, how can we predict which plate will subduct underneath the oth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27040" y="4038480"/>
            <a:ext cx="804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older and denser pl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there not an example of a continental plate subducting?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7280" y="3657600"/>
            <a:ext cx="82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continental plates 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ss dense than 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divergent plate boundary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829240" y="34290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par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transform bounda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747800" y="365760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iding past o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o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rock of a plate that has subducte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66680" y="30481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melts into magm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52480" y="4267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4240" y="263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38280" y="2438280"/>
          <a:ext cx="3429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3429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magma is formed from a subducting plate, where does it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2120" y="3733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upward through the non-subducted pl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f an oceanic plate is subducting on one side of the plate, what is occurring on the other side of that pla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1447920" y="5562720"/>
            <a:ext cx="2133360" cy="1066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71600" y="3505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the plates move during a rift valley formati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065960" y="3809880"/>
            <a:ext cx="653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valley or crack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plates move during seafloor spreading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52480" y="3657600"/>
            <a:ext cx="61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plits, expos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ep that occurs after two continental plates converge.  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81080" y="4038480"/>
            <a:ext cx="524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rumble up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step that occurs after an oceanic plate converges with any type of plat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81080" y="411480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ost likely to occur to form a volcano.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5720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5800" y="1600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04920" y="258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1143000" y="380988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685800" y="152280"/>
            <a:ext cx="426708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Knowing what we now know about plate boundaries, what type of plate boundary are we sitting on here in Washington state and what are the plates involved in this boundary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12960" y="5105520"/>
            <a:ext cx="771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convergent, oceanic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tinental boundar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131560" y="441972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2666880"/>
          <a:ext cx="419112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4191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42670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1295280" y="53341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752480" y="4267080"/>
            <a:ext cx="51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5592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190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95280" y="4114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>
            <a:hlinkClick r:id="" action="ppaction://hlinkshowjump?jump=firstslide"/>
          </p:cNvPr>
          <p:cNvSpPr/>
          <p:nvPr/>
        </p:nvSpPr>
        <p:spPr>
          <a:xfrm>
            <a:off x="1295280" y="55627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29240" y="27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62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19320" y="42670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volcan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895480"/>
          <a:ext cx="373356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95480"/>
                    <a:ext cx="3733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land formation made from plates in this pictur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600560" y="411480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rift valle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2514600"/>
          <a:ext cx="38862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3886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320" y="434340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sd</cp:lastModifiedBy>
  <dcterms:modified xsi:type="dcterms:W3CDTF">2010-11-08T17:30:10Z</dcterms:modified>
  <cp:revision>65</cp:revision>
  <dc:subject/>
  <dc:title>Jeopardy</dc:title>
</cp:coreProperties>
</file>