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jeop.wav" ContentType="audio/x-wav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D53-912A-423C-8D2B-732526CE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EA7-6AF8-4D0E-A162-D7AA466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9A9-F1B6-4E1F-9800-ED32C12B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7CE-2839-4D88-ADFC-51A0A52B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D30-0DF1-46BC-A3AC-65B3E76A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454-F641-458F-98FF-4A91C94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7640-1BBC-4C8A-B806-38357CD4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7BD-B8D8-48DE-A7D8-EE44AD39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B6B-6788-43A6-8610-0AE6CAA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B03D-010E-40A6-9A0B-79A7F20E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7FB5-0D42-461A-AAFC-235A229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1FE-AC6F-44E3-B143-DF73F05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D98-238E-498D-8E9F-DD7A965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894B-F8B7-4513-82D4-A3B0BCE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110E-196C-412F-BF38-BB2BCAB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85E-F9E0-4FF0-8EC6-0F3F393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F8D2-123B-46EB-911E-57BDF392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B23-9E58-484F-8211-3F75639F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2CB-4AEB-4F03-8E88-C3442F8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28D-15C9-4E48-8C24-7C54E5C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A40-5641-4BA9-A763-2197A548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CCC-FD1E-4941-9D2B-8E643F2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F04-7281-4401-B321-84BE98B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DC9-45C0-4816-AA26-F70DC0D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C95-D966-4DC0-B5A8-D54C7A91C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81B-8267-442D-AAAD-94ABA663F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22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9.xml"/><Relationship Id="rId17" Type="http://schemas.openxmlformats.org/officeDocument/2006/relationships/slide" Target="slide14.xml"/><Relationship Id="rId18" Type="http://schemas.openxmlformats.org/officeDocument/2006/relationships/slide" Target="slide19.xml"/><Relationship Id="rId19" Type="http://schemas.openxmlformats.org/officeDocument/2006/relationships/slide" Target="slide24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audio" Target="../media/jeop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jeo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Marker Felt"/>
              </a:rPr>
              <a:t>Jeopardy!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907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vement of 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nd 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62520" y="1600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6400" y="14479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re 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eps in plate bound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 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14400" y="38098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n underwater volcano or volcanic isl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3320" y="259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5640" y="4495680"/>
            <a:ext cx="45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untain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8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different types of plate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2120" y="3581280"/>
            <a:ext cx="73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oceanic and continenta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3 types of plate bound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1080" y="365760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divergent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vergent, and transform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f False;  when 2 oceanic plates diverge, a volcano will form on the sea floo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160" y="373392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 a convergent boundary of 2 oceanic plates, how can we predict which plate will subduct underneath the oth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27040" y="4038480"/>
            <a:ext cx="804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older and denser pl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ere not an example of a continental plate subducting?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7280" y="3657600"/>
            <a:ext cx="82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continental plates 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ss dense than 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divergent plate boundary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829240" y="34290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par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transform bounda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747800" y="365760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iding past o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rock of a plate that has subducte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30481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elts into magm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52480" y="4267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4240" y="263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38280" y="2438280"/>
          <a:ext cx="3429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3429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magma is formed from a subducting plate, where does it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2120" y="3733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upward through the non-subducted pl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f an oceanic plate is subducting on one side of the plate, what is occurring on the other side of that pl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1447920" y="5562720"/>
            <a:ext cx="2133360" cy="1066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71600" y="3505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the plates move during a rift valley formati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065960" y="3809880"/>
            <a:ext cx="653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valley or crack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plates move during seafloor spread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52480" y="3657600"/>
            <a:ext cx="61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plits, expos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ep that occurs after two continental plates converge.  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4038480"/>
            <a:ext cx="524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rumble up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tep that occurs after an oceanic plate converges with any type of plat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81080" y="411480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st likely to occur to form a volcano.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5720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5800" y="1600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04920" y="25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1143000" y="380988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685800" y="152280"/>
            <a:ext cx="426708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Knowing what we now know about plate boundaries, what type of plate boundary are we sitting on here in Washington state and what are the plates involved in this boundary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2960" y="5105520"/>
            <a:ext cx="771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convergent, oceanic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tinental boundar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131560" y="441972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2666880"/>
          <a:ext cx="419112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4191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42670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1295280" y="53341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52480" y="4267080"/>
            <a:ext cx="51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5592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190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95280" y="4114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>
            <a:hlinkClick r:id="" action="ppaction://hlinkshowjump?jump=firstslide"/>
          </p:cNvPr>
          <p:cNvSpPr/>
          <p:nvPr/>
        </p:nvSpPr>
        <p:spPr>
          <a:xfrm>
            <a:off x="1295280" y="55627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9240" y="27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19320" y="42670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volca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895480"/>
          <a:ext cx="37335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95480"/>
                    <a:ext cx="3733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land formation made from plates in this pictur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600560" y="411480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rift valle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2514600"/>
          <a:ext cx="38862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388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320" y="434340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d</cp:lastModifiedBy>
  <dcterms:modified xsi:type="dcterms:W3CDTF">2010-11-08T17:30:10Z</dcterms:modified>
  <cp:revision>65</cp:revision>
  <dc:subject/>
  <dc:title>Jeopardy</dc:title>
</cp:coreProperties>
</file>