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4.png" ContentType="image/png"/>
  <Override PartName="/ppt/media/jeop.wav" ContentType="audio/x-wav"/>
  <Override PartName="/ppt/media/image2.pct" ContentType="image/x-pict"/>
  <Override PartName="/ppt/media/image5.png" ContentType="image/png"/>
  <Override PartName="/ppt/media/image3.pct" ContentType="image/x-pict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BFC-264B-4554-80F4-C795EC4E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744-1BDA-4BE1-82CB-494E5D96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744-7520-4A18-890B-296A50F9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90C-D5DA-46A6-8380-8D57D134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FA3F-F8CD-4A7F-80D0-35269400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2302-74BB-4BA6-8143-5D6BB1AF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CE73-91E3-4CB8-AA03-7D28A06F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66FD-836D-4289-B3EE-98D8AE4D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0746-A83E-4E38-879C-8B9EAF9F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45D1-00D0-4CEF-BAEB-EE5C4A33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E286-5878-4FE4-BEE3-68B3002C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9F8-0E22-4DD5-A662-AA4C739C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9CCB-20AD-4A14-B180-CFA09DD3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228D-41E6-4ED8-BA3C-E86EA10E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8CC9-6720-4872-AAD1-60D80C2F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739E-12F8-44B7-B425-097C48BC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A100-47B5-4FC0-994E-2A8C6D59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353-51E1-49A0-8A31-F4295CE0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CE0-F5CC-4811-9DD8-EC8FFEEE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DEE-EFF6-4DDF-B7AA-7F44F52A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809-8EEE-45B6-B7B6-7F4CFB82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F25-0B0B-4DD2-91D8-30E62CBA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522-CE74-4B71-AC9E-B966955C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D3E-1BD4-41CF-B172-4F1DA78A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0BAD-150D-4AB6-82BE-044CF5DDA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CF18-ACB0-4F49-AD25-9CC890216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17.xml"/><Relationship Id="rId10" Type="http://schemas.openxmlformats.org/officeDocument/2006/relationships/slide" Target="slide12.xml"/><Relationship Id="rId11" Type="http://schemas.openxmlformats.org/officeDocument/2006/relationships/slide" Target="slide22.xml"/><Relationship Id="rId12" Type="http://schemas.openxmlformats.org/officeDocument/2006/relationships/slide" Target="slide8.xml"/><Relationship Id="rId13" Type="http://schemas.openxmlformats.org/officeDocument/2006/relationships/slide" Target="slide13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slide" Target="slide9.xml"/><Relationship Id="rId17" Type="http://schemas.openxmlformats.org/officeDocument/2006/relationships/slide" Target="slide14.xml"/><Relationship Id="rId18" Type="http://schemas.openxmlformats.org/officeDocument/2006/relationships/slide" Target="slide19.xml"/><Relationship Id="rId19" Type="http://schemas.openxmlformats.org/officeDocument/2006/relationships/slide" Target="slide24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audio" Target="../media/jeop.wav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jeo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Marker Felt"/>
              </a:rPr>
              <a:t>Jeopardy!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23880"/>
          <a:ext cx="777528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77528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90720" y="1523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Movement of 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523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and 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962520" y="1600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General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86400" y="144792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More General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10280" y="16002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teps in plate bounda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 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land formation made from the plates in this picture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14400" y="38098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n underwater volcano or volcanic island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43320" y="259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4114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land formation made from the plates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5640" y="4495680"/>
            <a:ext cx="454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ountain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886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me the different types of plate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62120" y="3581280"/>
            <a:ext cx="739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are oceanic and continental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ame the 3 types of plate bounda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1080" y="3657600"/>
            <a:ext cx="70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are divergent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vergent, and transform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e of False;  when 2 oceanic plates diverge, a volcano will form on the sea floor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819160" y="3733920"/>
            <a:ext cx="335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als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7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t a convergent boundary of 2 oceanic plates, how can we predict which plate will subduct underneath the other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27040" y="4038480"/>
            <a:ext cx="804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older and denser pl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is there not an example of a continental plate subducting?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57280" y="3657600"/>
            <a:ext cx="829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the continental plates a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ss dense than the mantl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o plates move in a divergent plate boundary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829240" y="3429000"/>
            <a:ext cx="37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par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o plates move in a transform boundar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747800" y="3657600"/>
            <a:ext cx="57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iding past on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oth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 to the rock of a plate that has subducted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066680" y="30481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melts into magma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752480" y="42670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converg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7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94240" y="263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438280" y="2438280"/>
          <a:ext cx="342900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438280"/>
                    <a:ext cx="3429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ce magma is formed from a subducting plate, where does it g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62120" y="3733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upward through the non-subducted plat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</a:t>
            </a:r>
            <a:br>
              <a:rPr sz="44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f an oceanic plate is subducting on one side of the plate, what is occurring on the other side of that plate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AutoShape 5">
            <a:hlinkClick r:id="" action="ppaction://hlinkshowjump?jump=firstslide"/>
          </p:cNvPr>
          <p:cNvSpPr/>
          <p:nvPr/>
        </p:nvSpPr>
        <p:spPr>
          <a:xfrm>
            <a:off x="1447920" y="5562720"/>
            <a:ext cx="2133360" cy="10666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371600" y="35053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eafloor spread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 to the crust when the plates move during a rift valley formation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065960" y="3809880"/>
            <a:ext cx="653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 valley or crack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 to the crust when plates move during seafloor spreading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52480" y="3657600"/>
            <a:ext cx="616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plits, exposin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mantl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step that occurs after two continental plates converge.  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981080" y="4038480"/>
            <a:ext cx="524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crumble up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step that occurs after an oceanic plate converges with any type of plate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981080" y="4114800"/>
            <a:ext cx="51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ubductio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ost likely to occur to form a volcano. 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457200" y="3429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ubduction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85800" y="1600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304920" y="258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9"/>
          <p:cNvSpPr/>
          <p:nvPr/>
        </p:nvSpPr>
        <p:spPr>
          <a:xfrm>
            <a:off x="1143000" y="3809880"/>
            <a:ext cx="670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WordArt 11"/>
          <p:cNvSpPr txBox="1"/>
          <p:nvPr/>
        </p:nvSpPr>
        <p:spPr>
          <a:xfrm>
            <a:off x="685800" y="152280"/>
            <a:ext cx="4267080" cy="140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Knowing what we now know about plate boundaries, what type of plate boundary are we sitting on here in Washington state and what are the plates involved in this boundary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912960" y="5105520"/>
            <a:ext cx="771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 convergent, oceanic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tinental boundar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131560" y="4419720"/>
            <a:ext cx="44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diverg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057400" y="2666880"/>
          <a:ext cx="4191120" cy="121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666880"/>
                    <a:ext cx="41911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057400" y="4267080"/>
            <a:ext cx="47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divergen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4114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AutoShape 5">
            <a:hlinkClick r:id="" action="ppaction://hlinkshowjump?jump=firstslide"/>
          </p:cNvPr>
          <p:cNvSpPr/>
          <p:nvPr/>
        </p:nvSpPr>
        <p:spPr>
          <a:xfrm>
            <a:off x="1295280" y="533412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752480" y="4267080"/>
            <a:ext cx="519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convergen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5592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4190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ype of plate boundary happening in this pictur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295280" y="41148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converg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8">
            <a:hlinkClick r:id="" action="ppaction://hlinkshowjump?jump=firstslide"/>
          </p:cNvPr>
          <p:cNvSpPr/>
          <p:nvPr/>
        </p:nvSpPr>
        <p:spPr>
          <a:xfrm>
            <a:off x="1295280" y="556272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29240" y="27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39621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land formation made from the plates this picture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219320" y="426708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volcan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362320" y="2895480"/>
          <a:ext cx="3733560" cy="12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895480"/>
                    <a:ext cx="37335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$200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land formation made from plates in this picture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600560" y="4114800"/>
            <a:ext cx="529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 rift valle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362320" y="2514600"/>
          <a:ext cx="3886200" cy="121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38862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land formation made from the plates in this picture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066320" y="4343400"/>
            <a:ext cx="69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eafloor spreadin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5">
            <a:hlinkClick r:id="" action="ppaction://hlinkshowjump?jump=firstslide"/>
          </p:cNvPr>
          <p:cNvSpPr/>
          <p:nvPr/>
        </p:nvSpPr>
        <p:spPr>
          <a:xfrm>
            <a:off x="1371600" y="52578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114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asd</cp:lastModifiedBy>
  <dcterms:modified xsi:type="dcterms:W3CDTF">2010-11-08T17:30:10Z</dcterms:modified>
  <cp:revision>65</cp:revision>
  <dc:subject/>
  <dc:title>Jeopardy</dc:title>
</cp:coreProperties>
</file>