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8.pct" ContentType="image/x-pict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pct" ContentType="image/x-pict"/>
  <Override PartName="/ppt/media/image22.jpeg" ContentType="image/jpe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FDC8-68BC-4F15-A276-B97D1DA7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F117-72C7-4C43-8D5C-FF3997C7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6071-F9AD-4F43-8046-0E6BAC7E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0650-BE9F-4568-991D-46CDD595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D14-6F11-4AA9-A82F-94BFEF5C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3EA-4B01-45E6-8B22-4D8B9A87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976-9880-4E7A-8571-96E4B030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6EF-AACE-421E-9FCA-CE2D92F3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FD2-F1E2-46DF-AB50-7AC1A5A1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A4E-92CF-4042-94D1-A7BB16B7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15D-5714-44B8-9A0B-5D7E6BFB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9BA-5431-49D5-9BE9-204B069F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6F97-24AF-43D8-A719-FA85B50A5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943600"/>
            <a:ext cx="1067040" cy="8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" Target="slide11.xml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6.jpeg"/><Relationship Id="rId21" Type="http://schemas.openxmlformats.org/officeDocument/2006/relationships/image" Target="../media/image7.jpeg"/><Relationship Id="rId2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7480" y="24764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67480" y="33148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67480" y="415296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7480" y="49910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58294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2476440"/>
            <a:ext cx="1295280" cy="647640"/>
          </a:xfrm>
          <a:custGeom>
            <a:avLst/>
            <a:gdLst>
              <a:gd name="textAreaLeft" fmla="*/ 55080 w 1295280"/>
              <a:gd name="textAreaRight" fmla="*/ 1240200 w 129528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343" y="1845"/>
                </a:lnTo>
                <a:lnTo>
                  <a:pt x="1845" y="1845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343" y="19755"/>
                </a:lnTo>
                <a:lnTo>
                  <a:pt x="41343" y="1845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3" y="19755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3314880"/>
            <a:ext cx="1295280" cy="647640"/>
          </a:xfrm>
          <a:custGeom>
            <a:avLst/>
            <a:gdLst>
              <a:gd name="textAreaLeft" fmla="*/ 55080 w 1295280"/>
              <a:gd name="textAreaRight" fmla="*/ 1240200 w 129528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343" y="1845"/>
                </a:lnTo>
                <a:lnTo>
                  <a:pt x="1845" y="1845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343" y="19755"/>
                </a:lnTo>
                <a:lnTo>
                  <a:pt x="41343" y="1845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3" y="19755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4152960"/>
            <a:ext cx="1295280" cy="647640"/>
          </a:xfrm>
          <a:custGeom>
            <a:avLst/>
            <a:gdLst>
              <a:gd name="textAreaLeft" fmla="*/ 55080 w 1295280"/>
              <a:gd name="textAreaRight" fmla="*/ 1240200 w 129528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343" y="1845"/>
                </a:lnTo>
                <a:lnTo>
                  <a:pt x="1845" y="1845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343" y="19755"/>
                </a:lnTo>
                <a:lnTo>
                  <a:pt x="41343" y="1845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3" y="19755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4991040"/>
            <a:ext cx="1295280" cy="647640"/>
          </a:xfrm>
          <a:custGeom>
            <a:avLst/>
            <a:gdLst>
              <a:gd name="textAreaLeft" fmla="*/ 55080 w 1295280"/>
              <a:gd name="textAreaRight" fmla="*/ 1240200 w 129528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343" y="1845"/>
                </a:lnTo>
                <a:lnTo>
                  <a:pt x="1845" y="1845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343" y="19755"/>
                </a:lnTo>
                <a:lnTo>
                  <a:pt x="41343" y="1845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3" y="19755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5829480"/>
            <a:ext cx="1295280" cy="647640"/>
          </a:xfrm>
          <a:custGeom>
            <a:avLst/>
            <a:gdLst>
              <a:gd name="textAreaLeft" fmla="*/ 55080 w 1295280"/>
              <a:gd name="textAreaRight" fmla="*/ 1240200 w 129528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343" y="1845"/>
                </a:lnTo>
                <a:lnTo>
                  <a:pt x="1845" y="1845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343" y="19755"/>
                </a:lnTo>
                <a:lnTo>
                  <a:pt x="41343" y="1845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3" y="19755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24764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33148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415296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49910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58294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opardy – The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476440"/>
            <a:ext cx="1295280" cy="647640"/>
          </a:xfrm>
          <a:custGeom>
            <a:avLst/>
            <a:gdLst>
              <a:gd name="textAreaLeft" fmla="*/ 56520 w 1295280"/>
              <a:gd name="textAreaRight" fmla="*/ 1238760 w 1295280"/>
              <a:gd name="textAreaTop" fmla="*/ 56520 h 647640"/>
              <a:gd name="textAreaBottom" fmla="*/ 59112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298" y="1890"/>
                </a:lnTo>
                <a:lnTo>
                  <a:pt x="1890" y="189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298" y="19710"/>
                </a:lnTo>
                <a:lnTo>
                  <a:pt x="41298" y="189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8" y="1971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314880"/>
            <a:ext cx="1295280" cy="647640"/>
          </a:xfrm>
          <a:custGeom>
            <a:avLst/>
            <a:gdLst>
              <a:gd name="textAreaLeft" fmla="*/ 56520 w 1295280"/>
              <a:gd name="textAreaRight" fmla="*/ 1238760 w 1295280"/>
              <a:gd name="textAreaTop" fmla="*/ 56520 h 647640"/>
              <a:gd name="textAreaBottom" fmla="*/ 59112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298" y="1890"/>
                </a:lnTo>
                <a:lnTo>
                  <a:pt x="1890" y="189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298" y="19710"/>
                </a:lnTo>
                <a:lnTo>
                  <a:pt x="41298" y="189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8" y="1971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52960"/>
            <a:ext cx="1295280" cy="647640"/>
          </a:xfrm>
          <a:custGeom>
            <a:avLst/>
            <a:gdLst>
              <a:gd name="textAreaLeft" fmla="*/ 56520 w 1295280"/>
              <a:gd name="textAreaRight" fmla="*/ 1238760 w 1295280"/>
              <a:gd name="textAreaTop" fmla="*/ 56520 h 647640"/>
              <a:gd name="textAreaBottom" fmla="*/ 59112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298" y="1890"/>
                </a:lnTo>
                <a:lnTo>
                  <a:pt x="1890" y="189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298" y="19710"/>
                </a:lnTo>
                <a:lnTo>
                  <a:pt x="41298" y="189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8" y="1971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991040"/>
            <a:ext cx="1295280" cy="647640"/>
          </a:xfrm>
          <a:custGeom>
            <a:avLst/>
            <a:gdLst>
              <a:gd name="textAreaLeft" fmla="*/ 56520 w 1295280"/>
              <a:gd name="textAreaRight" fmla="*/ 1238760 w 1295280"/>
              <a:gd name="textAreaTop" fmla="*/ 56520 h 647640"/>
              <a:gd name="textAreaBottom" fmla="*/ 59112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298" y="1890"/>
                </a:lnTo>
                <a:lnTo>
                  <a:pt x="1890" y="189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298" y="19710"/>
                </a:lnTo>
                <a:lnTo>
                  <a:pt x="41298" y="189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8" y="1971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5829480"/>
            <a:ext cx="1295280" cy="647640"/>
          </a:xfrm>
          <a:custGeom>
            <a:avLst/>
            <a:gdLst>
              <a:gd name="textAreaLeft" fmla="*/ 56520 w 1295280"/>
              <a:gd name="textAreaRight" fmla="*/ 1238760 w 1295280"/>
              <a:gd name="textAreaTop" fmla="*/ 56520 h 647640"/>
              <a:gd name="textAreaBottom" fmla="*/ 59112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298" y="1890"/>
                </a:lnTo>
                <a:lnTo>
                  <a:pt x="1890" y="189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298" y="19710"/>
                </a:lnTo>
                <a:lnTo>
                  <a:pt x="41298" y="189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8" y="1971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24764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33148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415296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49910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58294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6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523880"/>
          <a:ext cx="8763120" cy="824040"/>
        </p:xfrm>
        <a:graphic>
          <a:graphicData uri="http://schemas.openxmlformats.org/drawingml/2006/table">
            <a:tbl>
              <a:tblPr/>
              <a:tblGrid>
                <a:gridCol w="1600200"/>
                <a:gridCol w="1844640"/>
                <a:gridCol w="1812960"/>
                <a:gridCol w="1752480"/>
                <a:gridCol w="17528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ar System Sc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Inner Plan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Outer Plane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ets, Asteroids, Plutoids  and Mete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d C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2057400" y="533520"/>
            <a:ext cx="526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view for Unit Assessmen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nner Planets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have the greatest temperature ran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39625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Mercu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5257800" cy="4224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nner Planets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effect causes the Earth and Venus to get hotter and hot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57200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greenhouse effec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Outer Planets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28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are the four outer planets, named Jupiter, Saturn, Uranus, Neptu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41911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the gas gian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472464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Outer Planets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take 12 Earth years to orbit the Sun and I have a Great Red Sp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42670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Jupit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Outer Planets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242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known for my 2 satellite rings that are made of ice, rock and du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42670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Satur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4013280" cy="42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Outer Planets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28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knew I was there before they saw me because I was discovered by paper and penci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5029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Neptu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419360" cy="390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Outer Planets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05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am tilted on my side and because of this I have extreme seas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44956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hat is Uran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361944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mets, Asteroids, Plutoids, and Meteors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call me a dirty snowball, I am made up of gas and come from the Kuiper Belt and Oort Clo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4419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com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4647960" cy="34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mets, Asteroids, Plutoids, and Meteors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I hit the Earth I become 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42670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 meteorite?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4495680" cy="39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mets, Asteroids, Plutoids, and Meteors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ould be a planet but I am caught in traffi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0292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a Plutoi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3786120" cy="36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.S. Scale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76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mallest planet in our Solar Syst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1680" y="4640400"/>
            <a:ext cx="355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434340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Mercu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80988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mets, Asteroids, Plutoids, and Meteors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’m just too small and bumpy to be a plan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47242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n asteroi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809880" cy="385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mets, Asteroids, Plutoids, and Meteors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00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am a mess between Mars and Jup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46483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asteroid bel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37176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Card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37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ientists theorize that the Solar System started as a ____________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502920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a large cloud of dust and g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Card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allow life to survive on Ear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4419720"/>
            <a:ext cx="30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the Goldilocks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3810240" cy="31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Card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ar System measurement. The distance from the Earth to the S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3434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tronomical Un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3989520" cy="35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Card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lanet is thirty times as far away from the Sun as Ear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50292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Nept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Card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largest planet in the Solar System. This is the smallest planet in the Solar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502920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Jupi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Merc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380988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.S. Scale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rgest planet in our Sol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7242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Jupit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385596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The S.S. Scale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242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umber of Earths that can fit into the diameter of the S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44956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100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4267080" cy="32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The S.S. Scale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the planets in order from closest to the Sun to those farthest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41972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Mercury, Venus, Earth, Mars, Jupiter, Saturn, Uranus, Neptu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03848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The S.S Scale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956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are the planets ranked from smallest to largest by diame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49568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Mercury, Mars, Venus, Earth, Neptune, Uranus, Saturn, Jupit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The Inner Planets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the four inner, rocky plan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57200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Mercury, Venus, Earth, Ma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114800" cy="37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nner Planets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makes us different from the Gas Giant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114800"/>
            <a:ext cx="396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your composition, size, mass, revolution perio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3810240" cy="37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5486400" cy="4046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nner Planets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s surface is red for this reas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8769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volcanic du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6:03:23Z</dcterms:created>
  <dc:creator>Ronald Smtih</dc:creator>
  <dc:description/>
  <dc:language>en-US</dc:language>
  <cp:lastModifiedBy>asd</cp:lastModifiedBy>
  <dcterms:modified xsi:type="dcterms:W3CDTF">2009-11-02T23:04:32Z</dcterms:modified>
  <cp:revision>29</cp:revision>
  <dc:subject>The Solar System</dc:subject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15584134</vt:r8>
  </property>
  <property fmtid="{D5CDD505-2E9C-101B-9397-08002B2CF9AE}" pid="3" name="_AuthorEmail">
    <vt:lpwstr>rsmith@tumwater.k12.wa.us</vt:lpwstr>
  </property>
  <property fmtid="{D5CDD505-2E9C-101B-9397-08002B2CF9AE}" pid="4" name="_AuthorEmailDisplayName">
    <vt:lpwstr>Ron Smith</vt:lpwstr>
  </property>
  <property fmtid="{D5CDD505-2E9C-101B-9397-08002B2CF9AE}" pid="5" name="_EmailSubject">
    <vt:lpwstr>Montesano Institute Assignments</vt:lpwstr>
  </property>
</Properties>
</file>