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4.jpeg" ContentType="image/jpeg"/>
  <Override PartName="/ppt/media/image31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13.png" ContentType="image/png"/>
  <Override PartName="/ppt/media/image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8.pct" ContentType="image/x-pict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pct" ContentType="image/x-pict"/>
  <Override PartName="/ppt/media/image22.jpeg" ContentType="image/jpe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ED79-0A40-4D8C-9040-4897F6AED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C889-2EA8-43C8-82A7-D8CD6D97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3CD9-3D7B-4338-AF1E-B1CBC97FA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10D8-63A0-4EF2-9287-209B959B7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38C9-7004-47D5-9BBA-83AF10F7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8D2F-1E5F-447E-B7C8-BF02F700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3CE8-38A9-4244-8337-9EE12C09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0649-5D24-4C60-AC19-006BB53A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8D01-FBFE-4DCC-AB4E-612A3584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B87A-C791-41F4-88F6-3C492EB6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2B24-4EC9-4159-9B69-0B9A929C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CE88-18B0-4FB0-AA1E-DA43E32F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1.xm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2F61-AE26-45AB-BB4A-5269B6AA3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5943600"/>
            <a:ext cx="1067040" cy="80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" Target="slide2.xml"/><Relationship Id="rId8" Type="http://schemas.openxmlformats.org/officeDocument/2006/relationships/slide" Target="slide3.xml"/><Relationship Id="rId9" Type="http://schemas.openxmlformats.org/officeDocument/2006/relationships/slide" Target="slide4.xml"/><Relationship Id="rId10" Type="http://schemas.openxmlformats.org/officeDocument/2006/relationships/slide" Target="slide5.xml"/><Relationship Id="rId11" Type="http://schemas.openxmlformats.org/officeDocument/2006/relationships/slide" Target="slide6.xml"/><Relationship Id="rId12" Type="http://schemas.openxmlformats.org/officeDocument/2006/relationships/slide" Target="slide7.xml"/><Relationship Id="rId13" Type="http://schemas.openxmlformats.org/officeDocument/2006/relationships/slide" Target="slide8.xml"/><Relationship Id="rId14" Type="http://schemas.openxmlformats.org/officeDocument/2006/relationships/slide" Target="slide9.xml"/><Relationship Id="rId15" Type="http://schemas.openxmlformats.org/officeDocument/2006/relationships/slide" Target="slide10.xml"/><Relationship Id="rId16" Type="http://schemas.openxmlformats.org/officeDocument/2006/relationships/slide" Target="slide11.xml"/><Relationship Id="rId17" Type="http://schemas.openxmlformats.org/officeDocument/2006/relationships/image" Target="../media/image3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6.jpeg"/><Relationship Id="rId21" Type="http://schemas.openxmlformats.org/officeDocument/2006/relationships/image" Target="../media/image7.jpeg"/><Relationship Id="rId2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8.pct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7480" y="247644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467480" y="331488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467480" y="415296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467480" y="499104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67480" y="582948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2476440"/>
            <a:ext cx="1295280" cy="647640"/>
          </a:xfrm>
          <a:custGeom>
            <a:avLst/>
            <a:gdLst>
              <a:gd name="textAreaLeft" fmla="*/ 55080 w 1295280"/>
              <a:gd name="textAreaRight" fmla="*/ 1240200 w 129528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188" h="21600">
                <a:moveTo>
                  <a:pt x="0" y="0"/>
                </a:moveTo>
                <a:lnTo>
                  <a:pt x="43188" y="0"/>
                </a:lnTo>
                <a:lnTo>
                  <a:pt x="43188" y="21600"/>
                </a:lnTo>
                <a:lnTo>
                  <a:pt x="0" y="21600"/>
                </a:lnTo>
                <a:close/>
              </a:path>
              <a:path fill="lightenLess" w="43188" h="21600">
                <a:moveTo>
                  <a:pt x="0" y="0"/>
                </a:moveTo>
                <a:lnTo>
                  <a:pt x="43188" y="0"/>
                </a:lnTo>
                <a:lnTo>
                  <a:pt x="41343" y="1845"/>
                </a:lnTo>
                <a:lnTo>
                  <a:pt x="1845" y="1845"/>
                </a:lnTo>
                <a:close/>
              </a:path>
              <a:path fill="darken" w="43188" h="21600">
                <a:moveTo>
                  <a:pt x="43188" y="0"/>
                </a:moveTo>
                <a:lnTo>
                  <a:pt x="43188" y="21600"/>
                </a:lnTo>
                <a:lnTo>
                  <a:pt x="41343" y="19755"/>
                </a:lnTo>
                <a:lnTo>
                  <a:pt x="41343" y="1845"/>
                </a:lnTo>
                <a:close/>
              </a:path>
              <a:path fill="darkenLess" w="43188" h="21600">
                <a:moveTo>
                  <a:pt x="43188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43" y="19755"/>
                </a:lnTo>
                <a:close/>
              </a:path>
              <a:path fill="lighten" w="43188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3314880"/>
            <a:ext cx="1295280" cy="647640"/>
          </a:xfrm>
          <a:custGeom>
            <a:avLst/>
            <a:gdLst>
              <a:gd name="textAreaLeft" fmla="*/ 55080 w 1295280"/>
              <a:gd name="textAreaRight" fmla="*/ 1240200 w 129528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188" h="21600">
                <a:moveTo>
                  <a:pt x="0" y="0"/>
                </a:moveTo>
                <a:lnTo>
                  <a:pt x="43188" y="0"/>
                </a:lnTo>
                <a:lnTo>
                  <a:pt x="43188" y="21600"/>
                </a:lnTo>
                <a:lnTo>
                  <a:pt x="0" y="21600"/>
                </a:lnTo>
                <a:close/>
              </a:path>
              <a:path fill="lightenLess" w="43188" h="21600">
                <a:moveTo>
                  <a:pt x="0" y="0"/>
                </a:moveTo>
                <a:lnTo>
                  <a:pt x="43188" y="0"/>
                </a:lnTo>
                <a:lnTo>
                  <a:pt x="41343" y="1845"/>
                </a:lnTo>
                <a:lnTo>
                  <a:pt x="1845" y="1845"/>
                </a:lnTo>
                <a:close/>
              </a:path>
              <a:path fill="darken" w="43188" h="21600">
                <a:moveTo>
                  <a:pt x="43188" y="0"/>
                </a:moveTo>
                <a:lnTo>
                  <a:pt x="43188" y="21600"/>
                </a:lnTo>
                <a:lnTo>
                  <a:pt x="41343" y="19755"/>
                </a:lnTo>
                <a:lnTo>
                  <a:pt x="41343" y="1845"/>
                </a:lnTo>
                <a:close/>
              </a:path>
              <a:path fill="darkenLess" w="43188" h="21600">
                <a:moveTo>
                  <a:pt x="43188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43" y="19755"/>
                </a:lnTo>
                <a:close/>
              </a:path>
              <a:path fill="lighten" w="43188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4152960"/>
            <a:ext cx="1295280" cy="647640"/>
          </a:xfrm>
          <a:custGeom>
            <a:avLst/>
            <a:gdLst>
              <a:gd name="textAreaLeft" fmla="*/ 55080 w 1295280"/>
              <a:gd name="textAreaRight" fmla="*/ 1240200 w 129528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188" h="21600">
                <a:moveTo>
                  <a:pt x="0" y="0"/>
                </a:moveTo>
                <a:lnTo>
                  <a:pt x="43188" y="0"/>
                </a:lnTo>
                <a:lnTo>
                  <a:pt x="43188" y="21600"/>
                </a:lnTo>
                <a:lnTo>
                  <a:pt x="0" y="21600"/>
                </a:lnTo>
                <a:close/>
              </a:path>
              <a:path fill="lightenLess" w="43188" h="21600">
                <a:moveTo>
                  <a:pt x="0" y="0"/>
                </a:moveTo>
                <a:lnTo>
                  <a:pt x="43188" y="0"/>
                </a:lnTo>
                <a:lnTo>
                  <a:pt x="41343" y="1845"/>
                </a:lnTo>
                <a:lnTo>
                  <a:pt x="1845" y="1845"/>
                </a:lnTo>
                <a:close/>
              </a:path>
              <a:path fill="darken" w="43188" h="21600">
                <a:moveTo>
                  <a:pt x="43188" y="0"/>
                </a:moveTo>
                <a:lnTo>
                  <a:pt x="43188" y="21600"/>
                </a:lnTo>
                <a:lnTo>
                  <a:pt x="41343" y="19755"/>
                </a:lnTo>
                <a:lnTo>
                  <a:pt x="41343" y="1845"/>
                </a:lnTo>
                <a:close/>
              </a:path>
              <a:path fill="darkenLess" w="43188" h="21600">
                <a:moveTo>
                  <a:pt x="43188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43" y="19755"/>
                </a:lnTo>
                <a:close/>
              </a:path>
              <a:path fill="lighten" w="43188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4991040"/>
            <a:ext cx="1295280" cy="647640"/>
          </a:xfrm>
          <a:custGeom>
            <a:avLst/>
            <a:gdLst>
              <a:gd name="textAreaLeft" fmla="*/ 55080 w 1295280"/>
              <a:gd name="textAreaRight" fmla="*/ 1240200 w 129528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188" h="21600">
                <a:moveTo>
                  <a:pt x="0" y="0"/>
                </a:moveTo>
                <a:lnTo>
                  <a:pt x="43188" y="0"/>
                </a:lnTo>
                <a:lnTo>
                  <a:pt x="43188" y="21600"/>
                </a:lnTo>
                <a:lnTo>
                  <a:pt x="0" y="21600"/>
                </a:lnTo>
                <a:close/>
              </a:path>
              <a:path fill="lightenLess" w="43188" h="21600">
                <a:moveTo>
                  <a:pt x="0" y="0"/>
                </a:moveTo>
                <a:lnTo>
                  <a:pt x="43188" y="0"/>
                </a:lnTo>
                <a:lnTo>
                  <a:pt x="41343" y="1845"/>
                </a:lnTo>
                <a:lnTo>
                  <a:pt x="1845" y="1845"/>
                </a:lnTo>
                <a:close/>
              </a:path>
              <a:path fill="darken" w="43188" h="21600">
                <a:moveTo>
                  <a:pt x="43188" y="0"/>
                </a:moveTo>
                <a:lnTo>
                  <a:pt x="43188" y="21600"/>
                </a:lnTo>
                <a:lnTo>
                  <a:pt x="41343" y="19755"/>
                </a:lnTo>
                <a:lnTo>
                  <a:pt x="41343" y="1845"/>
                </a:lnTo>
                <a:close/>
              </a:path>
              <a:path fill="darkenLess" w="43188" h="21600">
                <a:moveTo>
                  <a:pt x="43188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43" y="19755"/>
                </a:lnTo>
                <a:close/>
              </a:path>
              <a:path fill="lighten" w="43188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5829480"/>
            <a:ext cx="1295280" cy="647640"/>
          </a:xfrm>
          <a:custGeom>
            <a:avLst/>
            <a:gdLst>
              <a:gd name="textAreaLeft" fmla="*/ 55080 w 1295280"/>
              <a:gd name="textAreaRight" fmla="*/ 1240200 w 129528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188" h="21600">
                <a:moveTo>
                  <a:pt x="0" y="0"/>
                </a:moveTo>
                <a:lnTo>
                  <a:pt x="43188" y="0"/>
                </a:lnTo>
                <a:lnTo>
                  <a:pt x="43188" y="21600"/>
                </a:lnTo>
                <a:lnTo>
                  <a:pt x="0" y="21600"/>
                </a:lnTo>
                <a:close/>
              </a:path>
              <a:path fill="lightenLess" w="43188" h="21600">
                <a:moveTo>
                  <a:pt x="0" y="0"/>
                </a:moveTo>
                <a:lnTo>
                  <a:pt x="43188" y="0"/>
                </a:lnTo>
                <a:lnTo>
                  <a:pt x="41343" y="1845"/>
                </a:lnTo>
                <a:lnTo>
                  <a:pt x="1845" y="1845"/>
                </a:lnTo>
                <a:close/>
              </a:path>
              <a:path fill="darken" w="43188" h="21600">
                <a:moveTo>
                  <a:pt x="43188" y="0"/>
                </a:moveTo>
                <a:lnTo>
                  <a:pt x="43188" y="21600"/>
                </a:lnTo>
                <a:lnTo>
                  <a:pt x="41343" y="19755"/>
                </a:lnTo>
                <a:lnTo>
                  <a:pt x="41343" y="1845"/>
                </a:lnTo>
                <a:close/>
              </a:path>
              <a:path fill="darkenLess" w="43188" h="21600">
                <a:moveTo>
                  <a:pt x="43188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43" y="19755"/>
                </a:lnTo>
                <a:close/>
              </a:path>
              <a:path fill="lighten" w="43188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247644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331488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415296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4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38480" y="499104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5" action="ppaction://hlinksldjump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582948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6" action="ppaction://hlinksldjump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eopardy – The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476440"/>
            <a:ext cx="1295280" cy="647640"/>
          </a:xfrm>
          <a:custGeom>
            <a:avLst/>
            <a:gdLst>
              <a:gd name="textAreaLeft" fmla="*/ 56520 w 1295280"/>
              <a:gd name="textAreaRight" fmla="*/ 1238760 w 1295280"/>
              <a:gd name="textAreaTop" fmla="*/ 56520 h 647640"/>
              <a:gd name="textAreaBottom" fmla="*/ 591120 h 647640"/>
            </a:gdLst>
            <a:ahLst/>
            <a:rect l="textAreaLeft" t="textAreaTop" r="textAreaRight" b="textAreaBottom"/>
            <a:pathLst>
              <a:path w="43188" h="21600">
                <a:moveTo>
                  <a:pt x="0" y="0"/>
                </a:moveTo>
                <a:lnTo>
                  <a:pt x="43188" y="0"/>
                </a:lnTo>
                <a:lnTo>
                  <a:pt x="43188" y="21600"/>
                </a:lnTo>
                <a:lnTo>
                  <a:pt x="0" y="21600"/>
                </a:lnTo>
                <a:close/>
              </a:path>
              <a:path fill="lightenLess" w="43188" h="21600">
                <a:moveTo>
                  <a:pt x="0" y="0"/>
                </a:moveTo>
                <a:lnTo>
                  <a:pt x="43188" y="0"/>
                </a:lnTo>
                <a:lnTo>
                  <a:pt x="41298" y="1890"/>
                </a:lnTo>
                <a:lnTo>
                  <a:pt x="1890" y="1890"/>
                </a:lnTo>
                <a:close/>
              </a:path>
              <a:path fill="darken" w="43188" h="21600">
                <a:moveTo>
                  <a:pt x="43188" y="0"/>
                </a:moveTo>
                <a:lnTo>
                  <a:pt x="43188" y="21600"/>
                </a:lnTo>
                <a:lnTo>
                  <a:pt x="41298" y="19710"/>
                </a:lnTo>
                <a:lnTo>
                  <a:pt x="41298" y="1890"/>
                </a:lnTo>
                <a:close/>
              </a:path>
              <a:path fill="darkenLess" w="43188" h="21600">
                <a:moveTo>
                  <a:pt x="43188" y="21600"/>
                </a:moveTo>
                <a:lnTo>
                  <a:pt x="0" y="21600"/>
                </a:lnTo>
                <a:lnTo>
                  <a:pt x="1890" y="19710"/>
                </a:lnTo>
                <a:lnTo>
                  <a:pt x="41298" y="19710"/>
                </a:lnTo>
                <a:close/>
              </a:path>
              <a:path fill="lighten" w="43188" h="21600">
                <a:moveTo>
                  <a:pt x="0" y="21600"/>
                </a:moveTo>
                <a:lnTo>
                  <a:pt x="0" y="0"/>
                </a:lnTo>
                <a:lnTo>
                  <a:pt x="1890" y="1890"/>
                </a:lnTo>
                <a:lnTo>
                  <a:pt x="1890" y="1971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7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314880"/>
            <a:ext cx="1295280" cy="647640"/>
          </a:xfrm>
          <a:custGeom>
            <a:avLst/>
            <a:gdLst>
              <a:gd name="textAreaLeft" fmla="*/ 56520 w 1295280"/>
              <a:gd name="textAreaRight" fmla="*/ 1238760 w 1295280"/>
              <a:gd name="textAreaTop" fmla="*/ 56520 h 647640"/>
              <a:gd name="textAreaBottom" fmla="*/ 591120 h 647640"/>
            </a:gdLst>
            <a:ahLst/>
            <a:rect l="textAreaLeft" t="textAreaTop" r="textAreaRight" b="textAreaBottom"/>
            <a:pathLst>
              <a:path w="43188" h="21600">
                <a:moveTo>
                  <a:pt x="0" y="0"/>
                </a:moveTo>
                <a:lnTo>
                  <a:pt x="43188" y="0"/>
                </a:lnTo>
                <a:lnTo>
                  <a:pt x="43188" y="21600"/>
                </a:lnTo>
                <a:lnTo>
                  <a:pt x="0" y="21600"/>
                </a:lnTo>
                <a:close/>
              </a:path>
              <a:path fill="lightenLess" w="43188" h="21600">
                <a:moveTo>
                  <a:pt x="0" y="0"/>
                </a:moveTo>
                <a:lnTo>
                  <a:pt x="43188" y="0"/>
                </a:lnTo>
                <a:lnTo>
                  <a:pt x="41298" y="1890"/>
                </a:lnTo>
                <a:lnTo>
                  <a:pt x="1890" y="1890"/>
                </a:lnTo>
                <a:close/>
              </a:path>
              <a:path fill="darken" w="43188" h="21600">
                <a:moveTo>
                  <a:pt x="43188" y="0"/>
                </a:moveTo>
                <a:lnTo>
                  <a:pt x="43188" y="21600"/>
                </a:lnTo>
                <a:lnTo>
                  <a:pt x="41298" y="19710"/>
                </a:lnTo>
                <a:lnTo>
                  <a:pt x="41298" y="1890"/>
                </a:lnTo>
                <a:close/>
              </a:path>
              <a:path fill="darkenLess" w="43188" h="21600">
                <a:moveTo>
                  <a:pt x="43188" y="21600"/>
                </a:moveTo>
                <a:lnTo>
                  <a:pt x="0" y="21600"/>
                </a:lnTo>
                <a:lnTo>
                  <a:pt x="1890" y="19710"/>
                </a:lnTo>
                <a:lnTo>
                  <a:pt x="41298" y="19710"/>
                </a:lnTo>
                <a:close/>
              </a:path>
              <a:path fill="lighten" w="43188" h="21600">
                <a:moveTo>
                  <a:pt x="0" y="21600"/>
                </a:moveTo>
                <a:lnTo>
                  <a:pt x="0" y="0"/>
                </a:lnTo>
                <a:lnTo>
                  <a:pt x="1890" y="1890"/>
                </a:lnTo>
                <a:lnTo>
                  <a:pt x="1890" y="1971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52960"/>
            <a:ext cx="1295280" cy="647640"/>
          </a:xfrm>
          <a:custGeom>
            <a:avLst/>
            <a:gdLst>
              <a:gd name="textAreaLeft" fmla="*/ 56520 w 1295280"/>
              <a:gd name="textAreaRight" fmla="*/ 1238760 w 1295280"/>
              <a:gd name="textAreaTop" fmla="*/ 56520 h 647640"/>
              <a:gd name="textAreaBottom" fmla="*/ 591120 h 647640"/>
            </a:gdLst>
            <a:ahLst/>
            <a:rect l="textAreaLeft" t="textAreaTop" r="textAreaRight" b="textAreaBottom"/>
            <a:pathLst>
              <a:path w="43188" h="21600">
                <a:moveTo>
                  <a:pt x="0" y="0"/>
                </a:moveTo>
                <a:lnTo>
                  <a:pt x="43188" y="0"/>
                </a:lnTo>
                <a:lnTo>
                  <a:pt x="43188" y="21600"/>
                </a:lnTo>
                <a:lnTo>
                  <a:pt x="0" y="21600"/>
                </a:lnTo>
                <a:close/>
              </a:path>
              <a:path fill="lightenLess" w="43188" h="21600">
                <a:moveTo>
                  <a:pt x="0" y="0"/>
                </a:moveTo>
                <a:lnTo>
                  <a:pt x="43188" y="0"/>
                </a:lnTo>
                <a:lnTo>
                  <a:pt x="41298" y="1890"/>
                </a:lnTo>
                <a:lnTo>
                  <a:pt x="1890" y="1890"/>
                </a:lnTo>
                <a:close/>
              </a:path>
              <a:path fill="darken" w="43188" h="21600">
                <a:moveTo>
                  <a:pt x="43188" y="0"/>
                </a:moveTo>
                <a:lnTo>
                  <a:pt x="43188" y="21600"/>
                </a:lnTo>
                <a:lnTo>
                  <a:pt x="41298" y="19710"/>
                </a:lnTo>
                <a:lnTo>
                  <a:pt x="41298" y="1890"/>
                </a:lnTo>
                <a:close/>
              </a:path>
              <a:path fill="darkenLess" w="43188" h="21600">
                <a:moveTo>
                  <a:pt x="43188" y="21600"/>
                </a:moveTo>
                <a:lnTo>
                  <a:pt x="0" y="21600"/>
                </a:lnTo>
                <a:lnTo>
                  <a:pt x="1890" y="19710"/>
                </a:lnTo>
                <a:lnTo>
                  <a:pt x="41298" y="19710"/>
                </a:lnTo>
                <a:close/>
              </a:path>
              <a:path fill="lighten" w="43188" h="21600">
                <a:moveTo>
                  <a:pt x="0" y="21600"/>
                </a:moveTo>
                <a:lnTo>
                  <a:pt x="0" y="0"/>
                </a:lnTo>
                <a:lnTo>
                  <a:pt x="1890" y="1890"/>
                </a:lnTo>
                <a:lnTo>
                  <a:pt x="1890" y="1971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9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991040"/>
            <a:ext cx="1295280" cy="647640"/>
          </a:xfrm>
          <a:custGeom>
            <a:avLst/>
            <a:gdLst>
              <a:gd name="textAreaLeft" fmla="*/ 56520 w 1295280"/>
              <a:gd name="textAreaRight" fmla="*/ 1238760 w 1295280"/>
              <a:gd name="textAreaTop" fmla="*/ 56520 h 647640"/>
              <a:gd name="textAreaBottom" fmla="*/ 591120 h 647640"/>
            </a:gdLst>
            <a:ahLst/>
            <a:rect l="textAreaLeft" t="textAreaTop" r="textAreaRight" b="textAreaBottom"/>
            <a:pathLst>
              <a:path w="43188" h="21600">
                <a:moveTo>
                  <a:pt x="0" y="0"/>
                </a:moveTo>
                <a:lnTo>
                  <a:pt x="43188" y="0"/>
                </a:lnTo>
                <a:lnTo>
                  <a:pt x="43188" y="21600"/>
                </a:lnTo>
                <a:lnTo>
                  <a:pt x="0" y="21600"/>
                </a:lnTo>
                <a:close/>
              </a:path>
              <a:path fill="lightenLess" w="43188" h="21600">
                <a:moveTo>
                  <a:pt x="0" y="0"/>
                </a:moveTo>
                <a:lnTo>
                  <a:pt x="43188" y="0"/>
                </a:lnTo>
                <a:lnTo>
                  <a:pt x="41298" y="1890"/>
                </a:lnTo>
                <a:lnTo>
                  <a:pt x="1890" y="1890"/>
                </a:lnTo>
                <a:close/>
              </a:path>
              <a:path fill="darken" w="43188" h="21600">
                <a:moveTo>
                  <a:pt x="43188" y="0"/>
                </a:moveTo>
                <a:lnTo>
                  <a:pt x="43188" y="21600"/>
                </a:lnTo>
                <a:lnTo>
                  <a:pt x="41298" y="19710"/>
                </a:lnTo>
                <a:lnTo>
                  <a:pt x="41298" y="1890"/>
                </a:lnTo>
                <a:close/>
              </a:path>
              <a:path fill="darkenLess" w="43188" h="21600">
                <a:moveTo>
                  <a:pt x="43188" y="21600"/>
                </a:moveTo>
                <a:lnTo>
                  <a:pt x="0" y="21600"/>
                </a:lnTo>
                <a:lnTo>
                  <a:pt x="1890" y="19710"/>
                </a:lnTo>
                <a:lnTo>
                  <a:pt x="41298" y="19710"/>
                </a:lnTo>
                <a:close/>
              </a:path>
              <a:path fill="lighten" w="43188" h="21600">
                <a:moveTo>
                  <a:pt x="0" y="21600"/>
                </a:moveTo>
                <a:lnTo>
                  <a:pt x="0" y="0"/>
                </a:lnTo>
                <a:lnTo>
                  <a:pt x="1890" y="1890"/>
                </a:lnTo>
                <a:lnTo>
                  <a:pt x="1890" y="1971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5829480"/>
            <a:ext cx="1295280" cy="647640"/>
          </a:xfrm>
          <a:custGeom>
            <a:avLst/>
            <a:gdLst>
              <a:gd name="textAreaLeft" fmla="*/ 56520 w 1295280"/>
              <a:gd name="textAreaRight" fmla="*/ 1238760 w 1295280"/>
              <a:gd name="textAreaTop" fmla="*/ 56520 h 647640"/>
              <a:gd name="textAreaBottom" fmla="*/ 591120 h 647640"/>
            </a:gdLst>
            <a:ahLst/>
            <a:rect l="textAreaLeft" t="textAreaTop" r="textAreaRight" b="textAreaBottom"/>
            <a:pathLst>
              <a:path w="43188" h="21600">
                <a:moveTo>
                  <a:pt x="0" y="0"/>
                </a:moveTo>
                <a:lnTo>
                  <a:pt x="43188" y="0"/>
                </a:lnTo>
                <a:lnTo>
                  <a:pt x="43188" y="21600"/>
                </a:lnTo>
                <a:lnTo>
                  <a:pt x="0" y="21600"/>
                </a:lnTo>
                <a:close/>
              </a:path>
              <a:path fill="lightenLess" w="43188" h="21600">
                <a:moveTo>
                  <a:pt x="0" y="0"/>
                </a:moveTo>
                <a:lnTo>
                  <a:pt x="43188" y="0"/>
                </a:lnTo>
                <a:lnTo>
                  <a:pt x="41298" y="1890"/>
                </a:lnTo>
                <a:lnTo>
                  <a:pt x="1890" y="1890"/>
                </a:lnTo>
                <a:close/>
              </a:path>
              <a:path fill="darken" w="43188" h="21600">
                <a:moveTo>
                  <a:pt x="43188" y="0"/>
                </a:moveTo>
                <a:lnTo>
                  <a:pt x="43188" y="21600"/>
                </a:lnTo>
                <a:lnTo>
                  <a:pt x="41298" y="19710"/>
                </a:lnTo>
                <a:lnTo>
                  <a:pt x="41298" y="1890"/>
                </a:lnTo>
                <a:close/>
              </a:path>
              <a:path fill="darkenLess" w="43188" h="21600">
                <a:moveTo>
                  <a:pt x="43188" y="21600"/>
                </a:moveTo>
                <a:lnTo>
                  <a:pt x="0" y="21600"/>
                </a:lnTo>
                <a:lnTo>
                  <a:pt x="1890" y="19710"/>
                </a:lnTo>
                <a:lnTo>
                  <a:pt x="41298" y="19710"/>
                </a:lnTo>
                <a:close/>
              </a:path>
              <a:path fill="lighten" w="43188" h="21600">
                <a:moveTo>
                  <a:pt x="0" y="21600"/>
                </a:moveTo>
                <a:lnTo>
                  <a:pt x="0" y="0"/>
                </a:lnTo>
                <a:lnTo>
                  <a:pt x="1890" y="1890"/>
                </a:lnTo>
                <a:lnTo>
                  <a:pt x="1890" y="1971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1" action="ppaction://hlinksldjump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247644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2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09680" y="331488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3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09680" y="415296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09680" y="499104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5" action="ppaction://hlinksldjump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582948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6" action="ppaction://hlinksldjump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28600" y="1523880"/>
          <a:ext cx="8763120" cy="824040"/>
        </p:xfrm>
        <a:graphic>
          <a:graphicData uri="http://schemas.openxmlformats.org/drawingml/2006/table">
            <a:tbl>
              <a:tblPr/>
              <a:tblGrid>
                <a:gridCol w="1600200"/>
                <a:gridCol w="1844640"/>
                <a:gridCol w="1812960"/>
                <a:gridCol w="1752480"/>
                <a:gridCol w="175284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ar System Sc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Inner Plan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Outer Plane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ets, Asteroids, Plutoids  and Mete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ld Ca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2057400" y="533520"/>
            <a:ext cx="526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eview for Unit Assessment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Inner Planets for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242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have the greatest temperature ran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39625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Mercur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5257800" cy="4224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Inner Planets for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s effect causes the Earth and Venus to get hotter and hot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4572000"/>
            <a:ext cx="3047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greenhouse effec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Outer Planets for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28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are the four outer planets, named Jupiter, Saturn, Uranus, Neptu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81480" y="41911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are the gas giant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52280" y="2362320"/>
            <a:ext cx="4724640" cy="360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Outer Planets for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7242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take 12 Earth years to orbit the Sun and I have a Great Red Sp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42670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Jupit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Outer Planets for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7242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known for my 2 satellite rings that are made of ice, rock and du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42670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Satur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4013280" cy="427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Outer Planets for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528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knew I was there before they saw me because I was discovered by paper and penci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5029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Neptu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4419360" cy="390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Outer Planets for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051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am tilted on my side and because of this I have extreme seas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62720" y="449568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hat is Uranu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914400" y="2057400"/>
            <a:ext cx="361944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Comets, Asteroids, Plutoids, and Meteors for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call me a dirty snowball, I am made up of gas and come from the Kuiper Belt and Oort Clou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44197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a com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4647960" cy="34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Comets, Asteroids, Plutoids, and Meteors for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I hit the Earth I become o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00600" y="42670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a meteorite?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4495680" cy="39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Comets, Asteroids, Plutoids, and Meteors for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288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ould be a planet but I am caught in traffi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0292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a Plutoi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33520" y="2514600"/>
            <a:ext cx="3786120" cy="363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S.S. Scale for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8765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mallest planet in our Solar Syst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1680" y="4640400"/>
            <a:ext cx="355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434340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Mercu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3809880" cy="33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Comets, Asteroids, Plutoids, and Meteors for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876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’m just too small and bumpy to be a plan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47242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an asteroi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3809880" cy="385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Comets, Asteroids, Plutoids, and Meteors for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8002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am a mess between Mars and Jupi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43400" y="46483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asteroid bel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37176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ld Card for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37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ientists theorize that the Solar System started as a ____________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502920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a large cloud of dust and g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ld Card for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876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se allow life to survive on Ear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76920" y="4419720"/>
            <a:ext cx="304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are the Goldilocks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09480" y="2514600"/>
            <a:ext cx="3810240" cy="319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ld Card for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288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ar System measurement. The distance from the Earth to the Su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43434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tronomical Un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9480" y="2362320"/>
            <a:ext cx="3989520" cy="359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ld Card for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lanet is thirty times as far away from the Sun as Ear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81480" y="50292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Neptu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219320" y="2057400"/>
            <a:ext cx="308592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ld Card for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the largest planet in the Solar System. This is the smallest planet in the Solar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81480" y="5029200"/>
            <a:ext cx="3048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Jupi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Mercu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85800" y="2362320"/>
            <a:ext cx="3809880" cy="33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S.S. Scale for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argest planet in our Solar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472428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Jupit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85800" y="2057400"/>
            <a:ext cx="385596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The S.S. Scale for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7242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number of Earths that can fit into the diameter of the Su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44956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100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4267080" cy="324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The S.S. Scale for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re the planets in order from closest to the Sun to those farthest a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4419720"/>
            <a:ext cx="304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s Mercury, Venus, Earth, Mars, Jupiter, Saturn, Uranus, Neptun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4038480" cy="39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The S.S Scale for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956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are the planets ranked from smallest to largest by diame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495680"/>
            <a:ext cx="3047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Mercury, Mars, Venus, Earth, Neptune, Uranus, Saturn, Jupite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04920" y="2819520"/>
            <a:ext cx="3809880" cy="253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The Inner Planets for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re the four inner, rocky plan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4572000"/>
            <a:ext cx="39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Mercury, Venus, Earth, Mar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4114800" cy="373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Inner Planets for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makes us different from the Gas Giant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4114800"/>
            <a:ext cx="3962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your composition, size, mass, revolution period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09480" y="2286000"/>
            <a:ext cx="3810240" cy="370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28600" y="2209680"/>
            <a:ext cx="5486400" cy="40467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Inner Planets for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rs surface is red for this reas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48769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volcanic dus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16:03:23Z</dcterms:created>
  <dc:creator>Ronald Smtih</dc:creator>
  <dc:description/>
  <dc:language>en-US</dc:language>
  <cp:lastModifiedBy>asd</cp:lastModifiedBy>
  <dcterms:modified xsi:type="dcterms:W3CDTF">2009-11-02T23:04:32Z</dcterms:modified>
  <cp:revision>29</cp:revision>
  <dc:subject>The Solar System</dc:subject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15584134</vt:r8>
  </property>
  <property fmtid="{D5CDD505-2E9C-101B-9397-08002B2CF9AE}" pid="3" name="_AuthorEmail">
    <vt:lpwstr>rsmith@tumwater.k12.wa.us</vt:lpwstr>
  </property>
  <property fmtid="{D5CDD505-2E9C-101B-9397-08002B2CF9AE}" pid="4" name="_AuthorEmailDisplayName">
    <vt:lpwstr>Ron Smith</vt:lpwstr>
  </property>
  <property fmtid="{D5CDD505-2E9C-101B-9397-08002B2CF9AE}" pid="5" name="_EmailSubject">
    <vt:lpwstr>Montesano Institute Assignments</vt:lpwstr>
  </property>
</Properties>
</file>