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4C12A-6957-47B3-BD5B-5129D34B6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2D1E9-A037-4938-944B-D8C001D8D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7AE51-50F2-4B04-A0CC-7685801D1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76BF0-51CF-424A-A5D4-019B78498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4875C-C7AC-4A15-AA0B-C64B6DA53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91F61-DFF7-4C5C-9C0E-7985DB9A3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E830C-146E-4419-B4CE-73ABB8A2D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98366-4FE3-4874-A248-605C1CDFA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71CDE-9C49-4C8A-A2D8-0BB556CEC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3C14C-A7FB-4A11-A57A-B52C0E6A5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0A267-BA14-43C8-A1F1-973FF5816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10F88-16F5-4FB6-A924-E2AF2BB6D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5A454-95D0-4DD3-B989-6AF07F352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BD3E6-86A2-4D99-80E6-9C6C8D499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E99F1-AE6B-4017-BF0E-C538173E6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7AA439-A517-44DB-8E7C-98F10E21C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54133-3B82-4A86-9710-05C26C5EB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24F4E-044C-4ED8-B717-C59C35C12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9DBFF-44E8-4F1D-9E3B-E00BF0EA3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D0FB0-FF53-4A5C-9D82-60FBAF842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AE2D2-A0DE-4DE2-8FC3-7EE50A736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B04C2-B2F5-4284-AC01-4CC07990B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56179-2525-47BD-A9D5-65AD9DD68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5FEEB-4DCE-4459-A7FB-A94A45260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0D9E-3B6F-4722-B9EA-23E148873695}"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966F-A47A-427D-9B0E-87F5E529ED9A}"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roject Alert</a:t>
            </a:r>
            <a:endParaRPr b="0" lang="en-US" sz="5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6-</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sting Internal and External Pressures to Use Dru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s</a:t>
            </a:r>
            <a:endParaRPr b="0" lang="en-US" sz="4000" spc="-1" strike="noStrike">
              <a:solidFill>
                <a:srgbClr val="ffffff"/>
              </a:solidFill>
              <a:latin typeface="Arial"/>
            </a:endParaRPr>
          </a:p>
        </p:txBody>
      </p:sp>
      <p:sp>
        <p:nvSpPr>
          <p:cNvPr id="21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o help students learn how to resist external pressures to use drug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o help students understand the concept of internal pressur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To help students learn how to resist internal pres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we will focus more on pressure from friends. We’ll also learn to recognize pressure from inside ourselves. Then we’ll practice resisting these pres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685440"/>
            <a:ext cx="7772400" cy="5638680"/>
          </a:xfrm>
          <a:prstGeom prst="rect">
            <a:avLst/>
          </a:prstGeom>
          <a:noFill/>
          <a:ln w="0">
            <a:noFill/>
          </a:ln>
        </p:spPr>
        <p:txBody>
          <a:bodyPr lIns="90000" rIns="90000" tIns="46800" bIns="46800" anchor="t">
            <a:normAutofit/>
          </a:bodyPr>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Let’s look at the Ways to Say “no” poster.  Remember that we always have a choice. We can always say ‘no.’ Practicing saying ‘no’ will help us resist pressures to use drugs.</a:t>
            </a:r>
            <a:endParaRPr b="0" lang="en-US" sz="2700" spc="-1" strike="noStrike">
              <a:solidFill>
                <a:srgbClr val="ffffff"/>
              </a:solidFill>
              <a:latin typeface="Arial"/>
            </a:endParaRPr>
          </a:p>
          <a:p>
            <a:pPr marL="4539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lot of pressure to use drugs comes from other people, like if you’re at a party and someone offers you a joint.</a:t>
            </a:r>
            <a:endParaRPr b="0" lang="en-US" sz="2700" spc="-1" strike="noStrike">
              <a:solidFill>
                <a:srgbClr val="ffffff"/>
              </a:solidFill>
              <a:latin typeface="Arial"/>
            </a:endParaRPr>
          </a:p>
          <a:p>
            <a:pPr marL="45396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an you come up with a situation in which you might feel directly pressured to use drugs?</a:t>
            </a:r>
            <a:endParaRPr b="0" lang="en-US" sz="2700" spc="-1" strike="noStrike">
              <a:solidFill>
                <a:srgbClr val="ffffff"/>
              </a:solidFill>
              <a:latin typeface="Arial"/>
            </a:endParaRPr>
          </a:p>
          <a:p>
            <a:pPr marL="453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09120" y="456840"/>
            <a:ext cx="8001000" cy="5715000"/>
          </a:xfrm>
          <a:prstGeom prst="rect">
            <a:avLst/>
          </a:prstGeom>
          <a:noFill/>
          <a:ln w="0">
            <a:noFill/>
          </a:ln>
        </p:spPr>
        <p:txBody>
          <a:bodyPr lIns="90000" rIns="90000" tIns="46800" bIns="46800" anchor="t">
            <a:normAutofit/>
          </a:bodyPr>
          <a:p>
            <a:pPr marL="453960" indent="-352440">
              <a:lnSpc>
                <a:spcPct val="11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w I’m going to give you a chance to feel these pressures and to practice saying ‘no’ in this kind of situation. I’m going to try to get you to agree to use drugs. Using the techniques on the poster, you are going to refuse my offer. Be realistic. Try to imagine you are really being offered a cigarette or a joint and respond in a way that feels right to you. Don’t give in if I put the pressure on.</a:t>
            </a:r>
            <a:endParaRPr b="0" lang="en-US" sz="2600" spc="-1" strike="noStrike">
              <a:solidFill>
                <a:srgbClr val="ffffff"/>
              </a:solidFill>
              <a:latin typeface="Arial"/>
            </a:endParaRPr>
          </a:p>
          <a:p>
            <a:pPr marL="45396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53960" indent="-352440">
              <a:lnSpc>
                <a:spcPct val="11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ember that you won’t have to resist forever. It won’t take long before others see you as nonusers and let up.</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rnal Pressures</a:t>
            </a:r>
            <a:endParaRPr b="0" lang="en-US" sz="3100" spc="-1" strike="noStrike">
              <a:solidFill>
                <a:srgbClr val="ffffff"/>
              </a:solidFill>
              <a:latin typeface="Arial"/>
            </a:endParaRPr>
          </a:p>
        </p:txBody>
      </p:sp>
      <p:sp>
        <p:nvSpPr>
          <p:cNvPr id="22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 just practiced resisting pressures that you feel when someone offers you drugs - like a cigarette, a joint, or a beer. Sometimes no one says anything to you but you still feel pressure, like when people at a party are smoking marijuana or drinking. No one pressures you or even asks you if you want a joint or a drink, but you still feel like you should do it. Or, you are feeling out of it and you think, ‘Maybe I should have a beer - all the cool kids do.’”</a:t>
            </a:r>
            <a:endParaRPr b="0" lang="en-US" sz="2700" spc="-1" strike="noStrike">
              <a:solidFill>
                <a:srgbClr val="ffffff"/>
              </a:solidFill>
              <a:latin typeface="Arial"/>
            </a:endParaRPr>
          </a:p>
          <a:p>
            <a:pPr marL="4539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rnal Pressures</a:t>
            </a:r>
            <a:endParaRPr b="0" lang="en-US" sz="3100" spc="-1" strike="noStrike">
              <a:solidFill>
                <a:srgbClr val="ffffff"/>
              </a:solidFill>
              <a:latin typeface="Arial"/>
            </a:endParaRPr>
          </a:p>
        </p:txBody>
      </p:sp>
      <p:sp>
        <p:nvSpPr>
          <p:cNvPr id="22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1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both these situations, you feel real pressure. Anyone would. It may seem as if there’s a voice inside your head telling you to smoke a cigarette, take a drink, or do drugs. Now I need two volunteers for a non-speaking role to help me demonstrate this kind of pressure. Each of you will be the ‘thinker’ who will feel the pressure from inside yourself. I will act as the thoughts that are pressuring you.</a:t>
            </a:r>
            <a:endParaRPr b="0" lang="en-US" sz="2700" spc="-1" strike="noStrike">
              <a:solidFill>
                <a:srgbClr val="ffffff"/>
              </a:solidFill>
              <a:latin typeface="Arial"/>
            </a:endParaRPr>
          </a:p>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6000"/>
          </a:bodyPr>
          <a:p>
            <a:pPr marL="435600" indent="-33804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w you can practice resisting pressures from inside yourself. I am going to hand out one sheet of Internal Pressure Scenarios to each student.</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k at the first situation on your sheet.</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agine that you feel this pressure.</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 the sheet write at least three things you could say to yourself or do to resist the pressure.</a:t>
            </a:r>
            <a:endParaRPr b="0" lang="en-US" sz="2600" spc="-1" strike="noStrike">
              <a:solidFill>
                <a:srgbClr val="ffffff"/>
              </a:solidFill>
              <a:latin typeface="Arial"/>
            </a:endParaRPr>
          </a:p>
          <a:p>
            <a:pPr marL="4356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35600" indent="-33804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udents who have Sheet A, raise your hands.</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one of you will read or act out one answer to the first situation. </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udents with sheets B-D will have a chance to do the same!</a:t>
            </a:r>
            <a:endParaRPr b="0" lang="en-US" sz="2600" spc="-1" strike="noStrike">
              <a:solidFill>
                <a:srgbClr val="ffffff"/>
              </a:solidFill>
              <a:latin typeface="Arial"/>
            </a:endParaRPr>
          </a:p>
          <a:p>
            <a:pPr lvl="1" marL="882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453960" indent="-352440">
              <a:lnSpc>
                <a:spcPct val="11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ou’ve come up with some really good ways to say ‘no’ to internal pressures. You really can resist pressures from inside yourself. These ways to say ‘no’ can be used to resist pressures from other people and pressures from inside yourself.</a:t>
            </a:r>
            <a:endParaRPr b="0" lang="en-US" sz="2700" spc="-1" strike="noStrike">
              <a:solidFill>
                <a:srgbClr val="ffffff"/>
              </a:solidFill>
              <a:latin typeface="Arial"/>
            </a:endParaRPr>
          </a:p>
          <a:p>
            <a:pPr marL="45396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453960" indent="-352440">
              <a:lnSpc>
                <a:spcPct val="11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mework: Complete your Internal Pressure Scenarios sheet for homework and show them to your parent(s) or other trusted adul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7:55:02Z</dcterms:created>
  <dc:creator>asd</dc:creator>
  <dc:description/>
  <dc:language>en-US</dc:language>
  <cp:lastModifiedBy>asd</cp:lastModifiedBy>
  <dcterms:modified xsi:type="dcterms:W3CDTF">2011-03-18T22:32:57Z</dcterms:modified>
  <cp:revision>3</cp:revision>
  <dc:subject/>
  <dc:title>Project Alert</dc:title>
</cp:coreProperties>
</file>