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gif" ContentType="image/gif"/>
  <Override PartName="/ppt/media/image10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8CBA-371C-43EC-B01B-04F741F5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7BB2-C72D-4470-AFD4-78049997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7A50-7DAB-425C-88C4-9967D851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88E8-5F43-4801-BAA1-CDB6AF1C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F1B9-26CF-45D4-B7B7-9D34DAD0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D921-F9A4-4C8A-BAA5-0C4F331A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B33-9324-4BB4-9F40-35C29DC4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7E08-6E4B-4618-8949-1B37915F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65B9-FBB6-4490-944A-869D8DE6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E621-7A7A-4B7F-AEF2-1487F354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617A-08A3-460A-BBA3-38618981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BEF3-DBA2-462F-9440-3CDE0401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C519-5A48-4CA7-B34D-5509CDB7F5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old.jccc.net/~pdecell/photosyn/phointro.html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Labs_Activities/Phot_Resp/Photosynthetic%20organelle%20in%20plant%20cells" TargetMode="External"/><Relationship Id="rId2" Type="http://schemas.openxmlformats.org/officeDocument/2006/relationships/hyperlink" Target="file:///Labs_Activities/Phot_Resp/Photosynthetic%20pigments%20in%20chloroplasts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hotosynthesis &amp; Respi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722840" cy="50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happens during photosynthesi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1522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 dioxide enters the lea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holes called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hlinkClick r:id="rId1" action="ppaction://hlinksldjump"/>
              </a:rPr>
              <a:t>stomat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ines with the sto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n the chloroplasts throug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hemical reaction to make gluc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gar is moved through tub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leaf to the roots, stems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uits of the pl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 sugar is used right awa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plant for energy; some is stored as starch; and some is built into plant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248520" y="1676520"/>
            <a:ext cx="289548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y is this important to u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y is this important to u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2437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annot make o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 food (glucos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), we must 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food from pl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334040" y="2286000"/>
            <a:ext cx="480996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y is this important to u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s are the first ste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food ch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xygen rele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photosynthesis 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cessary for all li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42040" y="5041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60920" y="2438280"/>
            <a:ext cx="44830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at is Cellular Respiration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at is Cellular Respiration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the energy that was in sunlight is changed into chemical energy b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photosynthesi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, an organism has to transform the chemical energy into a form that can be used by the org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cess i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cellular respi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escribe Cellular Respi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escribe Cellular Respi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eakdown of glucose molecules to release energy (Taking the glucose that the plant made and using it for our own energ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s place in 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ving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9880" y="3429000"/>
            <a:ext cx="498492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is the chemical equation for cellular respiration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is the chemical equation for cellular respiration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772400" cy="2663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50800" y="5486400"/>
            <a:ext cx="607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The opposite of photosynthe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at is Photosynthesi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oc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photosynthesis is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emical rea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 most importa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reaction on ou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57680" y="3124080"/>
            <a:ext cx="3586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is the Equation for the Chemical Reaction of Photosynthesi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is the equation for the chemical reaction of photosynthesi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83055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is the equation for the chemical reaction of photosynthesi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8458200" cy="1271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520" y="487692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molecules of carbon dioxide react with six molecules of water to form 1 molecule of glucose and six molecules of oxy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83059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escribe Photosynthes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escribe Photosynthes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152280" y="1523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cess of changing light energy to chemical energ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stored as sug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in plants and so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a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s need light energy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s place in th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chloropla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chlorophy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he g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gment in pl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410080" y="2362320"/>
            <a:ext cx="373392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happens during photosynthesi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happens during photosynthesi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s capture light energy and use that energy to make gluc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light provides the energy needed by chlorophyll to change molecules o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 dioxide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into gluc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gen is als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d in th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038480" y="3429000"/>
            <a:ext cx="494352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0:48:27Z</dcterms:created>
  <dc:creator>Mary Poarch</dc:creator>
  <dc:description/>
  <dc:language>en-US</dc:language>
  <cp:lastModifiedBy>asd</cp:lastModifiedBy>
  <dcterms:modified xsi:type="dcterms:W3CDTF">2010-05-03T21:13:38Z</dcterms:modified>
  <cp:revision>31</cp:revision>
  <dc:subject/>
  <dc:title>Photosynthesis &amp; Respiration</dc:title>
</cp:coreProperties>
</file>