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6.gif" ContentType="image/gif"/>
  <Override PartName="/ppt/media/image10.jpeg" ContentType="image/jpeg"/>
  <Override PartName="/ppt/media/image7.png" ContentType="image/png"/>
  <Override PartName="/ppt/media/image8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5F69-5737-43D9-9D69-31B188563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C1C4-86BA-4A76-AC37-7505A93D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FBBB-F158-4B8C-8AC6-BA9CB3768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DCEC-1D67-499A-A325-076ED819E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16E2-AFF6-48A4-A28A-B3E3F63B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63EB-9B5C-46B7-9599-F2A5ED87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9465-5398-46FF-A511-3074FB48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776C-D3A4-49D1-9F58-6BEE11DE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8D5B-1E21-4EE8-B576-6BB2AD60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D653-2142-473C-879E-C71D2398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CA9B-198A-46EF-B2A3-A824CAE8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4237-3E32-49B9-8958-087EF33A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90D2-5088-4F53-808D-EF32C2EEBA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old.jccc.net/~pdecell/photosyn/phointro.html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Labs_Activities/Phot_Resp/Photosynthetic%20organelle%20in%20plant%20cells" TargetMode="External"/><Relationship Id="rId2" Type="http://schemas.openxmlformats.org/officeDocument/2006/relationships/hyperlink" Target="file:///Labs_Activities/Phot_Resp/Photosynthetic%20pigments%20in%20chloroplasts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Photosynthesis &amp; Respir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4722840" cy="50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What happens during photosynthesis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1522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bon dioxide enters the lea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ough holes called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  <a:hlinkClick r:id="rId1" action="ppaction://hlinksldjump"/>
              </a:rPr>
              <a:t>stomat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bines with the stor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in the chloroplasts throug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hemical reaction to make gluc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ugar is moved through tub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leaf to the roots, stems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uits of the pl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of the sugar is used right awa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e plant for energy; some is stored as starch; and some is built into plant tiss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248520" y="1676520"/>
            <a:ext cx="289548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Why is this important to us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Why is this important to us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24379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cannot make ou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n food (glucos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), we must g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food from pla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334040" y="2286000"/>
            <a:ext cx="4809960" cy="40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Why is this important to us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ts are the first step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food ch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5560" indent="-205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xygen rele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ing photosynthesis 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cessary for all liv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42040" y="5041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60920" y="2438280"/>
            <a:ext cx="448308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What is Cellular Respiration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What is Cellular Respiration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ce the energy that was in sunlight is changed into chemical energy by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photosynthesi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, an organism has to transform the chemical energy into a form that can be used by the organ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rocess is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cellular respir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Describe Cellular Respir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Describe Cellular Respir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reakdown of glucose molecules to release energy (Taking the glucose that the plant made and using it for our own energ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s place in 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ving th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809880" y="3429000"/>
            <a:ext cx="498492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What is the chemical equation for cellular respiration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What is the chemical equation for cellular respiration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7772400" cy="2663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450800" y="5486400"/>
            <a:ext cx="607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The opposite of photosynthes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What is Photosynthesis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oce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photosynthesis is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hemical rea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the most importa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cal reaction on ou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557680" y="3124080"/>
            <a:ext cx="3586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9807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What is the Equation for the Chemical Reaction of Photosynthesis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What is the equation for the chemical reaction of photosynthesis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2743200"/>
            <a:ext cx="83055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What is the equation for the chemical reaction of photosynthesis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3886200"/>
            <a:ext cx="8458200" cy="1271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3520" y="4876920"/>
            <a:ext cx="830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 molecules of carbon dioxide react with six molecules of water to form 1 molecule of glucose and six molecules of oxyg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09480" y="1905120"/>
            <a:ext cx="830592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Describe Photosynthesi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Describe Photosynthesi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152280" y="15235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cess of changing light energy to chemical energ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stored as sug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rs in plants and so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ga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ts need light energy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nd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s place in the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chloroplas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  <a:hlinkClick r:id="rId2"/>
              </a:rPr>
              <a:t>chlorophyl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the gr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gment in pl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410080" y="2362320"/>
            <a:ext cx="373392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What happens during photosynthesis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What happens during photosynthesis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ts capture light energy and use that energy to make gluc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nlight provides the energy needed by chlorophyll to change molecules o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bon dioxide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into gluc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ygen is als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eased in th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038480" y="3429000"/>
            <a:ext cx="494352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00:48:27Z</dcterms:created>
  <dc:creator>Mary Poarch</dc:creator>
  <dc:description/>
  <dc:language>en-US</dc:language>
  <cp:lastModifiedBy>asd</cp:lastModifiedBy>
  <dcterms:modified xsi:type="dcterms:W3CDTF">2010-05-03T21:13:38Z</dcterms:modified>
  <cp:revision>31</cp:revision>
  <dc:subject/>
  <dc:title>Photosynthesis &amp; Respiration</dc:title>
</cp:coreProperties>
</file>