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4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6.gif" ContentType="image/gif"/>
  <Override PartName="/ppt/media/image10.jpeg" ContentType="image/jpeg"/>
  <Override PartName="/ppt/media/image7.png" ContentType="image/png"/>
  <Override PartName="/ppt/media/image8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06EB-5232-48A8-A4B8-74F049C77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563E-8D9B-478E-BC69-6E601007F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3157-20F6-4EA9-9112-2E3FC604B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5476-D56D-40C6-B0C8-03B1F1143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B687-E263-4304-9003-B55C64948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608F-A4E0-4407-BD1E-F9AA7676F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7C3E-A996-4928-908B-D79C6B086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02C4-049E-4E5B-9D6F-7CA54BFEF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A94E-1A5F-47C2-8358-F11ED31A8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E8F0-3471-403C-98FC-45493BE8F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D182-5729-447B-ACD6-7585D486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B826-F92A-4533-8123-F95754C5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E63FB-2F52-4C73-A96E-79C0E3A8D1D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old.jccc.net/~pdecell/photosyn/phointro.html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Labs_Activities/Phot_Resp/Photosynthetic%20organelle%20in%20plant%20cells" TargetMode="External"/><Relationship Id="rId2" Type="http://schemas.openxmlformats.org/officeDocument/2006/relationships/hyperlink" Target="file:///Labs_Activities/Phot_Resp/Photosynthetic%20pigments%20in%20chloroplasts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Photosynthesis &amp; Respir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4722840" cy="50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What happens during photosynthesis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-1522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bon dioxide enters the leaf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ough holes called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  <a:hlinkClick r:id="rId1" action="ppaction://hlinksldjump"/>
              </a:rPr>
              <a:t>stomat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bines with the stor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ergy in the chloroplasts throug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hemical reaction to make gluc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ugar is moved through tub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leaf to the roots, stems 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uits of the pla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of the sugar is used right awa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the plant for energy; some is stored as starch; and some is built into plant tiss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248520" y="1676520"/>
            <a:ext cx="2895480" cy="40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Why is this important to us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Why is this important to us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24379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cannot make ou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wn food (glucose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ergy), we must g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r food from pla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334040" y="2286000"/>
            <a:ext cx="4809960" cy="40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Why is this important to us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-205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ts are the first step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05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food ch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05560" indent="-205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xygen rele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05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ring photosynthesis i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05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cessary for all liv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05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n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42040" y="5041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660920" y="2438280"/>
            <a:ext cx="4483080" cy="34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What is Cellular Respiration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What is Cellular Respiration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ce the energy that was in sunlight is changed into chemical energy by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  <a:hlinkClick r:id="rId1"/>
              </a:rPr>
              <a:t>photosynthesis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, an organism has to transform the chemical energy into a form that can be used by the organis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process is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cellular respir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Describe Cellular Respir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Describe Cellular Respir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reakdown of glucose molecules to release energy (Taking the glucose that the plant made and using it for our own energ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kes place in 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ving th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809880" y="3429000"/>
            <a:ext cx="4984920" cy="30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What is the chemical equation for cellular respiration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What is the chemical equation for cellular respiration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762120" y="2590920"/>
            <a:ext cx="7772400" cy="2663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450800" y="5486400"/>
            <a:ext cx="607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The opposite of photosynthesi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What is Photosynthesis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proces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photosynthesis is 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hemical reac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the most importa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mical reaction on ou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n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557680" y="3124080"/>
            <a:ext cx="35863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198072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What is the Equation for the Chemical Reaction of Photosynthesis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What is the equation for the chemical reaction of photosynthesis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3520" y="2743200"/>
            <a:ext cx="83055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What is the equation for the chemical reaction of photosynthesis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" y="3886200"/>
            <a:ext cx="8458200" cy="1271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33520" y="4876920"/>
            <a:ext cx="8305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 molecules of carbon dioxide react with six molecules of water to form 1 molecule of glucose and six molecules of oxyg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09480" y="1905120"/>
            <a:ext cx="830592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Describe Photosynthesi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Describe Photosynthesi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-152280" y="15235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cess of changing light energy to chemical energ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ergy stored as sug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curs in plants and som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ga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ts need light energy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and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kes place in the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  <a:hlinkClick r:id="rId1"/>
              </a:rPr>
              <a:t>chloroplas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ing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  <a:hlinkClick r:id="rId2"/>
              </a:rPr>
              <a:t>chlorophyl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the gre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gment in pla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5410080" y="2362320"/>
            <a:ext cx="3733920" cy="40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What happens during photosynthesis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What happens during photosynthesis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ts capture light energy and use that energy to make gluc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nlight provides the energy needed by chlorophyll to change molecules of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bon dioxide 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er into gluc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xygen is als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eased in thi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038480" y="3429000"/>
            <a:ext cx="494352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1T00:48:27Z</dcterms:created>
  <dc:creator>Mary Poarch</dc:creator>
  <dc:description/>
  <dc:language>en-US</dc:language>
  <cp:lastModifiedBy>asd</cp:lastModifiedBy>
  <dcterms:modified xsi:type="dcterms:W3CDTF">2010-05-03T21:13:38Z</dcterms:modified>
  <cp:revision>31</cp:revision>
  <dc:subject/>
  <dc:title>Photosynthesis &amp; Respiration</dc:title>
</cp:coreProperties>
</file>