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gif" ContentType="image/gif"/>
  <Override PartName="/ppt/media/image10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C9B-D2D4-48C2-B8FC-2CC8E8F5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93F-4BAB-4AA9-A710-6DC9E2D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34A-DA98-4E64-A982-A7FD72EA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382-8F66-4257-B9B2-8E6FF00B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7B3-2E07-4505-A26E-EB66D115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2CF-B0D4-4780-A8EA-558C5D76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635-BB70-40C3-AC8B-DD4C5AD7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7D5-8224-4FFD-99DA-8D3779F2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A8C-3B76-4F84-ACF5-638E2E0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C28-3D6D-4943-B8C1-41D7AE6B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922-77A0-43A6-9272-3E96C394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09D-F1A7-4BD5-BADB-A15E980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9CB-58AE-48F7-9A9E-6FE6CA20A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ld.jccc.net/~pdecell/photosyn/phointro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abs_Activities/Phot_Resp/Photosynthetic%20organelle%20in%20plant%20cells" TargetMode="External"/><Relationship Id="rId2" Type="http://schemas.openxmlformats.org/officeDocument/2006/relationships/hyperlink" Target="file:///Labs_Activities/Phot_Resp/Photosynthetic%20pigments%20in%20chloroplasts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enters the le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holes called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 action="ppaction://hlinksldjump"/>
              </a:rPr>
              <a:t>stom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s with the sto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n the chloroplasts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emical reaction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gar is moved through tub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eaf to the roots, stem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s of the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sugar is used right a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plant for energy; some is stored as starch; and some is built into plant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28954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not make 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 food (gluco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), we must 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food from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34040" y="2286000"/>
            <a:ext cx="4809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are the first ste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ood ch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ygen rele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photosynthesis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for all l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040" y="504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60920" y="2438280"/>
            <a:ext cx="44830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energy that was in sunlight is changed into chemical energ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photosynthes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an organism has to transform the chemical energy into a form that can be used by th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ellular re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eakdown of glucose molecules to release energy (Taking the glucose that the plant made and using it for our own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place in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4984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266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50800" y="54864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opposite of 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hotosynthesis is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most importa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 on ou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57680" y="3124080"/>
            <a:ext cx="35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83055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8458200" cy="127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48769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olecules of carbon dioxide react with six molecules of water to form 1 molecule of glucose and six molecules of oxy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83059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Photosynth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152280" y="1523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hanging light energy to chemic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stored as s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in plants and 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need light energ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place in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chloropla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chlorophy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g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gment i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37339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during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capture light energy and use that energy to make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rovides the energy needed by chlorophyll to change molecule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dioxide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in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is al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943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asd</cp:lastModifiedBy>
  <dcterms:modified xsi:type="dcterms:W3CDTF">2010-05-03T21:13:38Z</dcterms:modified>
  <cp:revision>31</cp:revision>
  <dc:subject/>
  <dc:title>Photosynthesis &amp; Respiration</dc:title>
</cp:coreProperties>
</file>