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whoosh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6FCD-1954-4103-985C-F78FE48A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8A63-8F14-4939-9CE1-ED6331E1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8B063-D54F-41BD-A87B-D6654531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BD9D-0FF1-4539-A5EF-95D0DDF9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E656-BA53-4F2B-A29B-3B6B9180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BF44-9995-4029-BD0A-AB8C196B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3942-5BAE-4A36-8E65-C4BD8899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FA22-5F99-40C4-A7B5-4CA6C311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C222-2445-4DD6-BE59-6860D70B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3D60-C4E2-48EE-9137-7CCE9856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DA17-FD91-438D-AF4E-CEC64150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4C57-DDC5-4F9B-B7B1-BD7B32B8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26AA-E5D3-41E0-87A0-95DE5993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AF8F-5FF6-4885-BA04-69891B56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79D9-2CD7-4FC4-BB36-F38435A1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85B6-19F0-425D-B266-2D9C1C75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8D5F-E95A-4700-825B-ACE80F04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50008-702E-43EA-9A24-650900AF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4D56F-51A4-4D22-9CA6-415F8E02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CFB4-C67C-4374-95C7-AB9C6FBF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7A0F8-F0B9-4C17-9457-EEB0BD13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5607-1B2D-4ABA-875B-EB568B10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D103-DFC3-46FD-91BB-3353EFA2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F2B73-96F7-47CF-B48F-4D42C836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98AF-BC2F-4CAE-B0F1-7957F8110D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97D4-76F8-4F75-AA55-7DE2CCD9D0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33.xml"/><Relationship Id="rId4" Type="http://schemas.openxmlformats.org/officeDocument/2006/relationships/slide" Target="slide43.xml"/><Relationship Id="rId5" Type="http://schemas.openxmlformats.org/officeDocument/2006/relationships/slide" Target="slide6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35.xml"/><Relationship Id="rId9" Type="http://schemas.openxmlformats.org/officeDocument/2006/relationships/slide" Target="slide45.xml"/><Relationship Id="rId10" Type="http://schemas.openxmlformats.org/officeDocument/2006/relationships/slide" Target="slide5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37.xml"/><Relationship Id="rId14" Type="http://schemas.openxmlformats.org/officeDocument/2006/relationships/slide" Target="slide47.xml"/><Relationship Id="rId15" Type="http://schemas.openxmlformats.org/officeDocument/2006/relationships/slide" Target="slide57.xml"/><Relationship Id="rId16" Type="http://schemas.openxmlformats.org/officeDocument/2006/relationships/slide" Target="slide9.xml"/><Relationship Id="rId17" Type="http://schemas.openxmlformats.org/officeDocument/2006/relationships/slide" Target="slide11.xml"/><Relationship Id="rId18" Type="http://schemas.openxmlformats.org/officeDocument/2006/relationships/slide" Target="slide1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59.xml"/><Relationship Id="rId22" Type="http://schemas.openxmlformats.org/officeDocument/2006/relationships/slide" Target="slide51.xml"/><Relationship Id="rId23" Type="http://schemas.openxmlformats.org/officeDocument/2006/relationships/slide" Target="slide41.xml"/><Relationship Id="rId24" Type="http://schemas.openxmlformats.org/officeDocument/2006/relationships/slide" Target="slide21.xml"/><Relationship Id="rId25" Type="http://schemas.openxmlformats.org/officeDocument/2006/relationships/slide" Target="slide61.xml"/><Relationship Id="rId26" Type="http://schemas.openxmlformats.org/officeDocument/2006/relationships/slide" Target="slide31.xml"/><Relationship Id="rId27" Type="http://schemas.openxmlformats.org/officeDocument/2006/relationships/slide" Target="slide29.xml"/><Relationship Id="rId28" Type="http://schemas.openxmlformats.org/officeDocument/2006/relationships/slide" Target="slide27.xml"/><Relationship Id="rId29" Type="http://schemas.openxmlformats.org/officeDocument/2006/relationships/slide" Target="slide25.xm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2057400"/>
            <a:ext cx="7696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ll Jeopard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457200" y="56386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920" y="1754280"/>
            <a:ext cx="749016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ell membran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17524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lain how you could tell the difference between an animal and a plant cell when looking in a microscop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shape, proximity, large vacuole in center, texture of the outside structu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0020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are three examples of organel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57400" y="18288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85256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ous answ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00200" y="15238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food storage or pantry of a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26920" y="1830240"/>
            <a:ext cx="7562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vacuol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00200" y="2362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362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14400" y="1752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powerhous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mitochondria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16765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are the blue prints that tell the cell how to make new cell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80880"/>
            <a:ext cx="1143000" cy="105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imal Ce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296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2592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168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14479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1296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592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8168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24192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9560" y="380880"/>
            <a:ext cx="12524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ell P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6840" y="380880"/>
            <a:ext cx="11383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lant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78200" y="380880"/>
            <a:ext cx="12020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rts 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80880"/>
            <a:ext cx="14479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crosc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296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592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8168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33908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7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296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592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8168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3624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8168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2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2592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1296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4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53341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6872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6872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6872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8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68720" y="2438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6872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380880"/>
            <a:ext cx="99072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0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3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6832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the DN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0200" y="2362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47920" y="16002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converts sunlight to energy, also known as “solar panel”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1120" y="1754280"/>
            <a:ext cx="756432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chloroplas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00200" y="160020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828800" y="1752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ructures that a plant cell has that an animal cell does n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350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ell wall, chloropla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1600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hape of the plant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 rectang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2057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exture or a plant cell’s outer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26920" y="1753920"/>
            <a:ext cx="7490160" cy="22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rough and rigi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00200" y="10666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one large structure in the plant cell and many smaller ones in the animal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6002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me four organelles within the animal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vacuo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00200" y="19810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 the mitochondria, this organelle is involved in energy conversion within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hloropla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0020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function of the nucleu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: controls all of the functions of the cell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792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function cell wall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support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7621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362320" y="2209680"/>
            <a:ext cx="55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ittle organs, the small specialized cell parts that carry out functions in a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753840" y="1829880"/>
            <a:ext cx="74912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n organel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60020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green pigment absorbs sunl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1906560"/>
            <a:ext cx="749016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ous answ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609480" y="51814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26920" y="1600200"/>
            <a:ext cx="7490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hlorophyll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752480" y="14479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organelle distributes materials such as oxygen and food to different parts of the cell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ytoplasm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676520" y="160020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286000" y="2057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s is the brain or control center of the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nucleu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600200" y="175248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905120" y="1752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lain the differences between the functions of cell membrane and cell w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: cell wall supports and protects the cell and cell membrane provides flexibility and dictates what comes in and out of the c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523880" y="13716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type of microscope uses two lense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26920" y="1676520"/>
            <a:ext cx="749016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ompound Light Microscope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76520" y="13716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part of the microscope controls the amount of light reaching the object being viewed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0020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hape of an animal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762120" y="525780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3837"/>
                </a:moveTo>
                <a:lnTo>
                  <a:pt x="14273" y="6448"/>
                </a:ln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lnTo>
                  <a:pt x="18660" y="10800"/>
                </a:lnTo>
                <a:lnTo>
                  <a:pt x="17006" y="10800"/>
                </a:lnTo>
                <a:lnTo>
                  <a:pt x="17006" y="17989"/>
                </a:lnTo>
                <a:lnTo>
                  <a:pt x="6388" y="17989"/>
                </a:lnTo>
                <a:lnTo>
                  <a:pt x="6388" y="10800"/>
                </a:lnTo>
                <a:lnTo>
                  <a:pt x="4734" y="10800"/>
                </a:lnTo>
                <a:close/>
              </a:path>
              <a:path fill="darkenLess" w="23394" h="21600">
                <a:moveTo>
                  <a:pt x="14273" y="6448"/>
                </a:move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close/>
              </a:path>
              <a:path fill="darkenLess" w="23394" h="21600">
                <a:moveTo>
                  <a:pt x="10774" y="14299"/>
                </a:moveTo>
                <a:lnTo>
                  <a:pt x="12619" y="14299"/>
                </a:lnTo>
                <a:lnTo>
                  <a:pt x="12619" y="17989"/>
                </a:lnTo>
                <a:lnTo>
                  <a:pt x="17006" y="17989"/>
                </a:lnTo>
                <a:lnTo>
                  <a:pt x="17006" y="10800"/>
                </a:lnTo>
                <a:lnTo>
                  <a:pt x="6388" y="10800"/>
                </a:lnTo>
                <a:lnTo>
                  <a:pt x="6388" y="17989"/>
                </a:lnTo>
                <a:lnTo>
                  <a:pt x="10774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Diaphram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600200" y="13716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part of the microscope is used with medium and high power magnification to bring the object into focu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fine adjustment knob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1371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basic unit of every system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cell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90720" y="15238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type of cell shown to the right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1130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 plant cell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295280" y="990720"/>
            <a:ext cx="6096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133720" y="1981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orage areas for food ,water, minerals, and wa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cuo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7920" y="1219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ps energy from light and is where photosynthesis takes pl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920" y="1829880"/>
            <a:ext cx="74901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roun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38080" y="5410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681120" y="1906560"/>
            <a:ext cx="74880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loropla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4572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2860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cell would die if this were remov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the mitochond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057400" y="1752480"/>
            <a:ext cx="48006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ily Doub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3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00200" y="167652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imals cells do not have this because they do not move or produce their own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09480" y="53341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chloroplas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838080" y="5410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00200" y="1600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outermost structure of the animal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533520" y="525780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3837"/>
                </a:moveTo>
                <a:lnTo>
                  <a:pt x="14273" y="6448"/>
                </a:ln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lnTo>
                  <a:pt x="18660" y="10800"/>
                </a:lnTo>
                <a:lnTo>
                  <a:pt x="17006" y="10800"/>
                </a:lnTo>
                <a:lnTo>
                  <a:pt x="17006" y="17989"/>
                </a:lnTo>
                <a:lnTo>
                  <a:pt x="6388" y="17989"/>
                </a:lnTo>
                <a:lnTo>
                  <a:pt x="6388" y="10800"/>
                </a:lnTo>
                <a:lnTo>
                  <a:pt x="4734" y="10800"/>
                </a:lnTo>
                <a:close/>
              </a:path>
              <a:path fill="darkenLess" w="23394" h="21600">
                <a:moveTo>
                  <a:pt x="14273" y="6448"/>
                </a:move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close/>
              </a:path>
              <a:path fill="darkenLess" w="23394" h="21600">
                <a:moveTo>
                  <a:pt x="10774" y="14299"/>
                </a:moveTo>
                <a:lnTo>
                  <a:pt x="12619" y="14299"/>
                </a:lnTo>
                <a:lnTo>
                  <a:pt x="12619" y="17989"/>
                </a:lnTo>
                <a:lnTo>
                  <a:pt x="17006" y="17989"/>
                </a:lnTo>
                <a:lnTo>
                  <a:pt x="17006" y="10800"/>
                </a:lnTo>
                <a:lnTo>
                  <a:pt x="6388" y="10800"/>
                </a:lnTo>
                <a:lnTo>
                  <a:pt x="6388" y="17989"/>
                </a:lnTo>
                <a:lnTo>
                  <a:pt x="10774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13:45:47Z</dcterms:created>
  <dc:creator>Unknown User</dc:creator>
  <dc:description/>
  <dc:language>en-US</dc:language>
  <cp:lastModifiedBy>asd</cp:lastModifiedBy>
  <dcterms:modified xsi:type="dcterms:W3CDTF">2010-03-18T21:35:13Z</dcterms:modified>
  <cp:revision>32</cp:revision>
  <dc:subject/>
  <dc:title>PowerPoint Presentation</dc:title>
</cp:coreProperties>
</file>