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whoosh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1187B-F4D5-4A02-BBED-1C4823C0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51536-0A1B-4743-A6A4-EA4430AE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F245E-752D-48BB-AB6F-CCDABCDD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9404B-18E4-497B-96B0-7929B1E7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4056-0339-4B64-A3DB-28E7C04C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37A3-4278-4037-A34A-CAB446F2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D71D-9840-487D-8883-5EF4CBA3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957C-9463-4626-A3FE-66EA57FA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453E-8F4A-4466-97A9-27A958B7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27F2-768D-4495-BF50-17475ECE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88C6-8FE0-4553-8DFB-622B2144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CD2B9-C84A-4111-896D-C5946CB8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2058-E812-44E7-B62E-3AFB5C27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2B3B-A3DD-4F6A-ADAF-AD37B4EC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5377-8706-4AD7-B321-51B15367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CD03-0FAD-4BB0-8483-8FEE8747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7AE7-8F52-4149-82E9-4A6B7A90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79F91-1AD0-4077-BA78-FBD495CC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B1C93-688E-4EAE-95C9-4663CAAC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3664E-3BC6-4856-BBBC-A45B73A8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F167D-63F1-4536-B021-EC2A9329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58769-AB6A-4689-8C70-BBD0544D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769FE-1132-4337-8B47-22F2EE5C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45ADB-9EB5-426A-BBC6-B4B1FA58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1A45-3628-4494-BD80-0FE2647867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BEB7-E4F2-40E4-B150-4F9974753D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33.xml"/><Relationship Id="rId4" Type="http://schemas.openxmlformats.org/officeDocument/2006/relationships/slide" Target="slide43.xml"/><Relationship Id="rId5" Type="http://schemas.openxmlformats.org/officeDocument/2006/relationships/slide" Target="slide6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35.xml"/><Relationship Id="rId9" Type="http://schemas.openxmlformats.org/officeDocument/2006/relationships/slide" Target="slide45.xml"/><Relationship Id="rId10" Type="http://schemas.openxmlformats.org/officeDocument/2006/relationships/slide" Target="slide5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37.xml"/><Relationship Id="rId14" Type="http://schemas.openxmlformats.org/officeDocument/2006/relationships/slide" Target="slide47.xml"/><Relationship Id="rId15" Type="http://schemas.openxmlformats.org/officeDocument/2006/relationships/slide" Target="slide57.xml"/><Relationship Id="rId16" Type="http://schemas.openxmlformats.org/officeDocument/2006/relationships/slide" Target="slide9.xml"/><Relationship Id="rId17" Type="http://schemas.openxmlformats.org/officeDocument/2006/relationships/slide" Target="slide11.xml"/><Relationship Id="rId18" Type="http://schemas.openxmlformats.org/officeDocument/2006/relationships/slide" Target="slide1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59.xml"/><Relationship Id="rId22" Type="http://schemas.openxmlformats.org/officeDocument/2006/relationships/slide" Target="slide51.xml"/><Relationship Id="rId23" Type="http://schemas.openxmlformats.org/officeDocument/2006/relationships/slide" Target="slide41.xml"/><Relationship Id="rId24" Type="http://schemas.openxmlformats.org/officeDocument/2006/relationships/slide" Target="slide21.xml"/><Relationship Id="rId25" Type="http://schemas.openxmlformats.org/officeDocument/2006/relationships/slide" Target="slide61.xml"/><Relationship Id="rId26" Type="http://schemas.openxmlformats.org/officeDocument/2006/relationships/slide" Target="slide31.xml"/><Relationship Id="rId27" Type="http://schemas.openxmlformats.org/officeDocument/2006/relationships/slide" Target="slide29.xml"/><Relationship Id="rId28" Type="http://schemas.openxmlformats.org/officeDocument/2006/relationships/slide" Target="slide27.xml"/><Relationship Id="rId29" Type="http://schemas.openxmlformats.org/officeDocument/2006/relationships/slide" Target="slide25.xml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8080" y="2057400"/>
            <a:ext cx="76964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ell Jeopard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457200" y="56386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920" y="1754280"/>
            <a:ext cx="749016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ell membrane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175248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plain how you could tell the difference between an animal and a plant cell when looking in a microscop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shape, proximity, large vacuole in center, texture of the outside structu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00200" y="1981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se are three examples of organell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057400" y="18288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85256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arious answer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600200" y="15238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food storage or pantry of a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26920" y="1830240"/>
            <a:ext cx="756288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the vacuole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600200" y="23623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23623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914400" y="17524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powerhouse of the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the mitochondria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143000" y="16765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se are the blue prints that tell the cell how to make new cell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380880"/>
            <a:ext cx="1143000" cy="105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imal Ce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447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2960" y="1447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25920" y="1447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81680" y="1447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144792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5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24192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12960" y="24192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25920" y="24192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81680" y="24192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9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8880" y="241920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0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9560" y="380880"/>
            <a:ext cx="12524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ell Pa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6840" y="380880"/>
            <a:ext cx="11383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lant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78200" y="380880"/>
            <a:ext cx="12020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arts &amp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380880"/>
            <a:ext cx="14479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icrosco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3908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12960" y="33908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2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25920" y="33908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3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81680" y="33908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33908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5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4362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41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7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12960" y="4362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8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5920" y="4362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9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81680" y="4362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0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43624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81680" y="53341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2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25920" y="53341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3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12960" y="53341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4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533412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5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68720" y="53341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68720" y="4362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68720" y="33908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8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68720" y="2438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68720" y="1447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67480" y="380880"/>
            <a:ext cx="99072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0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32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76832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 the DN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0200" y="23623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447920" y="160020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converts sunlight to energy, also known as “solar panel”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1120" y="1754280"/>
            <a:ext cx="756432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 chloroplas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600200" y="1600200"/>
            <a:ext cx="609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828800" y="17524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tructures that a plant cell has that an animal cell does n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9350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ell wall, chloroplas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1600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hape of the plant ce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a rectang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600200" y="2057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texture or a plant cell’s outer stru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26920" y="1753920"/>
            <a:ext cx="7490160" cy="22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 rough and rigi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600200" y="106668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one large structure in the plant cell and many smaller ones in the animal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16002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me four organelles within the animal ce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vacuo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00200" y="198108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 the mitochondria, this organelle is involved in energy conversion within the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76212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hloroplas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600200" y="1981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function of the nucleu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21034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: controls all of the functions of the cell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7920" y="1828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function cell wall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support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76520" y="7621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362320" y="2209680"/>
            <a:ext cx="556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ittle organs, the small specialized cell parts that carry out functions in a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753840" y="1829880"/>
            <a:ext cx="74912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an organel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600200" y="1981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se green pigment absorbs sunl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1906560"/>
            <a:ext cx="749016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arious answ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609480" y="51814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26920" y="1600200"/>
            <a:ext cx="749016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hlorophyll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752480" y="14479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organelle distributes materials such as oxygen and food to different parts of the cell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ytoplasm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676520" y="1600200"/>
            <a:ext cx="609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286000" y="2057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s is the brain or control center of the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the nucleu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600200" y="1752480"/>
            <a:ext cx="609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905120" y="1752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plain the differences between the functions of cell membrane and cell w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: cell wall supports and protects the cell and cell membrane provides flexibility and dictates what comes in and out of the c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523880" y="13716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type of microscope uses two lense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26920" y="1676520"/>
            <a:ext cx="749016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ompound Light Microscope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676520" y="137160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part of the microscope controls the amount of light reaching the object being viewed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00200" y="1828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hape of an animal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762120" y="525780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11697" y="3837"/>
                </a:moveTo>
                <a:lnTo>
                  <a:pt x="14273" y="6448"/>
                </a:lnTo>
                <a:lnTo>
                  <a:pt x="14273" y="4707"/>
                </a:lnTo>
                <a:lnTo>
                  <a:pt x="16049" y="4707"/>
                </a:lnTo>
                <a:lnTo>
                  <a:pt x="16049" y="8224"/>
                </a:lnTo>
                <a:lnTo>
                  <a:pt x="18660" y="10800"/>
                </a:lnTo>
                <a:lnTo>
                  <a:pt x="17006" y="10800"/>
                </a:lnTo>
                <a:lnTo>
                  <a:pt x="17006" y="17989"/>
                </a:lnTo>
                <a:lnTo>
                  <a:pt x="6388" y="17989"/>
                </a:lnTo>
                <a:lnTo>
                  <a:pt x="6388" y="10800"/>
                </a:lnTo>
                <a:lnTo>
                  <a:pt x="4734" y="10800"/>
                </a:lnTo>
                <a:close/>
              </a:path>
              <a:path fill="darkenLess" w="23394" h="21600">
                <a:moveTo>
                  <a:pt x="14273" y="6448"/>
                </a:moveTo>
                <a:lnTo>
                  <a:pt x="14273" y="4707"/>
                </a:lnTo>
                <a:lnTo>
                  <a:pt x="16049" y="4707"/>
                </a:lnTo>
                <a:lnTo>
                  <a:pt x="16049" y="8224"/>
                </a:lnTo>
                <a:close/>
              </a:path>
              <a:path fill="darkenLess" w="23394" h="21600">
                <a:moveTo>
                  <a:pt x="10774" y="14299"/>
                </a:moveTo>
                <a:lnTo>
                  <a:pt x="12619" y="14299"/>
                </a:lnTo>
                <a:lnTo>
                  <a:pt x="12619" y="17989"/>
                </a:lnTo>
                <a:lnTo>
                  <a:pt x="17006" y="17989"/>
                </a:lnTo>
                <a:lnTo>
                  <a:pt x="17006" y="10800"/>
                </a:lnTo>
                <a:lnTo>
                  <a:pt x="6388" y="10800"/>
                </a:lnTo>
                <a:lnTo>
                  <a:pt x="6388" y="17989"/>
                </a:lnTo>
                <a:lnTo>
                  <a:pt x="10774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Diaphram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600200" y="137160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part of the microscope is used with medium and high power magnification to bring the object into focu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fine adjustment knob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838080" y="1371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basic unit of every system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the cell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990720" y="152388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type of cell shown to the right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411300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a plant cell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295280" y="990720"/>
            <a:ext cx="6096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133720" y="19810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torage areas for food ,water, minerals, and wa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cuo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447920" y="12193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aps energy from light and is where photosynthesis takes pl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26920" y="1829880"/>
            <a:ext cx="74901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round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838080" y="54100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681120" y="1906560"/>
            <a:ext cx="74880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loroplas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33520" y="4572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2860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cell would die if this were remov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 the mitochond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057400" y="1752480"/>
            <a:ext cx="48006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aily Doubl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5" dur="1" fill="hold"/>
                                  <p:tgtEl>
                                    <p:spTgt spid="33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600200" y="167652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imals cells do not have this because they do not move or produce their own f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609480" y="53341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 chloroplas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838080" y="54100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00200" y="1600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outermost structure of the animal ce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533520" y="525780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11697" y="3837"/>
                </a:moveTo>
                <a:lnTo>
                  <a:pt x="14273" y="6448"/>
                </a:lnTo>
                <a:lnTo>
                  <a:pt x="14273" y="4707"/>
                </a:lnTo>
                <a:lnTo>
                  <a:pt x="16049" y="4707"/>
                </a:lnTo>
                <a:lnTo>
                  <a:pt x="16049" y="8224"/>
                </a:lnTo>
                <a:lnTo>
                  <a:pt x="18660" y="10800"/>
                </a:lnTo>
                <a:lnTo>
                  <a:pt x="17006" y="10800"/>
                </a:lnTo>
                <a:lnTo>
                  <a:pt x="17006" y="17989"/>
                </a:lnTo>
                <a:lnTo>
                  <a:pt x="6388" y="17989"/>
                </a:lnTo>
                <a:lnTo>
                  <a:pt x="6388" y="10800"/>
                </a:lnTo>
                <a:lnTo>
                  <a:pt x="4734" y="10800"/>
                </a:lnTo>
                <a:close/>
              </a:path>
              <a:path fill="darkenLess" w="23394" h="21600">
                <a:moveTo>
                  <a:pt x="14273" y="6448"/>
                </a:moveTo>
                <a:lnTo>
                  <a:pt x="14273" y="4707"/>
                </a:lnTo>
                <a:lnTo>
                  <a:pt x="16049" y="4707"/>
                </a:lnTo>
                <a:lnTo>
                  <a:pt x="16049" y="8224"/>
                </a:lnTo>
                <a:close/>
              </a:path>
              <a:path fill="darkenLess" w="23394" h="21600">
                <a:moveTo>
                  <a:pt x="10774" y="14299"/>
                </a:moveTo>
                <a:lnTo>
                  <a:pt x="12619" y="14299"/>
                </a:lnTo>
                <a:lnTo>
                  <a:pt x="12619" y="17989"/>
                </a:lnTo>
                <a:lnTo>
                  <a:pt x="17006" y="17989"/>
                </a:lnTo>
                <a:lnTo>
                  <a:pt x="17006" y="10800"/>
                </a:lnTo>
                <a:lnTo>
                  <a:pt x="6388" y="10800"/>
                </a:lnTo>
                <a:lnTo>
                  <a:pt x="6388" y="17989"/>
                </a:lnTo>
                <a:lnTo>
                  <a:pt x="10774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4T13:45:47Z</dcterms:created>
  <dc:creator>Unknown User</dc:creator>
  <dc:description/>
  <dc:language>en-US</dc:language>
  <cp:lastModifiedBy>asd</cp:lastModifiedBy>
  <dcterms:modified xsi:type="dcterms:W3CDTF">2010-03-18T21:35:13Z</dcterms:modified>
  <cp:revision>32</cp:revision>
  <dc:subject/>
  <dc:title>PowerPoint Presentation</dc:title>
</cp:coreProperties>
</file>