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D8F6-56C7-431F-9EAF-C9878F68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AED5-4FA9-4214-BE80-3D2DE5E3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221E-7B15-4467-8368-579F13DB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AB1A-F0B9-48A2-A7F9-BC553829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83BD-5FDD-444E-B74D-9A3CF1F5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FFC5-4E04-46DF-8334-0FEC750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624-F404-46F7-B8EC-918EE682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A7C5-4345-4BEF-9CEA-B4D78899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B79E-3982-4937-B287-9760A0A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481D-979E-45F4-B26A-38DC5D97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76E-52E7-410A-ACD8-66E84BF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8B8F-00B9-4A4B-83D6-B8FE5E7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309F-1865-452B-A47C-D548AAF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5AB1-B96E-4040-B561-963A04D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CBD5-5BAB-457F-ABB1-ADC5777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2075-957F-41AD-9C8E-0031180E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681-D81E-4A6D-BAFB-EA1FDA0E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1ADF-B5A6-42DD-946F-32CF088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0192-6D16-4125-917F-453E55F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8885-1112-41EF-8576-6BADE26F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C6D7-DF77-4FBB-8546-9D4F9D1C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5FA6-A2AB-4381-A6F0-243BBE5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C17C-6EFC-4E7C-A2E0-AC0E00A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41CB-A1A7-490C-8627-5FE4E48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C421-42CB-43B2-AFF5-141CA0A554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913-96C9-4E60-B0AA-F17832D1E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33.xml"/><Relationship Id="rId4" Type="http://schemas.openxmlformats.org/officeDocument/2006/relationships/slide" Target="slide43.xml"/><Relationship Id="rId5" Type="http://schemas.openxmlformats.org/officeDocument/2006/relationships/slide" Target="slide6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35.xml"/><Relationship Id="rId9" Type="http://schemas.openxmlformats.org/officeDocument/2006/relationships/slide" Target="slide45.xml"/><Relationship Id="rId10" Type="http://schemas.openxmlformats.org/officeDocument/2006/relationships/slide" Target="slide5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37.xml"/><Relationship Id="rId14" Type="http://schemas.openxmlformats.org/officeDocument/2006/relationships/slide" Target="slide47.xml"/><Relationship Id="rId15" Type="http://schemas.openxmlformats.org/officeDocument/2006/relationships/slide" Target="slide57.xml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slide" Target="slide1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59.xml"/><Relationship Id="rId22" Type="http://schemas.openxmlformats.org/officeDocument/2006/relationships/slide" Target="slide51.xml"/><Relationship Id="rId23" Type="http://schemas.openxmlformats.org/officeDocument/2006/relationships/slide" Target="slide41.xml"/><Relationship Id="rId24" Type="http://schemas.openxmlformats.org/officeDocument/2006/relationships/slide" Target="slide21.xml"/><Relationship Id="rId25" Type="http://schemas.openxmlformats.org/officeDocument/2006/relationships/slide" Target="slide61.xml"/><Relationship Id="rId26" Type="http://schemas.openxmlformats.org/officeDocument/2006/relationships/slide" Target="slide31.xml"/><Relationship Id="rId27" Type="http://schemas.openxmlformats.org/officeDocument/2006/relationships/slide" Target="slide29.xml"/><Relationship Id="rId28" Type="http://schemas.openxmlformats.org/officeDocument/2006/relationships/slide" Target="slide27.xml"/><Relationship Id="rId29" Type="http://schemas.openxmlformats.org/officeDocument/2006/relationships/slide" Target="slide25.xm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057400"/>
            <a:ext cx="7696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57200" y="56386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1754280"/>
            <a:ext cx="74901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membran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1752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lain how you could tell the difference between an animal and a plant cell when looking in a microscop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hape, proximity, large vacuole in center, texture of the outside structu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ree examples of organel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1828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52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00200" y="15238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ood storage or pantry of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6920" y="1830240"/>
            <a:ext cx="7562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vacuol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4400" y="1752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powerhous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mitochondria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1676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e blue prints that tell the cell how to make new ce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114300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ima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296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59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168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14479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296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592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24192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9560" y="380880"/>
            <a:ext cx="1252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 P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840" y="380880"/>
            <a:ext cx="11383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nt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78200" y="380880"/>
            <a:ext cx="12020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ts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80880"/>
            <a:ext cx="1447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crosc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296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9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8168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3908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7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296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59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8168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3624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168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59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1296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3341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7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687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87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8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68720" y="2438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87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80880"/>
            <a:ext cx="990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0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6832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DN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47920" y="16002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onverts sunlight to energy, also known as “solar panel”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1120" y="1754280"/>
            <a:ext cx="756432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0020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28800" y="1752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ructures that a plant cell has that an animal cell does 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5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wall,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1600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the plant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rectang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ure or a plant cell’s outer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920" y="1753920"/>
            <a:ext cx="749016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rough and rigi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00200" y="10666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one large structure in the plant cell and many smaller ones in the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6002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four organelles within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vacuo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00200" y="19810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 the mitochondria, this organelle is involved in energy conversion within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of the nucle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: controls all of the functions of the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cell wa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uppor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7621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362320" y="2209680"/>
            <a:ext cx="55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ittle organs, the small specialized cell parts that carry out functions in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3840" y="1829880"/>
            <a:ext cx="74912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n organel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green pigment absorbs sunl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190656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609480" y="51814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490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hy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752480" y="14479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organelle distributes materials such as oxygen and food to different parts of the ce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ytoplas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7652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86000" y="2057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the brain or control center of the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nucleu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00200" y="175248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05120" y="175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lain the differences between the functions of cell membrane and cell 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: cell wall supports and protects the cell and cell membrane provides flexibility and dictates what comes in and out of the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1371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type of microscope uses two lense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167652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ompound Light Microscop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7652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controls the amount of light reaching the object being viewed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an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621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Diaphra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0020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is used with medium and high power magnification to bring the object into foc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fine adjustment knob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basic unit of every system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ce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90720" y="15238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type of cell shown to the right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113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plant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95280" y="990720"/>
            <a:ext cx="6096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133720" y="1981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rage areas for food ,water, minerals, and wa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cuo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1219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ps energy from light and is where photosynthesis takes pl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1829880"/>
            <a:ext cx="74901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roun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1120" y="1906560"/>
            <a:ext cx="74880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loropla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2860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cell would die if this were remov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mitochond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7400" y="1752480"/>
            <a:ext cx="48006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ily Doub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00200" y="16765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imals cells do not have this because they do not move or produce their own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094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00200" y="1600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outermost structure of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5335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3:45:47Z</dcterms:created>
  <dc:creator>Unknown User</dc:creator>
  <dc:description/>
  <dc:language>en-US</dc:language>
  <cp:lastModifiedBy>asd</cp:lastModifiedBy>
  <dcterms:modified xsi:type="dcterms:W3CDTF">2010-03-18T21:35:13Z</dcterms:modified>
  <cp:revision>32</cp:revision>
  <dc:subject/>
  <dc:title>PowerPoint Presentation</dc:title>
</cp:coreProperties>
</file>