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A831E-E154-4908-BE63-A6ACF328D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55955-78ED-4380-8405-C29FBCC36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1AA60-8BE5-4168-9E0E-72AA9F7FB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CC186-FA05-4BCF-B507-D8D484D93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FBCB3-8649-4DF2-9DB4-4DBD70180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DE9CD-42BC-446E-B04F-87FD6E533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BBF41-BCE7-4DCA-B90E-05D105CC2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B717B-FA5F-4365-9BC5-C2A3C761B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45D1B-C265-40CA-A326-AB4C2DE9F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3920A-50C3-4354-AE49-1032197EA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CF0F2-2F16-4910-AB5E-E947D3514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236C4-3EDF-40F6-AFAF-89E4FFCDE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9933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60960" indent="-2541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017000" indent="-20340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424160" indent="-2034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1830960" indent="-203400">
              <a:spcBef>
                <a:spcPts val="7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1830960" indent="-203400">
              <a:spcBef>
                <a:spcPts val="7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1830960" indent="-203400">
              <a:spcBef>
                <a:spcPts val="7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8FC6A-6A48-4FDF-9C17-66EA744BF9BB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4191120" y="1219320"/>
            <a:ext cx="4952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Food Chains 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&amp;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Food Webs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1887480" y="941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434340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9933"/>
                </a:solidFill>
                <a:latin typeface="Tahoma"/>
              </a:rPr>
              <a:t>Heterotrophs</a:t>
            </a:r>
            <a:endParaRPr b="0" lang="en-US" sz="4200" spc="-1" strike="noStrike">
              <a:solidFill>
                <a:srgbClr val="ff9933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sum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5.  Decomposers – absorb any dead material and break it down into simple nutrients or fertilize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x. – Bacteria and Mushroom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371600" y="380988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5029200" y="3733920"/>
            <a:ext cx="3276720" cy="24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9933"/>
                </a:solidFill>
                <a:latin typeface="Tahoma"/>
              </a:rPr>
              <a:t>Transfer of Energy</a:t>
            </a:r>
            <a:endParaRPr b="0" lang="en-US" sz="4200" spc="-1" strike="noStrike">
              <a:solidFill>
                <a:srgbClr val="ff9933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en a zebra eats the grass, it does not obtain all of the energy the grass has (much of it is not eaten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en a lion eats a zebra, it does not get all of the energy from the zebra (much of it is lost as heat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9933"/>
                </a:solidFill>
                <a:latin typeface="Tahoma"/>
              </a:rPr>
              <a:t>Transfer of Energy</a:t>
            </a:r>
            <a:endParaRPr b="0" lang="en-US" sz="4200" spc="-1" strike="noStrike">
              <a:solidFill>
                <a:srgbClr val="ff9933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two (2) previous examples of energy transfer show that no organism EVER receives all of the energy from the organism they just a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nly 10% of the energy from one trophic level is transferred to the next – this is called the 10% la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9933"/>
                </a:solidFill>
                <a:latin typeface="Tahoma"/>
              </a:rPr>
              <a:t>Trophic Levels</a:t>
            </a:r>
            <a:endParaRPr b="0" lang="en-US" sz="4200" spc="-1" strike="noStrike">
              <a:solidFill>
                <a:srgbClr val="ff9933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rganisms that occupy the same position in a food chain make up the different trophic leve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nergy moves from one organism to another when it is ea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ach step in this transfer of energy is know as a trophic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main trophic levels are producers, consumers, and decompose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Tahoma"/>
              </a:rPr>
              <a:t>Trophic Levels</a:t>
            </a:r>
            <a:endParaRPr b="0" lang="en-US" sz="4400" spc="-1" strike="noStrike">
              <a:solidFill>
                <a:srgbClr val="ff9933"/>
              </a:solidFill>
              <a:latin typeface="Tahoma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914400" y="1828800"/>
            <a:ext cx="739152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9933"/>
                </a:solidFill>
                <a:latin typeface="Tahoma"/>
              </a:rPr>
              <a:t>Food Chains</a:t>
            </a:r>
            <a:endParaRPr b="0" lang="en-US" sz="4200" spc="-1" strike="noStrike">
              <a:solidFill>
                <a:srgbClr val="ff9933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83818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energy flow from one trophic level to the other is know as a food chai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food chain is simple and direc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t involves one organism at each trophic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imary Consumers – eat autotrophs (producers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condary Consumers – eat the primary consume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ertiary Consumers – eat the secondary consume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ecomposers – bacteria and fungi that break down dead organisms and recycle the material back into the environmen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9933"/>
                </a:solidFill>
                <a:latin typeface="Tahoma"/>
              </a:rPr>
              <a:t>Food Chain</a:t>
            </a:r>
            <a:endParaRPr b="0" lang="en-US" sz="4200" spc="-1" strike="noStrike">
              <a:solidFill>
                <a:srgbClr val="ff9933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762120" y="1828800"/>
            <a:ext cx="754380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9933"/>
                </a:solidFill>
                <a:latin typeface="Tahoma"/>
              </a:rPr>
              <a:t>Food Web</a:t>
            </a:r>
            <a:endParaRPr b="0" lang="en-US" sz="4200" spc="-1" strike="noStrike">
              <a:solidFill>
                <a:srgbClr val="ff9933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st organisms eat more than just one organis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en more organisms are involved it is know as a FOOD WEB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od webs are more complex and involve lots of organism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9933"/>
                </a:solidFill>
                <a:latin typeface="Tahoma"/>
              </a:rPr>
              <a:t>Food Web</a:t>
            </a:r>
            <a:endParaRPr b="0" lang="en-US" sz="4200" spc="-1" strike="noStrike">
              <a:solidFill>
                <a:srgbClr val="ff9933"/>
              </a:solidFill>
              <a:latin typeface="Tahom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990720" y="1752480"/>
            <a:ext cx="731520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9933"/>
                </a:solidFill>
                <a:latin typeface="Tahoma"/>
              </a:rPr>
              <a:t>Food Web</a:t>
            </a:r>
            <a:endParaRPr b="0" lang="en-US" sz="4200" spc="-1" strike="noStrike">
              <a:solidFill>
                <a:srgbClr val="ff9933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Notice that the direction the arrow points </a:t>
            </a:r>
            <a:r>
              <a:rPr b="0" lang="en-US" sz="36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the arrow points in the direction of the energy transfer, NOT “what ate what”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9933"/>
                </a:solidFill>
                <a:latin typeface="Tahoma"/>
              </a:rPr>
              <a:t>Autotrophs</a:t>
            </a:r>
            <a:endParaRPr b="0" lang="en-US" sz="4200" spc="-1" strike="noStrike">
              <a:solidFill>
                <a:srgbClr val="ff9933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groups of organisms that can use the energy in sunlight to convert water and carbon dioxide into food (they make their own food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utotrophs are also called Producers because they produce all of the food that heterotrophs us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ithout autotrophs, there would be no life on this plane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x.  Plants and Alga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9933"/>
                </a:solidFill>
                <a:latin typeface="Tahoma"/>
              </a:rPr>
              <a:t>Food Web</a:t>
            </a:r>
            <a:endParaRPr b="0" lang="en-US" sz="4200" spc="-1" strike="noStrike">
              <a:solidFill>
                <a:srgbClr val="ff9933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219320" y="1523880"/>
            <a:ext cx="6858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267080" y="2971800"/>
            <a:ext cx="4572000" cy="3429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9933"/>
                </a:solidFill>
                <a:latin typeface="Tahoma"/>
              </a:rPr>
              <a:t>Autotrophs</a:t>
            </a:r>
            <a:endParaRPr b="0" lang="en-US" sz="4200" spc="-1" strike="noStrike">
              <a:solidFill>
                <a:srgbClr val="ff9933"/>
              </a:solidFill>
              <a:latin typeface="Tahoma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685800" y="1676520"/>
            <a:ext cx="4724280" cy="33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9933"/>
                </a:solidFill>
                <a:latin typeface="Tahoma"/>
              </a:rPr>
              <a:t>Heterotrophs</a:t>
            </a:r>
            <a:endParaRPr b="0" lang="en-US" sz="4200" spc="-1" strike="noStrike">
              <a:solidFill>
                <a:srgbClr val="ff9933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rganisms that do not make their own f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other term for Heterotroph is consumer because they consume other organisms in order to liv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x.  Rabbits, Deer, Mushroom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9933"/>
                </a:solidFill>
                <a:latin typeface="Tahoma"/>
              </a:rPr>
              <a:t>Heterotrophs</a:t>
            </a:r>
            <a:endParaRPr b="0" lang="en-US" sz="4200" spc="-1" strike="noStrike">
              <a:solidFill>
                <a:srgbClr val="ff9933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04920" y="1600200"/>
            <a:ext cx="4647960" cy="30988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657600" y="37339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5181480" y="1676520"/>
            <a:ext cx="3276720" cy="23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9933"/>
                </a:solidFill>
                <a:latin typeface="Tahoma"/>
              </a:rPr>
              <a:t>Heterotrophs</a:t>
            </a:r>
            <a:endParaRPr b="0" lang="en-US" sz="4200" spc="-1" strike="noStrike">
              <a:solidFill>
                <a:srgbClr val="ff9933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sum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.  Scavengers/Detritivores – feed on the tissue of dead organisms (both plans and animals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x. – Vultures, Crows, and Shrimp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685800" y="4191120"/>
            <a:ext cx="2590920" cy="17269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809880" y="4343400"/>
            <a:ext cx="1524240" cy="13050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6019920" y="4267080"/>
            <a:ext cx="2361960" cy="15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9933"/>
                </a:solidFill>
                <a:latin typeface="Tahoma"/>
              </a:rPr>
              <a:t>Heterotrophs</a:t>
            </a:r>
            <a:endParaRPr b="0" lang="en-US" sz="4200" spc="-1" strike="noStrike">
              <a:solidFill>
                <a:srgbClr val="ff9933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sum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2.  Herbivores – eat ONLY plan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x. – Cows, Elephants, Giraffes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80880" y="3657600"/>
            <a:ext cx="2819520" cy="21146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3809880" y="3733920"/>
            <a:ext cx="2590920" cy="19429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6934320" y="3505320"/>
            <a:ext cx="1828800" cy="236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9933"/>
                </a:solidFill>
                <a:latin typeface="Tahoma"/>
              </a:rPr>
              <a:t>Heterotrophs</a:t>
            </a:r>
            <a:endParaRPr b="0" lang="en-US" sz="4200" spc="-1" strike="noStrike">
              <a:solidFill>
                <a:srgbClr val="ff9933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sum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3. Carnivores – eat ONLY mea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x. – Lions, Tigers, Sharks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80880" y="3886200"/>
            <a:ext cx="2971800" cy="191124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581280" y="4114800"/>
            <a:ext cx="1911600" cy="12938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5715000" y="3505320"/>
            <a:ext cx="3029040" cy="24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9933"/>
                </a:solidFill>
                <a:latin typeface="Tahoma"/>
              </a:rPr>
              <a:t>Heterotrophs</a:t>
            </a:r>
            <a:endParaRPr b="0" lang="en-US" sz="4200" spc="-1" strike="noStrike">
              <a:solidFill>
                <a:srgbClr val="ff9933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sum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4.  Omnivores – eat BOTH plants and animal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x. – Bears and Human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5486400" y="3048120"/>
            <a:ext cx="2514600" cy="33526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1143000" y="3657600"/>
            <a:ext cx="380988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2T00:43:12Z</dcterms:created>
  <dc:creator>Jason E. Meade</dc:creator>
  <dc:description/>
  <dc:language>en-US</dc:language>
  <cp:lastModifiedBy>asd</cp:lastModifiedBy>
  <dcterms:modified xsi:type="dcterms:W3CDTF">2010-04-15T03:38:11Z</dcterms:modified>
  <cp:revision>106</cp:revision>
  <dc:subject/>
  <dc:title>PowerPoint Presentation</dc:title>
</cp:coreProperties>
</file>