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132-5229-4E63-BFBD-A21C2D8B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E3A-618E-47EC-882F-A428530C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A6D-2A1B-494B-94A1-00D090BA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780-F03E-41D1-BF52-A87A76DF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23E-6152-4ADA-8B29-C37592B8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470-B0DB-4F85-9453-C1E939BF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D15-8113-453D-80EC-994A3C65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C0E-08D2-47B4-9063-516A37C0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F33-169D-4C8A-B5A0-43079E52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540-30BE-49BF-804C-BDF4E345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62F-9C07-4C33-9B7A-2AC6D3B7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3CF-89A6-41B5-9066-75C4A57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7014-849E-4A2E-BF45-9DB27819B71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121932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ood Chains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ood Web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887480" y="9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Decomposers – absorb any dead material and break it down into simple nutrients or fertiliz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Bacteria and Mushro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ansfer of Energy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zebra eats the grass, it does not obtain all of the energy the grass has (much of it is not eat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lion eats a zebra, it does not get all of the energy from the zebra (much of it is lost as he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ansfer of Energy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wo (2) previous examples of energy transfer show that no organism EVER receives all of the energy from the organism they just 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10% of the energy from one trophic level is transferred to the next – this is called the 10%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ophic Level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 that occupy the same position in a food chain make up the different trophic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moves from one organism to another when it is e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tep in this transfer of energy is know as a trophic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in trophic levels are producers, consumers, and decompos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Trophic Levels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91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Chain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nergy flow from one trophic level to the other is know as a food ch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od chain is simple and di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nvolves one organism at each trophic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Consumers – eat autotrophs (produc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Consumers – eat the primary consu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tiary Consumers – eat the secondary consu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omposers – bacteria and fungi that break down dead organisms and recycle the material back into the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Chain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rganisms eat more than just one org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more organisms are involved it is know as a FOOD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 webs are more complex and involve lots of org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ice that the direction the arrow poi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arrow points in the direction of the energy transfer, NOT “what ate wha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Aut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s of organisms that can use the energy in sunlight to convert water and carbon dioxide into food (they make their own foo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trophs are also called Producers because they produce all of the food that heterotrophs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out autotrophs, there would be no life on this pla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  Plants and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Aut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47242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ms that do not make their ow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term for Heterotroph is consumer because they consume other organisms in order to 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  Rabbits, Deer, Mushro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647960" cy="3098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276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Scavengers/Detritivores – feed on the tissue of dead organisms (both plans and anima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Vultures, Crows, and Shri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1524240" cy="130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2361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Herbivores – eat ONLY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Cows, Elephants, Giraff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8288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Carnivores – eat ONLY m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Lions, Tigers, Shark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971800" cy="191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1911600" cy="129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15000" y="3505320"/>
            <a:ext cx="3029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Omnivores – eat BOTH plants and anima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Bears and Hum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0:43:12Z</dcterms:created>
  <dc:creator>Jason E. Meade</dc:creator>
  <dc:description/>
  <dc:language>en-US</dc:language>
  <cp:lastModifiedBy>asd</cp:lastModifiedBy>
  <dcterms:modified xsi:type="dcterms:W3CDTF">2010-04-15T03:38:11Z</dcterms:modified>
  <cp:revision>106</cp:revision>
  <dc:subject/>
  <dc:title>PowerPoint Presentation</dc:title>
</cp:coreProperties>
</file>