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281-833B-4832-A5D6-29D7C737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856-0ADD-4B46-A2B4-07E0C191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564-7A0B-40EF-9FCC-576C7C2C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8E8-BC39-484F-BD47-9AC6222A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6D1-9B04-4196-9FC6-ABDC24F4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29A-E3BD-4662-AED6-B03FAB04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114-9126-4F9A-B8D2-3D3C2832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932-F596-4B9D-B14B-E46E7F1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29B-16A4-41B5-8A9E-9043ACDD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73D-F92A-4FC3-A67B-52BA2959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363-4E85-4578-A29C-D6ACCFD9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EE4-DBC1-4620-A121-21460BFC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0A18-A3D8-4A2A-93F6-2363E3349BC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121932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ood Chains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ood Web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887480" y="9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Decomposers – absorb any dead material and break it down into simple nutrients or fertiliz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Bacteria and Mushro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ansfer of Energy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zebra eats the grass, it does not obtain all of the energy the grass has (much of it is not eat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lion eats a zebra, it does not get all of the energy from the zebra (much of it is lost as he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ansfer of Energy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wo (2) previous examples of energy transfer show that no organism EVER receives all of the energy from the organism they just 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10% of the energy from one trophic level is transferred to the next – this is called the 10%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ophic Level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 that occupy the same position in a food chain make up the different trophic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moves from one organism to another when it is e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tep in this transfer of energy is know as a trophic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in trophic levels are producers, consumers, and decompos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Trophic Levels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91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Chain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nergy flow from one trophic level to the other is know as a food ch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od chain is simple and di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nvolves one organism at each trophic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Consumers – eat autotrophs (produc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Consumers – eat the primary consu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tiary Consumers – eat the secondary consu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omposers – bacteria and fungi that break down dead organisms and recycle the material back into the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Chain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rganisms eat more than just one org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more organisms are involved it is know as a FOOD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 webs are more complex and involve lots of org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ice that the direction the arrow poi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arrow points in the direction of the energy transfer, NOT “what ate wha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Aut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s of organisms that can use the energy in sunlight to convert water and carbon dioxide into food (they make their own foo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trophs are also called Producers because they produce all of the food that heterotrophs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out autotrophs, there would be no life on this pla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  Plants and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Aut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47242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ms that do not make their ow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term for Heterotroph is consumer because they consume other organisms in order to 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  Rabbits, Deer, Mushro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647960" cy="3098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276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Scavengers/Detritivores – feed on the tissue of dead organisms (both plans and anima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Vultures, Crows, and Shri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1524240" cy="130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2361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Herbivores – eat ONLY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Cows, Elephants, Giraff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8288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Carnivores – eat ONLY m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Lions, Tigers, Shark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971800" cy="191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1911600" cy="129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15000" y="3505320"/>
            <a:ext cx="3029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Omnivores – eat BOTH plants and anima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Bears and Hum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0:43:12Z</dcterms:created>
  <dc:creator>Jason E. Meade</dc:creator>
  <dc:description/>
  <dc:language>en-US</dc:language>
  <cp:lastModifiedBy>asd</cp:lastModifiedBy>
  <dcterms:modified xsi:type="dcterms:W3CDTF">2010-04-15T03:38:11Z</dcterms:modified>
  <cp:revision>106</cp:revision>
  <dc:subject/>
  <dc:title>PowerPoint Presentation</dc:title>
</cp:coreProperties>
</file>