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5A8-696A-45FF-B1B9-2E36BA38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8BA-CE70-4961-BBB6-56309DA1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E4E-15A2-4FAD-A0B9-D4C62D75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BBB-AF21-4560-83AB-B198CE5B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EA4-7D46-4ACD-9C09-CBF1AFE9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67E-4EA9-48D2-AF65-3BC51768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FCC-1A10-44D5-B7C4-B86C5E3B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425-5E3E-4433-A669-825A185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575-8820-470B-A2E8-C039546E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569-C912-4417-BF20-FD69ECB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321-B5DE-4A6D-8E7C-5680B3E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156-D8DC-4ACD-A9B1-32F03838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85FC-20C4-4D30-A361-100B9490641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121932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Chains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ood Web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887480" y="9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 Decomposers – absorb any dead material and break it down into simple nutrients or fertiliz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acteria and Mushro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zebra eats the grass, it does not obtain all of the energy the grass has (much of it is not eat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lion eats a zebra, it does not get all of the energy from the zebra (much of it is lost as he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ansfer of Energy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wo (2) previous examples of energy transfer show that no organism EVER receives all of the energy from the organism they just 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10% of the energy from one trophic level is transferred to the next – this is called the 10%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sms that occupy the same position in a food chain make up the different trophic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moves from one organism to another when it is e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tep in this transfer of energy is know as a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trophic levels are producers, consumers, and decompos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ahoma"/>
              </a:rPr>
              <a:t>Trophic Levels</a:t>
            </a:r>
            <a:endParaRPr b="0" lang="en-US" sz="44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nergy flow from one trophic level to the other is know as a food ch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ood chain is simple and di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nvolves one organism at each trophic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Consumers – eat autotrophs (produc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Consumers – eat the prim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tiary Consumers – eat the secondary consu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mposers – bacteria and fungi that break down dead organisms and recycle the material back into th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Chain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43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rganisms eat more than just one org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more organisms are involved it is know as a FOOD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 webs are more complex and involve lots of org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ice that the direction the arrow points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he arrow points in the direction of the energy transfer, NOT “what ate wha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s of organisms that can use the energy in sunlight to convert water and carbon dioxide into food (they make their own foo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trophs are also called Producers because they produce all of the food that heterotrophs 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 autotrophs, there would be no life on this pla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Plants and Alg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Food Web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Aut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47242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ms that do not make their ow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term for Heterotroph is consumer because they consume other organisms in order to l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.  Rabbits, Deer, Mushro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647960" cy="3098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2767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Scavengers/Detritivores – feed on the tissue of dead organisms (both plans and anima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Vultures, Crows, and Shrim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1524240" cy="130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9920" y="4267080"/>
            <a:ext cx="2361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Herbivores – eat ONLY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Cows, Elephants, Giraff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9880" y="3733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934320" y="3505320"/>
            <a:ext cx="18288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Carnivores – eat ONLY m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Lions, Tigers, Shark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971800" cy="1911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1911600" cy="129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15000" y="3505320"/>
            <a:ext cx="3029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33"/>
                </a:solidFill>
                <a:latin typeface="Tahoma"/>
              </a:rPr>
              <a:t>Heterotrophs</a:t>
            </a:r>
            <a:endParaRPr b="0" lang="en-US" sz="4200" spc="-1" strike="noStrike">
              <a:solidFill>
                <a:srgbClr val="ff99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 Omnivores – eat BOTH plants and anima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 – Bears and Hum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0:43:12Z</dcterms:created>
  <dc:creator>Jason E. Meade</dc:creator>
  <dc:description/>
  <dc:language>en-US</dc:language>
  <cp:lastModifiedBy>asd</cp:lastModifiedBy>
  <dcterms:modified xsi:type="dcterms:W3CDTF">2010-04-15T03:38:11Z</dcterms:modified>
  <cp:revision>106</cp:revision>
  <dc:subject/>
  <dc:title>PowerPoint Presentation</dc:title>
</cp:coreProperties>
</file>