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15.pct" ContentType="image/x-pict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58F-7F10-4D85-97EE-DCF1A8E7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D0D-729B-40A1-9932-39E3B3F0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A8B-D404-4AF5-987B-97E1C03E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612-5487-440A-8E49-09E61EAD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95E-4E16-4C54-9ADC-93AE5E87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08E-5C5A-4BCD-8024-F64347EE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4C2-C33D-4D09-BD04-9557166E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AF5-8889-46EC-8316-D9FB4609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8D5-F46A-47B3-814B-6A7ED29F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E1D-C7B3-4628-8BAE-9433B08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E50-A93E-4953-B29B-8DDA19C7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B9D-EE4D-4146-8D51-7E8210D5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E035-B340-4DB8-A9FB-049EDFCA0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ct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Targ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be how tissues and organs are formed and name some of the major organs of the human 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T be able to describe the organization of cells into tissues and tissues into organs and name some key organs of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OULD be able to identify the key human organs and explain how their tissues interact for the organ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03640" y="1341360"/>
            <a:ext cx="3745080" cy="551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Anoth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Here’s another example in hum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9048" r="2221" b="10286"/>
          <a:stretch/>
        </p:blipFill>
        <p:spPr>
          <a:xfrm>
            <a:off x="5580000" y="2492280"/>
            <a:ext cx="2719440" cy="7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3771" t="5997" r="4602" b="19673"/>
          <a:stretch/>
        </p:blipFill>
        <p:spPr>
          <a:xfrm>
            <a:off x="5796000" y="1484280"/>
            <a:ext cx="187164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5724360" y="4508640"/>
          <a:ext cx="6829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6829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012000" y="3429000"/>
          <a:ext cx="157464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3429000"/>
                    <a:ext cx="1574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7164720" y="5157720"/>
            <a:ext cx="720360" cy="1390680"/>
            <a:chOff x="7164720" y="5157720"/>
            <a:chExt cx="720360" cy="1390680"/>
          </a:xfrm>
        </p:grpSpPr>
        <p:sp>
          <p:nvSpPr>
            <p:cNvPr id="189" name=""/>
            <p:cNvSpPr/>
            <p:nvPr/>
          </p:nvSpPr>
          <p:spPr>
            <a:xfrm flipH="1">
              <a:off x="7589160" y="6413040"/>
              <a:ext cx="295920" cy="135360"/>
            </a:xfrm>
            <a:custGeom>
              <a:avLst/>
              <a:gdLst/>
              <a:ahLst/>
              <a:rect l="l" t="t" r="r" b="b"/>
              <a:pathLst>
                <a:path w="569" h="454">
                  <a:moveTo>
                    <a:pt x="284" y="81"/>
                  </a:moveTo>
                  <a:cubicBezTo>
                    <a:pt x="271" y="118"/>
                    <a:pt x="255" y="138"/>
                    <a:pt x="227" y="166"/>
                  </a:cubicBezTo>
                  <a:cubicBezTo>
                    <a:pt x="179" y="151"/>
                    <a:pt x="175" y="109"/>
                    <a:pt x="132" y="81"/>
                  </a:cubicBezTo>
                  <a:cubicBezTo>
                    <a:pt x="26" y="93"/>
                    <a:pt x="31" y="79"/>
                    <a:pt x="0" y="166"/>
                  </a:cubicBezTo>
                  <a:cubicBezTo>
                    <a:pt x="3" y="194"/>
                    <a:pt x="6" y="223"/>
                    <a:pt x="10" y="251"/>
                  </a:cubicBezTo>
                  <a:cubicBezTo>
                    <a:pt x="36" y="454"/>
                    <a:pt x="176" y="377"/>
                    <a:pt x="387" y="383"/>
                  </a:cubicBezTo>
                  <a:cubicBezTo>
                    <a:pt x="444" y="377"/>
                    <a:pt x="503" y="381"/>
                    <a:pt x="557" y="364"/>
                  </a:cubicBezTo>
                  <a:cubicBezTo>
                    <a:pt x="569" y="360"/>
                    <a:pt x="567" y="340"/>
                    <a:pt x="567" y="327"/>
                  </a:cubicBezTo>
                  <a:cubicBezTo>
                    <a:pt x="567" y="269"/>
                    <a:pt x="545" y="216"/>
                    <a:pt x="520" y="166"/>
                  </a:cubicBezTo>
                  <a:cubicBezTo>
                    <a:pt x="511" y="61"/>
                    <a:pt x="533" y="52"/>
                    <a:pt x="454" y="24"/>
                  </a:cubicBezTo>
                  <a:cubicBezTo>
                    <a:pt x="397" y="28"/>
                    <a:pt x="284" y="0"/>
                    <a:pt x="284" y="81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79920" y="6407280"/>
              <a:ext cx="295920" cy="135720"/>
            </a:xfrm>
            <a:custGeom>
              <a:avLst/>
              <a:gdLst/>
              <a:ahLst/>
              <a:rect l="l" t="t" r="r" b="b"/>
              <a:pathLst>
                <a:path w="569" h="454">
                  <a:moveTo>
                    <a:pt x="284" y="81"/>
                  </a:moveTo>
                  <a:cubicBezTo>
                    <a:pt x="271" y="118"/>
                    <a:pt x="255" y="138"/>
                    <a:pt x="227" y="166"/>
                  </a:cubicBezTo>
                  <a:cubicBezTo>
                    <a:pt x="179" y="151"/>
                    <a:pt x="175" y="109"/>
                    <a:pt x="132" y="81"/>
                  </a:cubicBezTo>
                  <a:cubicBezTo>
                    <a:pt x="26" y="93"/>
                    <a:pt x="31" y="79"/>
                    <a:pt x="0" y="166"/>
                  </a:cubicBezTo>
                  <a:cubicBezTo>
                    <a:pt x="3" y="194"/>
                    <a:pt x="6" y="223"/>
                    <a:pt x="10" y="251"/>
                  </a:cubicBezTo>
                  <a:cubicBezTo>
                    <a:pt x="36" y="454"/>
                    <a:pt x="176" y="377"/>
                    <a:pt x="387" y="383"/>
                  </a:cubicBezTo>
                  <a:cubicBezTo>
                    <a:pt x="444" y="377"/>
                    <a:pt x="503" y="381"/>
                    <a:pt x="557" y="364"/>
                  </a:cubicBezTo>
                  <a:cubicBezTo>
                    <a:pt x="569" y="360"/>
                    <a:pt x="567" y="340"/>
                    <a:pt x="567" y="327"/>
                  </a:cubicBezTo>
                  <a:cubicBezTo>
                    <a:pt x="567" y="269"/>
                    <a:pt x="545" y="216"/>
                    <a:pt x="520" y="166"/>
                  </a:cubicBezTo>
                  <a:cubicBezTo>
                    <a:pt x="511" y="61"/>
                    <a:pt x="533" y="52"/>
                    <a:pt x="454" y="24"/>
                  </a:cubicBezTo>
                  <a:cubicBezTo>
                    <a:pt x="397" y="28"/>
                    <a:pt x="284" y="0"/>
                    <a:pt x="284" y="81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14440" y="6025320"/>
              <a:ext cx="152640" cy="129600"/>
            </a:xfrm>
            <a:custGeom>
              <a:avLst/>
              <a:gdLst/>
              <a:ahLst/>
              <a:rect l="l" t="t" r="r" b="b"/>
              <a:pathLst>
                <a:path w="294" h="279">
                  <a:moveTo>
                    <a:pt x="213" y="0"/>
                  </a:moveTo>
                  <a:cubicBezTo>
                    <a:pt x="226" y="42"/>
                    <a:pt x="246" y="39"/>
                    <a:pt x="270" y="76"/>
                  </a:cubicBezTo>
                  <a:cubicBezTo>
                    <a:pt x="278" y="101"/>
                    <a:pt x="294" y="137"/>
                    <a:pt x="270" y="161"/>
                  </a:cubicBezTo>
                  <a:cubicBezTo>
                    <a:pt x="261" y="170"/>
                    <a:pt x="245" y="154"/>
                    <a:pt x="232" y="151"/>
                  </a:cubicBezTo>
                  <a:cubicBezTo>
                    <a:pt x="204" y="73"/>
                    <a:pt x="236" y="184"/>
                    <a:pt x="241" y="199"/>
                  </a:cubicBezTo>
                  <a:cubicBezTo>
                    <a:pt x="238" y="221"/>
                    <a:pt x="242" y="245"/>
                    <a:pt x="232" y="265"/>
                  </a:cubicBezTo>
                  <a:cubicBezTo>
                    <a:pt x="227" y="274"/>
                    <a:pt x="212" y="279"/>
                    <a:pt x="203" y="274"/>
                  </a:cubicBezTo>
                  <a:cubicBezTo>
                    <a:pt x="194" y="270"/>
                    <a:pt x="197" y="255"/>
                    <a:pt x="194" y="246"/>
                  </a:cubicBezTo>
                  <a:cubicBezTo>
                    <a:pt x="184" y="208"/>
                    <a:pt x="178" y="170"/>
                    <a:pt x="166" y="132"/>
                  </a:cubicBezTo>
                  <a:cubicBezTo>
                    <a:pt x="158" y="198"/>
                    <a:pt x="170" y="231"/>
                    <a:pt x="118" y="265"/>
                  </a:cubicBezTo>
                  <a:cubicBezTo>
                    <a:pt x="109" y="262"/>
                    <a:pt x="93" y="265"/>
                    <a:pt x="90" y="255"/>
                  </a:cubicBezTo>
                  <a:cubicBezTo>
                    <a:pt x="79" y="215"/>
                    <a:pt x="81" y="173"/>
                    <a:pt x="81" y="132"/>
                  </a:cubicBezTo>
                  <a:cubicBezTo>
                    <a:pt x="81" y="122"/>
                    <a:pt x="87" y="151"/>
                    <a:pt x="90" y="161"/>
                  </a:cubicBezTo>
                  <a:cubicBezTo>
                    <a:pt x="76" y="204"/>
                    <a:pt x="61" y="193"/>
                    <a:pt x="24" y="217"/>
                  </a:cubicBezTo>
                  <a:cubicBezTo>
                    <a:pt x="18" y="205"/>
                    <a:pt x="7" y="194"/>
                    <a:pt x="5" y="180"/>
                  </a:cubicBezTo>
                  <a:cubicBezTo>
                    <a:pt x="0" y="137"/>
                    <a:pt x="43" y="54"/>
                    <a:pt x="81" y="29"/>
                  </a:cubicBezTo>
                  <a:cubicBezTo>
                    <a:pt x="118" y="4"/>
                    <a:pt x="171" y="15"/>
                    <a:pt x="213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64720" y="5946480"/>
              <a:ext cx="145080" cy="139680"/>
            </a:xfrm>
            <a:custGeom>
              <a:avLst/>
              <a:gdLst/>
              <a:ahLst/>
              <a:rect l="l" t="t" r="r" b="b"/>
              <a:pathLst>
                <a:path w="279" h="302">
                  <a:moveTo>
                    <a:pt x="147" y="0"/>
                  </a:moveTo>
                  <a:cubicBezTo>
                    <a:pt x="107" y="12"/>
                    <a:pt x="74" y="34"/>
                    <a:pt x="33" y="47"/>
                  </a:cubicBezTo>
                  <a:cubicBezTo>
                    <a:pt x="19" y="91"/>
                    <a:pt x="16" y="99"/>
                    <a:pt x="62" y="113"/>
                  </a:cubicBezTo>
                  <a:cubicBezTo>
                    <a:pt x="56" y="123"/>
                    <a:pt x="51" y="134"/>
                    <a:pt x="43" y="142"/>
                  </a:cubicBezTo>
                  <a:cubicBezTo>
                    <a:pt x="35" y="150"/>
                    <a:pt x="19" y="150"/>
                    <a:pt x="15" y="160"/>
                  </a:cubicBezTo>
                  <a:cubicBezTo>
                    <a:pt x="0" y="198"/>
                    <a:pt x="74" y="204"/>
                    <a:pt x="90" y="208"/>
                  </a:cubicBezTo>
                  <a:cubicBezTo>
                    <a:pt x="116" y="134"/>
                    <a:pt x="105" y="219"/>
                    <a:pt x="100" y="236"/>
                  </a:cubicBezTo>
                  <a:cubicBezTo>
                    <a:pt x="113" y="291"/>
                    <a:pt x="118" y="296"/>
                    <a:pt x="166" y="264"/>
                  </a:cubicBezTo>
                  <a:cubicBezTo>
                    <a:pt x="184" y="189"/>
                    <a:pt x="165" y="244"/>
                    <a:pt x="185" y="283"/>
                  </a:cubicBezTo>
                  <a:cubicBezTo>
                    <a:pt x="190" y="293"/>
                    <a:pt x="204" y="296"/>
                    <a:pt x="213" y="302"/>
                  </a:cubicBezTo>
                  <a:cubicBezTo>
                    <a:pt x="271" y="288"/>
                    <a:pt x="256" y="282"/>
                    <a:pt x="269" y="227"/>
                  </a:cubicBezTo>
                  <a:cubicBezTo>
                    <a:pt x="266" y="161"/>
                    <a:pt x="279" y="92"/>
                    <a:pt x="260" y="28"/>
                  </a:cubicBezTo>
                  <a:cubicBezTo>
                    <a:pt x="254" y="9"/>
                    <a:pt x="171" y="0"/>
                    <a:pt x="147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08160" y="5637960"/>
              <a:ext cx="164160" cy="127440"/>
            </a:xfrm>
            <a:custGeom>
              <a:avLst/>
              <a:gdLst/>
              <a:ahLst/>
              <a:rect l="l" t="t" r="r" b="b"/>
              <a:pathLst>
                <a:path w="453" h="392">
                  <a:moveTo>
                    <a:pt x="9" y="212"/>
                  </a:moveTo>
                  <a:cubicBezTo>
                    <a:pt x="28" y="199"/>
                    <a:pt x="47" y="187"/>
                    <a:pt x="66" y="174"/>
                  </a:cubicBezTo>
                  <a:cubicBezTo>
                    <a:pt x="77" y="167"/>
                    <a:pt x="97" y="81"/>
                    <a:pt x="104" y="61"/>
                  </a:cubicBezTo>
                  <a:cubicBezTo>
                    <a:pt x="107" y="52"/>
                    <a:pt x="122" y="53"/>
                    <a:pt x="132" y="51"/>
                  </a:cubicBezTo>
                  <a:cubicBezTo>
                    <a:pt x="154" y="47"/>
                    <a:pt x="176" y="45"/>
                    <a:pt x="198" y="42"/>
                  </a:cubicBezTo>
                  <a:cubicBezTo>
                    <a:pt x="263" y="19"/>
                    <a:pt x="326" y="0"/>
                    <a:pt x="377" y="51"/>
                  </a:cubicBezTo>
                  <a:cubicBezTo>
                    <a:pt x="392" y="95"/>
                    <a:pt x="400" y="127"/>
                    <a:pt x="425" y="165"/>
                  </a:cubicBezTo>
                  <a:cubicBezTo>
                    <a:pt x="447" y="233"/>
                    <a:pt x="438" y="202"/>
                    <a:pt x="453" y="259"/>
                  </a:cubicBezTo>
                  <a:cubicBezTo>
                    <a:pt x="450" y="271"/>
                    <a:pt x="429" y="352"/>
                    <a:pt x="425" y="353"/>
                  </a:cubicBezTo>
                  <a:cubicBezTo>
                    <a:pt x="356" y="376"/>
                    <a:pt x="387" y="367"/>
                    <a:pt x="330" y="382"/>
                  </a:cubicBezTo>
                  <a:cubicBezTo>
                    <a:pt x="229" y="376"/>
                    <a:pt x="184" y="392"/>
                    <a:pt x="113" y="344"/>
                  </a:cubicBezTo>
                  <a:cubicBezTo>
                    <a:pt x="110" y="335"/>
                    <a:pt x="111" y="323"/>
                    <a:pt x="104" y="316"/>
                  </a:cubicBezTo>
                  <a:cubicBezTo>
                    <a:pt x="88" y="300"/>
                    <a:pt x="47" y="278"/>
                    <a:pt x="47" y="278"/>
                  </a:cubicBezTo>
                  <a:cubicBezTo>
                    <a:pt x="44" y="269"/>
                    <a:pt x="44" y="257"/>
                    <a:pt x="37" y="250"/>
                  </a:cubicBezTo>
                  <a:cubicBezTo>
                    <a:pt x="0" y="213"/>
                    <a:pt x="9" y="272"/>
                    <a:pt x="9" y="21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91880" y="5287680"/>
              <a:ext cx="397080" cy="369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73960" y="5408280"/>
              <a:ext cx="583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8000" y="5426640"/>
              <a:ext cx="27720" cy="2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00680" y="5409360"/>
              <a:ext cx="58320" cy="5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15440" y="5427720"/>
              <a:ext cx="26640" cy="2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48840" y="5475960"/>
              <a:ext cx="28080" cy="40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9520" y="5694480"/>
              <a:ext cx="622440" cy="411120"/>
            </a:xfrm>
            <a:custGeom>
              <a:avLst/>
              <a:gdLst/>
              <a:ahLst/>
              <a:rect l="l" t="t" r="r" b="b"/>
              <a:pathLst>
                <a:path w="1716" h="1261">
                  <a:moveTo>
                    <a:pt x="787" y="38"/>
                  </a:moveTo>
                  <a:cubicBezTo>
                    <a:pt x="808" y="52"/>
                    <a:pt x="832" y="61"/>
                    <a:pt x="853" y="76"/>
                  </a:cubicBezTo>
                  <a:cubicBezTo>
                    <a:pt x="864" y="84"/>
                    <a:pt x="871" y="96"/>
                    <a:pt x="881" y="104"/>
                  </a:cubicBezTo>
                  <a:cubicBezTo>
                    <a:pt x="907" y="125"/>
                    <a:pt x="935" y="131"/>
                    <a:pt x="966" y="142"/>
                  </a:cubicBezTo>
                  <a:cubicBezTo>
                    <a:pt x="1020" y="139"/>
                    <a:pt x="1074" y="140"/>
                    <a:pt x="1127" y="132"/>
                  </a:cubicBezTo>
                  <a:cubicBezTo>
                    <a:pt x="1158" y="127"/>
                    <a:pt x="1155" y="102"/>
                    <a:pt x="1174" y="85"/>
                  </a:cubicBezTo>
                  <a:cubicBezTo>
                    <a:pt x="1191" y="70"/>
                    <a:pt x="1211" y="60"/>
                    <a:pt x="1230" y="47"/>
                  </a:cubicBezTo>
                  <a:cubicBezTo>
                    <a:pt x="1268" y="21"/>
                    <a:pt x="1363" y="9"/>
                    <a:pt x="1363" y="9"/>
                  </a:cubicBezTo>
                  <a:cubicBezTo>
                    <a:pt x="1407" y="12"/>
                    <a:pt x="1453" y="6"/>
                    <a:pt x="1495" y="19"/>
                  </a:cubicBezTo>
                  <a:cubicBezTo>
                    <a:pt x="1515" y="25"/>
                    <a:pt x="1554" y="130"/>
                    <a:pt x="1561" y="151"/>
                  </a:cubicBezTo>
                  <a:cubicBezTo>
                    <a:pt x="1573" y="242"/>
                    <a:pt x="1577" y="334"/>
                    <a:pt x="1589" y="425"/>
                  </a:cubicBezTo>
                  <a:cubicBezTo>
                    <a:pt x="1596" y="479"/>
                    <a:pt x="1612" y="531"/>
                    <a:pt x="1618" y="585"/>
                  </a:cubicBezTo>
                  <a:cubicBezTo>
                    <a:pt x="1626" y="654"/>
                    <a:pt x="1623" y="728"/>
                    <a:pt x="1646" y="793"/>
                  </a:cubicBezTo>
                  <a:cubicBezTo>
                    <a:pt x="1656" y="874"/>
                    <a:pt x="1666" y="947"/>
                    <a:pt x="1703" y="1020"/>
                  </a:cubicBezTo>
                  <a:cubicBezTo>
                    <a:pt x="1706" y="1033"/>
                    <a:pt x="1716" y="1046"/>
                    <a:pt x="1712" y="1058"/>
                  </a:cubicBezTo>
                  <a:cubicBezTo>
                    <a:pt x="1708" y="1069"/>
                    <a:pt x="1695" y="1074"/>
                    <a:pt x="1684" y="1076"/>
                  </a:cubicBezTo>
                  <a:cubicBezTo>
                    <a:pt x="1644" y="1083"/>
                    <a:pt x="1602" y="1083"/>
                    <a:pt x="1561" y="1086"/>
                  </a:cubicBezTo>
                  <a:cubicBezTo>
                    <a:pt x="1188" y="1206"/>
                    <a:pt x="1574" y="637"/>
                    <a:pt x="1372" y="500"/>
                  </a:cubicBezTo>
                  <a:cubicBezTo>
                    <a:pt x="1362" y="467"/>
                    <a:pt x="1345" y="438"/>
                    <a:pt x="1334" y="406"/>
                  </a:cubicBezTo>
                  <a:cubicBezTo>
                    <a:pt x="1335" y="463"/>
                    <a:pt x="1358" y="1148"/>
                    <a:pt x="1334" y="1228"/>
                  </a:cubicBezTo>
                  <a:cubicBezTo>
                    <a:pt x="1324" y="1261"/>
                    <a:pt x="1265" y="1222"/>
                    <a:pt x="1230" y="1218"/>
                  </a:cubicBezTo>
                  <a:cubicBezTo>
                    <a:pt x="1144" y="1207"/>
                    <a:pt x="1066" y="1169"/>
                    <a:pt x="985" y="1143"/>
                  </a:cubicBezTo>
                  <a:cubicBezTo>
                    <a:pt x="918" y="1145"/>
                    <a:pt x="647" y="1162"/>
                    <a:pt x="560" y="1143"/>
                  </a:cubicBezTo>
                  <a:cubicBezTo>
                    <a:pt x="550" y="1141"/>
                    <a:pt x="566" y="1124"/>
                    <a:pt x="569" y="1114"/>
                  </a:cubicBezTo>
                  <a:cubicBezTo>
                    <a:pt x="576" y="920"/>
                    <a:pt x="562" y="710"/>
                    <a:pt x="607" y="519"/>
                  </a:cubicBezTo>
                  <a:cubicBezTo>
                    <a:pt x="604" y="488"/>
                    <a:pt x="616" y="451"/>
                    <a:pt x="598" y="425"/>
                  </a:cubicBezTo>
                  <a:cubicBezTo>
                    <a:pt x="584" y="404"/>
                    <a:pt x="561" y="489"/>
                    <a:pt x="560" y="491"/>
                  </a:cubicBezTo>
                  <a:cubicBezTo>
                    <a:pt x="534" y="543"/>
                    <a:pt x="488" y="573"/>
                    <a:pt x="447" y="614"/>
                  </a:cubicBezTo>
                  <a:cubicBezTo>
                    <a:pt x="437" y="624"/>
                    <a:pt x="418" y="642"/>
                    <a:pt x="418" y="642"/>
                  </a:cubicBezTo>
                  <a:cubicBezTo>
                    <a:pt x="386" y="707"/>
                    <a:pt x="341" y="760"/>
                    <a:pt x="305" y="822"/>
                  </a:cubicBezTo>
                  <a:cubicBezTo>
                    <a:pt x="278" y="869"/>
                    <a:pt x="275" y="924"/>
                    <a:pt x="229" y="954"/>
                  </a:cubicBezTo>
                  <a:cubicBezTo>
                    <a:pt x="215" y="949"/>
                    <a:pt x="160" y="930"/>
                    <a:pt x="154" y="925"/>
                  </a:cubicBezTo>
                  <a:cubicBezTo>
                    <a:pt x="146" y="919"/>
                    <a:pt x="150" y="905"/>
                    <a:pt x="144" y="897"/>
                  </a:cubicBezTo>
                  <a:cubicBezTo>
                    <a:pt x="137" y="888"/>
                    <a:pt x="125" y="885"/>
                    <a:pt x="116" y="878"/>
                  </a:cubicBezTo>
                  <a:cubicBezTo>
                    <a:pt x="106" y="870"/>
                    <a:pt x="99" y="858"/>
                    <a:pt x="88" y="850"/>
                  </a:cubicBezTo>
                  <a:cubicBezTo>
                    <a:pt x="67" y="835"/>
                    <a:pt x="43" y="826"/>
                    <a:pt x="22" y="812"/>
                  </a:cubicBezTo>
                  <a:cubicBezTo>
                    <a:pt x="16" y="799"/>
                    <a:pt x="0" y="788"/>
                    <a:pt x="3" y="774"/>
                  </a:cubicBezTo>
                  <a:cubicBezTo>
                    <a:pt x="7" y="752"/>
                    <a:pt x="28" y="737"/>
                    <a:pt x="41" y="718"/>
                  </a:cubicBezTo>
                  <a:cubicBezTo>
                    <a:pt x="80" y="661"/>
                    <a:pt x="156" y="598"/>
                    <a:pt x="211" y="557"/>
                  </a:cubicBezTo>
                  <a:cubicBezTo>
                    <a:pt x="235" y="521"/>
                    <a:pt x="267" y="444"/>
                    <a:pt x="296" y="415"/>
                  </a:cubicBezTo>
                  <a:cubicBezTo>
                    <a:pt x="325" y="386"/>
                    <a:pt x="363" y="357"/>
                    <a:pt x="390" y="330"/>
                  </a:cubicBezTo>
                  <a:cubicBezTo>
                    <a:pt x="445" y="275"/>
                    <a:pt x="475" y="196"/>
                    <a:pt x="541" y="151"/>
                  </a:cubicBezTo>
                  <a:cubicBezTo>
                    <a:pt x="558" y="105"/>
                    <a:pt x="577" y="73"/>
                    <a:pt x="617" y="47"/>
                  </a:cubicBezTo>
                  <a:cubicBezTo>
                    <a:pt x="643" y="6"/>
                    <a:pt x="663" y="9"/>
                    <a:pt x="711" y="0"/>
                  </a:cubicBezTo>
                  <a:cubicBezTo>
                    <a:pt x="727" y="3"/>
                    <a:pt x="745" y="0"/>
                    <a:pt x="758" y="9"/>
                  </a:cubicBezTo>
                  <a:cubicBezTo>
                    <a:pt x="810" y="44"/>
                    <a:pt x="733" y="38"/>
                    <a:pt x="787" y="38"/>
                  </a:cubicBez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08080" y="6031080"/>
              <a:ext cx="353880" cy="434160"/>
            </a:xfrm>
            <a:custGeom>
              <a:avLst/>
              <a:gdLst/>
              <a:ahLst/>
              <a:rect l="l" t="t" r="r" b="b"/>
              <a:pathLst>
                <a:path w="680" h="940">
                  <a:moveTo>
                    <a:pt x="75" y="83"/>
                  </a:moveTo>
                  <a:cubicBezTo>
                    <a:pt x="72" y="124"/>
                    <a:pt x="68" y="165"/>
                    <a:pt x="66" y="206"/>
                  </a:cubicBezTo>
                  <a:cubicBezTo>
                    <a:pt x="61" y="335"/>
                    <a:pt x="62" y="464"/>
                    <a:pt x="56" y="593"/>
                  </a:cubicBezTo>
                  <a:cubicBezTo>
                    <a:pt x="52" y="675"/>
                    <a:pt x="19" y="767"/>
                    <a:pt x="0" y="848"/>
                  </a:cubicBezTo>
                  <a:cubicBezTo>
                    <a:pt x="9" y="851"/>
                    <a:pt x="18" y="858"/>
                    <a:pt x="28" y="858"/>
                  </a:cubicBezTo>
                  <a:cubicBezTo>
                    <a:pt x="117" y="855"/>
                    <a:pt x="208" y="865"/>
                    <a:pt x="293" y="839"/>
                  </a:cubicBezTo>
                  <a:cubicBezTo>
                    <a:pt x="314" y="832"/>
                    <a:pt x="298" y="795"/>
                    <a:pt x="302" y="773"/>
                  </a:cubicBezTo>
                  <a:cubicBezTo>
                    <a:pt x="307" y="744"/>
                    <a:pt x="315" y="716"/>
                    <a:pt x="321" y="688"/>
                  </a:cubicBezTo>
                  <a:cubicBezTo>
                    <a:pt x="324" y="575"/>
                    <a:pt x="323" y="461"/>
                    <a:pt x="330" y="348"/>
                  </a:cubicBezTo>
                  <a:cubicBezTo>
                    <a:pt x="331" y="338"/>
                    <a:pt x="338" y="366"/>
                    <a:pt x="340" y="376"/>
                  </a:cubicBezTo>
                  <a:cubicBezTo>
                    <a:pt x="345" y="407"/>
                    <a:pt x="346" y="439"/>
                    <a:pt x="349" y="471"/>
                  </a:cubicBezTo>
                  <a:cubicBezTo>
                    <a:pt x="359" y="574"/>
                    <a:pt x="354" y="538"/>
                    <a:pt x="368" y="612"/>
                  </a:cubicBezTo>
                  <a:cubicBezTo>
                    <a:pt x="371" y="716"/>
                    <a:pt x="346" y="825"/>
                    <a:pt x="377" y="924"/>
                  </a:cubicBezTo>
                  <a:cubicBezTo>
                    <a:pt x="382" y="940"/>
                    <a:pt x="467" y="913"/>
                    <a:pt x="491" y="905"/>
                  </a:cubicBezTo>
                  <a:cubicBezTo>
                    <a:pt x="510" y="899"/>
                    <a:pt x="547" y="886"/>
                    <a:pt x="547" y="886"/>
                  </a:cubicBezTo>
                  <a:cubicBezTo>
                    <a:pt x="620" y="900"/>
                    <a:pt x="605" y="911"/>
                    <a:pt x="680" y="886"/>
                  </a:cubicBezTo>
                  <a:cubicBezTo>
                    <a:pt x="664" y="809"/>
                    <a:pt x="646" y="735"/>
                    <a:pt x="623" y="659"/>
                  </a:cubicBezTo>
                  <a:cubicBezTo>
                    <a:pt x="616" y="486"/>
                    <a:pt x="604" y="333"/>
                    <a:pt x="557" y="168"/>
                  </a:cubicBezTo>
                  <a:cubicBezTo>
                    <a:pt x="543" y="119"/>
                    <a:pt x="529" y="69"/>
                    <a:pt x="481" y="46"/>
                  </a:cubicBezTo>
                  <a:cubicBezTo>
                    <a:pt x="388" y="0"/>
                    <a:pt x="274" y="30"/>
                    <a:pt x="170" y="27"/>
                  </a:cubicBezTo>
                  <a:cubicBezTo>
                    <a:pt x="144" y="32"/>
                    <a:pt x="113" y="32"/>
                    <a:pt x="94" y="55"/>
                  </a:cubicBezTo>
                  <a:cubicBezTo>
                    <a:pt x="69" y="86"/>
                    <a:pt x="100" y="83"/>
                    <a:pt x="75" y="83"/>
                  </a:cubicBez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6760" y="5382360"/>
              <a:ext cx="65520" cy="1692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0" y="38"/>
                  </a:moveTo>
                  <a:cubicBezTo>
                    <a:pt x="26" y="12"/>
                    <a:pt x="27" y="7"/>
                    <a:pt x="64" y="2"/>
                  </a:cubicBezTo>
                  <a:cubicBezTo>
                    <a:pt x="80" y="3"/>
                    <a:pt x="97" y="0"/>
                    <a:pt x="112" y="6"/>
                  </a:cubicBezTo>
                  <a:cubicBezTo>
                    <a:pt x="121" y="10"/>
                    <a:pt x="128" y="30"/>
                    <a:pt x="128" y="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95640" y="5378400"/>
              <a:ext cx="65880" cy="1728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0" y="38"/>
                  </a:moveTo>
                  <a:cubicBezTo>
                    <a:pt x="26" y="12"/>
                    <a:pt x="27" y="7"/>
                    <a:pt x="64" y="2"/>
                  </a:cubicBezTo>
                  <a:cubicBezTo>
                    <a:pt x="80" y="3"/>
                    <a:pt x="97" y="0"/>
                    <a:pt x="112" y="6"/>
                  </a:cubicBezTo>
                  <a:cubicBezTo>
                    <a:pt x="121" y="10"/>
                    <a:pt x="128" y="30"/>
                    <a:pt x="128" y="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47040" y="5551920"/>
              <a:ext cx="464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33200" y="5157720"/>
              <a:ext cx="542520" cy="311040"/>
            </a:xfrm>
            <a:custGeom>
              <a:avLst/>
              <a:gdLst/>
              <a:ahLst/>
              <a:rect l="l" t="t" r="r" b="b"/>
              <a:pathLst>
                <a:path w="1044" h="673">
                  <a:moveTo>
                    <a:pt x="140" y="612"/>
                  </a:moveTo>
                  <a:cubicBezTo>
                    <a:pt x="128" y="614"/>
                    <a:pt x="105" y="616"/>
                    <a:pt x="92" y="620"/>
                  </a:cubicBezTo>
                  <a:cubicBezTo>
                    <a:pt x="84" y="622"/>
                    <a:pt x="76" y="625"/>
                    <a:pt x="68" y="628"/>
                  </a:cubicBezTo>
                  <a:cubicBezTo>
                    <a:pt x="64" y="629"/>
                    <a:pt x="56" y="632"/>
                    <a:pt x="56" y="632"/>
                  </a:cubicBezTo>
                  <a:cubicBezTo>
                    <a:pt x="20" y="626"/>
                    <a:pt x="25" y="621"/>
                    <a:pt x="52" y="612"/>
                  </a:cubicBezTo>
                  <a:cubicBezTo>
                    <a:pt x="76" y="594"/>
                    <a:pt x="62" y="604"/>
                    <a:pt x="92" y="584"/>
                  </a:cubicBezTo>
                  <a:cubicBezTo>
                    <a:pt x="96" y="581"/>
                    <a:pt x="104" y="576"/>
                    <a:pt x="104" y="576"/>
                  </a:cubicBezTo>
                  <a:cubicBezTo>
                    <a:pt x="93" y="531"/>
                    <a:pt x="41" y="514"/>
                    <a:pt x="0" y="508"/>
                  </a:cubicBezTo>
                  <a:cubicBezTo>
                    <a:pt x="23" y="473"/>
                    <a:pt x="93" y="474"/>
                    <a:pt x="128" y="472"/>
                  </a:cubicBezTo>
                  <a:cubicBezTo>
                    <a:pt x="111" y="404"/>
                    <a:pt x="49" y="371"/>
                    <a:pt x="28" y="308"/>
                  </a:cubicBezTo>
                  <a:cubicBezTo>
                    <a:pt x="41" y="288"/>
                    <a:pt x="48" y="292"/>
                    <a:pt x="72" y="296"/>
                  </a:cubicBezTo>
                  <a:cubicBezTo>
                    <a:pt x="96" y="312"/>
                    <a:pt x="116" y="335"/>
                    <a:pt x="144" y="344"/>
                  </a:cubicBezTo>
                  <a:cubicBezTo>
                    <a:pt x="164" y="371"/>
                    <a:pt x="163" y="382"/>
                    <a:pt x="176" y="344"/>
                  </a:cubicBezTo>
                  <a:cubicBezTo>
                    <a:pt x="169" y="298"/>
                    <a:pt x="158" y="251"/>
                    <a:pt x="132" y="212"/>
                  </a:cubicBezTo>
                  <a:cubicBezTo>
                    <a:pt x="125" y="185"/>
                    <a:pt x="121" y="158"/>
                    <a:pt x="112" y="132"/>
                  </a:cubicBezTo>
                  <a:cubicBezTo>
                    <a:pt x="152" y="106"/>
                    <a:pt x="181" y="205"/>
                    <a:pt x="200" y="224"/>
                  </a:cubicBezTo>
                  <a:cubicBezTo>
                    <a:pt x="213" y="237"/>
                    <a:pt x="230" y="248"/>
                    <a:pt x="240" y="264"/>
                  </a:cubicBezTo>
                  <a:cubicBezTo>
                    <a:pt x="245" y="272"/>
                    <a:pt x="251" y="280"/>
                    <a:pt x="256" y="288"/>
                  </a:cubicBezTo>
                  <a:cubicBezTo>
                    <a:pt x="259" y="293"/>
                    <a:pt x="258" y="304"/>
                    <a:pt x="264" y="304"/>
                  </a:cubicBezTo>
                  <a:cubicBezTo>
                    <a:pt x="269" y="304"/>
                    <a:pt x="261" y="293"/>
                    <a:pt x="260" y="288"/>
                  </a:cubicBezTo>
                  <a:cubicBezTo>
                    <a:pt x="264" y="224"/>
                    <a:pt x="263" y="23"/>
                    <a:pt x="284" y="16"/>
                  </a:cubicBezTo>
                  <a:cubicBezTo>
                    <a:pt x="308" y="48"/>
                    <a:pt x="300" y="75"/>
                    <a:pt x="312" y="112"/>
                  </a:cubicBezTo>
                  <a:cubicBezTo>
                    <a:pt x="320" y="136"/>
                    <a:pt x="333" y="160"/>
                    <a:pt x="348" y="180"/>
                  </a:cubicBezTo>
                  <a:cubicBezTo>
                    <a:pt x="355" y="200"/>
                    <a:pt x="364" y="222"/>
                    <a:pt x="376" y="240"/>
                  </a:cubicBezTo>
                  <a:cubicBezTo>
                    <a:pt x="381" y="231"/>
                    <a:pt x="382" y="220"/>
                    <a:pt x="388" y="212"/>
                  </a:cubicBezTo>
                  <a:cubicBezTo>
                    <a:pt x="421" y="162"/>
                    <a:pt x="382" y="234"/>
                    <a:pt x="408" y="188"/>
                  </a:cubicBezTo>
                  <a:cubicBezTo>
                    <a:pt x="421" y="165"/>
                    <a:pt x="425" y="143"/>
                    <a:pt x="440" y="120"/>
                  </a:cubicBezTo>
                  <a:cubicBezTo>
                    <a:pt x="450" y="105"/>
                    <a:pt x="458" y="90"/>
                    <a:pt x="468" y="76"/>
                  </a:cubicBezTo>
                  <a:cubicBezTo>
                    <a:pt x="474" y="68"/>
                    <a:pt x="484" y="52"/>
                    <a:pt x="484" y="52"/>
                  </a:cubicBezTo>
                  <a:cubicBezTo>
                    <a:pt x="490" y="28"/>
                    <a:pt x="486" y="41"/>
                    <a:pt x="496" y="12"/>
                  </a:cubicBezTo>
                  <a:cubicBezTo>
                    <a:pt x="497" y="8"/>
                    <a:pt x="500" y="0"/>
                    <a:pt x="500" y="0"/>
                  </a:cubicBezTo>
                  <a:cubicBezTo>
                    <a:pt x="512" y="17"/>
                    <a:pt x="511" y="36"/>
                    <a:pt x="516" y="56"/>
                  </a:cubicBezTo>
                  <a:cubicBezTo>
                    <a:pt x="519" y="117"/>
                    <a:pt x="518" y="179"/>
                    <a:pt x="524" y="240"/>
                  </a:cubicBezTo>
                  <a:cubicBezTo>
                    <a:pt x="525" y="251"/>
                    <a:pt x="535" y="221"/>
                    <a:pt x="540" y="212"/>
                  </a:cubicBezTo>
                  <a:cubicBezTo>
                    <a:pt x="549" y="197"/>
                    <a:pt x="556" y="179"/>
                    <a:pt x="564" y="164"/>
                  </a:cubicBezTo>
                  <a:cubicBezTo>
                    <a:pt x="593" y="107"/>
                    <a:pt x="619" y="55"/>
                    <a:pt x="688" y="44"/>
                  </a:cubicBezTo>
                  <a:cubicBezTo>
                    <a:pt x="696" y="76"/>
                    <a:pt x="673" y="140"/>
                    <a:pt x="652" y="168"/>
                  </a:cubicBezTo>
                  <a:cubicBezTo>
                    <a:pt x="643" y="204"/>
                    <a:pt x="637" y="223"/>
                    <a:pt x="644" y="272"/>
                  </a:cubicBezTo>
                  <a:cubicBezTo>
                    <a:pt x="645" y="277"/>
                    <a:pt x="655" y="270"/>
                    <a:pt x="660" y="268"/>
                  </a:cubicBezTo>
                  <a:cubicBezTo>
                    <a:pt x="686" y="257"/>
                    <a:pt x="700" y="247"/>
                    <a:pt x="724" y="232"/>
                  </a:cubicBezTo>
                  <a:cubicBezTo>
                    <a:pt x="746" y="218"/>
                    <a:pt x="821" y="197"/>
                    <a:pt x="848" y="192"/>
                  </a:cubicBezTo>
                  <a:cubicBezTo>
                    <a:pt x="859" y="195"/>
                    <a:pt x="871" y="194"/>
                    <a:pt x="880" y="200"/>
                  </a:cubicBezTo>
                  <a:cubicBezTo>
                    <a:pt x="881" y="201"/>
                    <a:pt x="866" y="234"/>
                    <a:pt x="864" y="236"/>
                  </a:cubicBezTo>
                  <a:cubicBezTo>
                    <a:pt x="845" y="259"/>
                    <a:pt x="812" y="273"/>
                    <a:pt x="792" y="296"/>
                  </a:cubicBezTo>
                  <a:cubicBezTo>
                    <a:pt x="774" y="316"/>
                    <a:pt x="767" y="337"/>
                    <a:pt x="756" y="360"/>
                  </a:cubicBezTo>
                  <a:cubicBezTo>
                    <a:pt x="842" y="389"/>
                    <a:pt x="744" y="359"/>
                    <a:pt x="964" y="372"/>
                  </a:cubicBezTo>
                  <a:cubicBezTo>
                    <a:pt x="978" y="373"/>
                    <a:pt x="1010" y="390"/>
                    <a:pt x="1024" y="396"/>
                  </a:cubicBezTo>
                  <a:cubicBezTo>
                    <a:pt x="993" y="406"/>
                    <a:pt x="964" y="416"/>
                    <a:pt x="932" y="424"/>
                  </a:cubicBezTo>
                  <a:cubicBezTo>
                    <a:pt x="921" y="427"/>
                    <a:pt x="900" y="432"/>
                    <a:pt x="900" y="432"/>
                  </a:cubicBezTo>
                  <a:cubicBezTo>
                    <a:pt x="872" y="451"/>
                    <a:pt x="881" y="440"/>
                    <a:pt x="868" y="460"/>
                  </a:cubicBezTo>
                  <a:cubicBezTo>
                    <a:pt x="866" y="469"/>
                    <a:pt x="854" y="480"/>
                    <a:pt x="860" y="488"/>
                  </a:cubicBezTo>
                  <a:cubicBezTo>
                    <a:pt x="866" y="496"/>
                    <a:pt x="879" y="491"/>
                    <a:pt x="888" y="496"/>
                  </a:cubicBezTo>
                  <a:cubicBezTo>
                    <a:pt x="912" y="509"/>
                    <a:pt x="937" y="521"/>
                    <a:pt x="960" y="536"/>
                  </a:cubicBezTo>
                  <a:cubicBezTo>
                    <a:pt x="994" y="559"/>
                    <a:pt x="1013" y="587"/>
                    <a:pt x="1044" y="608"/>
                  </a:cubicBezTo>
                  <a:cubicBezTo>
                    <a:pt x="1028" y="612"/>
                    <a:pt x="996" y="604"/>
                    <a:pt x="996" y="604"/>
                  </a:cubicBezTo>
                  <a:cubicBezTo>
                    <a:pt x="969" y="586"/>
                    <a:pt x="936" y="587"/>
                    <a:pt x="904" y="584"/>
                  </a:cubicBezTo>
                  <a:cubicBezTo>
                    <a:pt x="896" y="585"/>
                    <a:pt x="886" y="582"/>
                    <a:pt x="880" y="588"/>
                  </a:cubicBezTo>
                  <a:cubicBezTo>
                    <a:pt x="877" y="591"/>
                    <a:pt x="889" y="592"/>
                    <a:pt x="892" y="596"/>
                  </a:cubicBezTo>
                  <a:cubicBezTo>
                    <a:pt x="903" y="609"/>
                    <a:pt x="898" y="614"/>
                    <a:pt x="904" y="628"/>
                  </a:cubicBezTo>
                  <a:cubicBezTo>
                    <a:pt x="907" y="636"/>
                    <a:pt x="911" y="644"/>
                    <a:pt x="916" y="652"/>
                  </a:cubicBezTo>
                  <a:cubicBezTo>
                    <a:pt x="919" y="658"/>
                    <a:pt x="924" y="663"/>
                    <a:pt x="928" y="668"/>
                  </a:cubicBezTo>
                  <a:cubicBezTo>
                    <a:pt x="929" y="669"/>
                    <a:pt x="934" y="673"/>
                    <a:pt x="932" y="672"/>
                  </a:cubicBezTo>
                  <a:cubicBezTo>
                    <a:pt x="897" y="645"/>
                    <a:pt x="913" y="652"/>
                    <a:pt x="888" y="644"/>
                  </a:cubicBezTo>
                  <a:cubicBezTo>
                    <a:pt x="878" y="636"/>
                    <a:pt x="865" y="633"/>
                    <a:pt x="856" y="624"/>
                  </a:cubicBezTo>
                  <a:cubicBezTo>
                    <a:pt x="847" y="615"/>
                    <a:pt x="833" y="593"/>
                    <a:pt x="824" y="580"/>
                  </a:cubicBezTo>
                  <a:cubicBezTo>
                    <a:pt x="819" y="561"/>
                    <a:pt x="812" y="552"/>
                    <a:pt x="800" y="536"/>
                  </a:cubicBezTo>
                  <a:cubicBezTo>
                    <a:pt x="784" y="489"/>
                    <a:pt x="749" y="465"/>
                    <a:pt x="716" y="432"/>
                  </a:cubicBezTo>
                  <a:cubicBezTo>
                    <a:pt x="704" y="420"/>
                    <a:pt x="697" y="403"/>
                    <a:pt x="680" y="396"/>
                  </a:cubicBezTo>
                  <a:cubicBezTo>
                    <a:pt x="667" y="391"/>
                    <a:pt x="653" y="388"/>
                    <a:pt x="640" y="384"/>
                  </a:cubicBezTo>
                  <a:cubicBezTo>
                    <a:pt x="589" y="346"/>
                    <a:pt x="513" y="340"/>
                    <a:pt x="452" y="328"/>
                  </a:cubicBezTo>
                  <a:cubicBezTo>
                    <a:pt x="419" y="329"/>
                    <a:pt x="385" y="327"/>
                    <a:pt x="352" y="332"/>
                  </a:cubicBezTo>
                  <a:cubicBezTo>
                    <a:pt x="343" y="334"/>
                    <a:pt x="328" y="348"/>
                    <a:pt x="328" y="348"/>
                  </a:cubicBezTo>
                  <a:cubicBezTo>
                    <a:pt x="313" y="370"/>
                    <a:pt x="296" y="395"/>
                    <a:pt x="276" y="412"/>
                  </a:cubicBezTo>
                  <a:cubicBezTo>
                    <a:pt x="252" y="432"/>
                    <a:pt x="227" y="434"/>
                    <a:pt x="208" y="460"/>
                  </a:cubicBezTo>
                  <a:cubicBezTo>
                    <a:pt x="199" y="488"/>
                    <a:pt x="204" y="516"/>
                    <a:pt x="184" y="540"/>
                  </a:cubicBezTo>
                  <a:cubicBezTo>
                    <a:pt x="174" y="552"/>
                    <a:pt x="156" y="576"/>
                    <a:pt x="156" y="576"/>
                  </a:cubicBezTo>
                  <a:cubicBezTo>
                    <a:pt x="156" y="577"/>
                    <a:pt x="150" y="601"/>
                    <a:pt x="148" y="604"/>
                  </a:cubicBezTo>
                  <a:cubicBezTo>
                    <a:pt x="141" y="613"/>
                    <a:pt x="129" y="612"/>
                    <a:pt x="140" y="612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124000" y="1700280"/>
            <a:ext cx="3672000" cy="825480"/>
            <a:chOff x="2124000" y="1700280"/>
            <a:chExt cx="3672000" cy="825480"/>
          </a:xfrm>
        </p:grpSpPr>
        <p:sp>
          <p:nvSpPr>
            <p:cNvPr id="207" name=""/>
            <p:cNvSpPr/>
            <p:nvPr/>
          </p:nvSpPr>
          <p:spPr>
            <a:xfrm>
              <a:off x="2124000" y="1700280"/>
              <a:ext cx="2016360" cy="82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uscle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67280" y="1773360"/>
              <a:ext cx="1728720" cy="287280"/>
            </a:xfrm>
            <a:prstGeom prst="rightArrow">
              <a:avLst>
                <a:gd name="adj1" fmla="val 50000"/>
                <a:gd name="adj2" fmla="val 15043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835280" y="2708280"/>
            <a:ext cx="3887640" cy="459720"/>
            <a:chOff x="1835280" y="2708280"/>
            <a:chExt cx="3887640" cy="459720"/>
          </a:xfrm>
        </p:grpSpPr>
        <p:sp>
          <p:nvSpPr>
            <p:cNvPr id="210" name=""/>
            <p:cNvSpPr/>
            <p:nvPr/>
          </p:nvSpPr>
          <p:spPr>
            <a:xfrm>
              <a:off x="1835280" y="2708280"/>
              <a:ext cx="259236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uscle t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11640" y="2781360"/>
              <a:ext cx="1511280" cy="287280"/>
            </a:xfrm>
            <a:prstGeom prst="rightArrow">
              <a:avLst>
                <a:gd name="adj1" fmla="val 50000"/>
                <a:gd name="adj2" fmla="val 131516"/>
              </a:avLst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908000" y="3789360"/>
            <a:ext cx="4608720" cy="459720"/>
            <a:chOff x="1908000" y="3789360"/>
            <a:chExt cx="4608720" cy="459720"/>
          </a:xfrm>
        </p:grpSpPr>
        <p:sp>
          <p:nvSpPr>
            <p:cNvPr id="213" name=""/>
            <p:cNvSpPr/>
            <p:nvPr/>
          </p:nvSpPr>
          <p:spPr>
            <a:xfrm>
              <a:off x="1908000" y="3789360"/>
              <a:ext cx="2448000" cy="45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r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80000" y="3860640"/>
              <a:ext cx="2736720" cy="287640"/>
            </a:xfrm>
            <a:prstGeom prst="rightArrow">
              <a:avLst>
                <a:gd name="adj1" fmla="val 50000"/>
                <a:gd name="adj2" fmla="val 2378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050920" y="4941720"/>
            <a:ext cx="3673440" cy="459720"/>
            <a:chOff x="2050920" y="4941720"/>
            <a:chExt cx="3673440" cy="459720"/>
          </a:xfrm>
        </p:grpSpPr>
        <p:sp>
          <p:nvSpPr>
            <p:cNvPr id="216" name=""/>
            <p:cNvSpPr/>
            <p:nvPr/>
          </p:nvSpPr>
          <p:spPr>
            <a:xfrm>
              <a:off x="2050920" y="4941720"/>
              <a:ext cx="2232000" cy="4597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4360" y="5013360"/>
              <a:ext cx="1800000" cy="287280"/>
            </a:xfrm>
            <a:prstGeom prst="rightArrow">
              <a:avLst>
                <a:gd name="adj1" fmla="val 50000"/>
                <a:gd name="adj2" fmla="val 15664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908000" y="6237360"/>
            <a:ext cx="5185080" cy="459720"/>
            <a:chOff x="1908000" y="6237360"/>
            <a:chExt cx="5185080" cy="459720"/>
          </a:xfrm>
        </p:grpSpPr>
        <p:sp>
          <p:nvSpPr>
            <p:cNvPr id="219" name=""/>
            <p:cNvSpPr/>
            <p:nvPr/>
          </p:nvSpPr>
          <p:spPr>
            <a:xfrm>
              <a:off x="1908000" y="6237360"/>
              <a:ext cx="2448000" cy="45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5640" y="6308640"/>
              <a:ext cx="3097440" cy="287280"/>
            </a:xfrm>
            <a:prstGeom prst="rightArrow">
              <a:avLst>
                <a:gd name="adj1" fmla="val 50000"/>
                <a:gd name="adj2" fmla="val 26954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omach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r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one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n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rt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n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e know, all life is built of cells. The way we look is the result of the types of cell we are made of and the way those cells are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if we look at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plant and animal, it is no surprise that plants and animals look differ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352320" y="4998240"/>
            <a:ext cx="1791720" cy="520560"/>
            <a:chOff x="3352320" y="4998240"/>
            <a:chExt cx="1791720" cy="520560"/>
          </a:xfrm>
        </p:grpSpPr>
        <p:sp>
          <p:nvSpPr>
            <p:cNvPr id="46" name=""/>
            <p:cNvSpPr/>
            <p:nvPr/>
          </p:nvSpPr>
          <p:spPr>
            <a:xfrm>
              <a:off x="3779280" y="499824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nim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52320" y="5257800"/>
              <a:ext cx="38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438640" cy="220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rcRect l="76522" t="24403" r="6168" b="16268"/>
          <a:stretch/>
        </p:blipFill>
        <p:spPr>
          <a:xfrm>
            <a:off x="1782720" y="3276720"/>
            <a:ext cx="1189080" cy="2971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50" name=""/>
          <p:cNvSpPr/>
          <p:nvPr/>
        </p:nvSpPr>
        <p:spPr>
          <a:xfrm>
            <a:off x="8640" y="0"/>
            <a:ext cx="3759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Cell to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2882880" cy="2070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964680" y="3961800"/>
            <a:ext cx="1586880" cy="520560"/>
            <a:chOff x="3964680" y="3961800"/>
            <a:chExt cx="1586880" cy="520560"/>
          </a:xfrm>
        </p:grpSpPr>
        <p:sp>
          <p:nvSpPr>
            <p:cNvPr id="53" name=""/>
            <p:cNvSpPr/>
            <p:nvPr/>
          </p:nvSpPr>
          <p:spPr>
            <a:xfrm>
              <a:off x="3964680" y="3961800"/>
              <a:ext cx="10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l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94360" y="42210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791320" y="3505320"/>
            <a:ext cx="30607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1120" y="106560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elp us understand this, think of how a school is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28840" y="160020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4960" y="2360520"/>
            <a:ext cx="72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hool needs to be very organized. Every student in the school needs to know where they should be and what they are doing. Howev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191120" y="3352680"/>
            <a:ext cx="76176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9640" y="4190040"/>
            <a:ext cx="57218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students study the same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040" y="4799520"/>
            <a:ext cx="62294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students can work together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424480"/>
            <a:ext cx="82296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t room for all the students to be in the sam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7120" y="76104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a school uses the follow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4468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1905120"/>
            <a:ext cx="48564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7080" y="243720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or (check basmati or schedu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2895480"/>
            <a:ext cx="38124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93640" y="33516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10080" y="3809880"/>
            <a:ext cx="457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9000" y="441864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year group (graduating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4876920"/>
            <a:ext cx="4093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98000" y="5447160"/>
            <a:ext cx="1348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8256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15800" y="1019520"/>
            <a:ext cx="87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hierarchy of organization is also found in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240" y="18277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ecif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43600" y="4038480"/>
            <a:ext cx="1600200" cy="1752480"/>
            <a:chOff x="5943600" y="4038480"/>
            <a:chExt cx="1600200" cy="1752480"/>
          </a:xfrm>
        </p:grpSpPr>
        <p:grpSp>
          <p:nvGrpSpPr>
            <p:cNvPr id="79" name=""/>
            <p:cNvGrpSpPr/>
            <p:nvPr/>
          </p:nvGrpSpPr>
          <p:grpSpPr>
            <a:xfrm>
              <a:off x="6933960" y="4724280"/>
              <a:ext cx="609840" cy="609480"/>
              <a:chOff x="6933960" y="4724280"/>
              <a:chExt cx="609840" cy="609480"/>
            </a:xfrm>
          </p:grpSpPr>
          <p:sp>
            <p:nvSpPr>
              <p:cNvPr id="80" name=""/>
              <p:cNvSpPr/>
              <p:nvPr/>
            </p:nvSpPr>
            <p:spPr>
              <a:xfrm>
                <a:off x="6933960" y="47242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2560" y="4952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705360" y="4419720"/>
              <a:ext cx="609840" cy="609480"/>
              <a:chOff x="6705360" y="4419720"/>
              <a:chExt cx="609840" cy="609480"/>
            </a:xfrm>
          </p:grpSpPr>
          <p:sp>
            <p:nvSpPr>
              <p:cNvPr id="83" name=""/>
              <p:cNvSpPr/>
              <p:nvPr/>
            </p:nvSpPr>
            <p:spPr>
              <a:xfrm>
                <a:off x="6705360" y="44197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33960" y="4648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324480" y="4876920"/>
              <a:ext cx="609480" cy="609480"/>
              <a:chOff x="6324480" y="4876920"/>
              <a:chExt cx="609480" cy="609480"/>
            </a:xfrm>
          </p:grpSpPr>
          <p:sp>
            <p:nvSpPr>
              <p:cNvPr id="86" name=""/>
              <p:cNvSpPr/>
              <p:nvPr/>
            </p:nvSpPr>
            <p:spPr>
              <a:xfrm>
                <a:off x="6324480" y="48769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52720" y="5105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476760" y="4648320"/>
              <a:ext cx="609840" cy="609480"/>
              <a:chOff x="6476760" y="4648320"/>
              <a:chExt cx="609840" cy="609480"/>
            </a:xfrm>
          </p:grpSpPr>
          <p:sp>
            <p:nvSpPr>
              <p:cNvPr id="89" name=""/>
              <p:cNvSpPr/>
              <p:nvPr/>
            </p:nvSpPr>
            <p:spPr>
              <a:xfrm>
                <a:off x="6476760" y="46483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360" y="48769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019560" y="4419720"/>
              <a:ext cx="609840" cy="609480"/>
              <a:chOff x="6019560" y="4419720"/>
              <a:chExt cx="609840" cy="609480"/>
            </a:xfrm>
          </p:grpSpPr>
          <p:sp>
            <p:nvSpPr>
              <p:cNvPr id="92" name=""/>
              <p:cNvSpPr/>
              <p:nvPr/>
            </p:nvSpPr>
            <p:spPr>
              <a:xfrm>
                <a:off x="6019560" y="44197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48160" y="4648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943600" y="4724280"/>
              <a:ext cx="609480" cy="609480"/>
              <a:chOff x="5943600" y="4724280"/>
              <a:chExt cx="60948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5943600" y="47242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71840" y="4952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553080" y="4191120"/>
              <a:ext cx="609480" cy="609480"/>
              <a:chOff x="6553080" y="4191120"/>
              <a:chExt cx="609480" cy="609480"/>
            </a:xfrm>
          </p:grpSpPr>
          <p:sp>
            <p:nvSpPr>
              <p:cNvPr id="98" name=""/>
              <p:cNvSpPr/>
              <p:nvPr/>
            </p:nvSpPr>
            <p:spPr>
              <a:xfrm>
                <a:off x="6553080" y="4191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8132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019560" y="4038480"/>
              <a:ext cx="609840" cy="609480"/>
              <a:chOff x="6019560" y="4038480"/>
              <a:chExt cx="609840" cy="60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6019560" y="40384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48160" y="4267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324480" y="5181480"/>
              <a:ext cx="609480" cy="609480"/>
              <a:chOff x="6324480" y="5181480"/>
              <a:chExt cx="60948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4480" y="51814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52720" y="5410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19560" y="4572000"/>
              <a:ext cx="609840" cy="609480"/>
              <a:chOff x="6019560" y="4572000"/>
              <a:chExt cx="609840" cy="609480"/>
            </a:xfrm>
          </p:grpSpPr>
          <p:sp>
            <p:nvSpPr>
              <p:cNvPr id="107" name=""/>
              <p:cNvSpPr/>
              <p:nvPr/>
            </p:nvSpPr>
            <p:spPr>
              <a:xfrm>
                <a:off x="6019560" y="457200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8160" y="48006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629400" y="4952880"/>
              <a:ext cx="609480" cy="609480"/>
              <a:chOff x="6629400" y="4952880"/>
              <a:chExt cx="609480" cy="609480"/>
            </a:xfrm>
          </p:grpSpPr>
          <p:sp>
            <p:nvSpPr>
              <p:cNvPr id="110" name=""/>
              <p:cNvSpPr/>
              <p:nvPr/>
            </p:nvSpPr>
            <p:spPr>
              <a:xfrm>
                <a:off x="6629400" y="49528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7640" y="5181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3048120" y="3429000"/>
            <a:ext cx="213336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2438280"/>
            <a:ext cx="2057400" cy="1447560"/>
            <a:chOff x="685800" y="2438280"/>
            <a:chExt cx="2057400" cy="1447560"/>
          </a:xfrm>
        </p:grpSpPr>
        <p:grpSp>
          <p:nvGrpSpPr>
            <p:cNvPr id="114" name=""/>
            <p:cNvGrpSpPr/>
            <p:nvPr/>
          </p:nvGrpSpPr>
          <p:grpSpPr>
            <a:xfrm>
              <a:off x="838080" y="2438280"/>
              <a:ext cx="609840" cy="609480"/>
              <a:chOff x="838080" y="2438280"/>
              <a:chExt cx="609840" cy="60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838080" y="24382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66680" y="2666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685800" y="3428640"/>
              <a:ext cx="8380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3581280"/>
              <a:ext cx="152280" cy="75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2666880"/>
              <a:ext cx="83808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0" y="2819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2680" y="26654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grouped with cells similar in structure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560" y="5942520"/>
            <a:ext cx="2959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i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37339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 of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295280"/>
            <a:ext cx="2286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imal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295280"/>
            <a:ext cx="2210040" cy="4597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t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905120"/>
            <a:ext cx="2286000" cy="268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1905120"/>
            <a:ext cx="2210040" cy="157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952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you think of any more types of t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912600"/>
            <a:ext cx="2895480" cy="3964320"/>
            <a:chOff x="6095880" y="912600"/>
            <a:chExt cx="2895480" cy="3964320"/>
          </a:xfrm>
        </p:grpSpPr>
        <p:sp>
          <p:nvSpPr>
            <p:cNvPr id="132" name=""/>
            <p:cNvSpPr/>
            <p:nvPr/>
          </p:nvSpPr>
          <p:spPr>
            <a:xfrm>
              <a:off x="6095880" y="4267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81680" y="91260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ogether, they are known as an…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7640" y="2532960"/>
              <a:ext cx="202572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RG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rcRect l="0" t="13412" r="0" b="9833"/>
            <a:stretch/>
          </p:blipFill>
          <p:spPr>
            <a:xfrm>
              <a:off x="7162560" y="3886200"/>
              <a:ext cx="146052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2438280" y="912600"/>
            <a:ext cx="3657600" cy="3894480"/>
            <a:chOff x="2438280" y="912600"/>
            <a:chExt cx="3657600" cy="3894480"/>
          </a:xfrm>
        </p:grpSpPr>
        <p:sp>
          <p:nvSpPr>
            <p:cNvPr id="137" name=""/>
            <p:cNvSpPr/>
            <p:nvPr/>
          </p:nvSpPr>
          <p:spPr>
            <a:xfrm>
              <a:off x="2971440" y="912600"/>
              <a:ext cx="312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fferent tissues link together to carry out a certain jo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267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3047760" y="3809880"/>
              <a:ext cx="2952720" cy="9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352680" y="2532960"/>
              <a:ext cx="225396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ISS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04920" y="2532960"/>
            <a:ext cx="1949400" cy="1970640"/>
            <a:chOff x="304920" y="2532960"/>
            <a:chExt cx="1949400" cy="197064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304920" y="4114800"/>
              <a:ext cx="1949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2532960"/>
              <a:ext cx="167652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E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836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dy is then made up of different organ systems working together to carry out all the functions of a living org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9339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umma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933200" y="2570400"/>
            <a:ext cx="5388840" cy="459720"/>
            <a:chOff x="1933200" y="2570400"/>
            <a:chExt cx="5388840" cy="459720"/>
          </a:xfrm>
        </p:grpSpPr>
        <p:sp>
          <p:nvSpPr>
            <p:cNvPr id="147" name=""/>
            <p:cNvSpPr/>
            <p:nvPr/>
          </p:nvSpPr>
          <p:spPr>
            <a:xfrm>
              <a:off x="1933200" y="2570400"/>
              <a:ext cx="7401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320" y="2570400"/>
              <a:ext cx="13147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05320" y="3256200"/>
            <a:ext cx="6269400" cy="459720"/>
            <a:chOff x="1705320" y="3256200"/>
            <a:chExt cx="6269400" cy="459720"/>
          </a:xfrm>
        </p:grpSpPr>
        <p:sp>
          <p:nvSpPr>
            <p:cNvPr id="150" name=""/>
            <p:cNvSpPr/>
            <p:nvPr/>
          </p:nvSpPr>
          <p:spPr>
            <a:xfrm>
              <a:off x="1705320" y="3256200"/>
              <a:ext cx="11455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42920" y="3256200"/>
              <a:ext cx="24318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dvisor gro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04600" y="3942000"/>
            <a:ext cx="6252120" cy="459720"/>
            <a:chOff x="1704600" y="3942000"/>
            <a:chExt cx="6252120" cy="459720"/>
          </a:xfrm>
        </p:grpSpPr>
        <p:sp>
          <p:nvSpPr>
            <p:cNvPr id="153" name=""/>
            <p:cNvSpPr/>
            <p:nvPr/>
          </p:nvSpPr>
          <p:spPr>
            <a:xfrm>
              <a:off x="1704600" y="3942000"/>
              <a:ext cx="10782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9600" y="3942000"/>
              <a:ext cx="25171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ject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72160" y="4627800"/>
            <a:ext cx="5947200" cy="459720"/>
            <a:chOff x="1172160" y="4627800"/>
            <a:chExt cx="5947200" cy="459720"/>
          </a:xfrm>
        </p:grpSpPr>
        <p:sp>
          <p:nvSpPr>
            <p:cNvPr id="156" name=""/>
            <p:cNvSpPr/>
            <p:nvPr/>
          </p:nvSpPr>
          <p:spPr>
            <a:xfrm>
              <a:off x="1172160" y="4627800"/>
              <a:ext cx="221364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8760" y="4627800"/>
              <a:ext cx="8406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476000" y="5313600"/>
            <a:ext cx="5844960" cy="535680"/>
            <a:chOff x="1476000" y="5313600"/>
            <a:chExt cx="5844960" cy="535680"/>
          </a:xfrm>
        </p:grpSpPr>
        <p:sp>
          <p:nvSpPr>
            <p:cNvPr id="159" name=""/>
            <p:cNvSpPr/>
            <p:nvPr/>
          </p:nvSpPr>
          <p:spPr>
            <a:xfrm>
              <a:off x="1476000" y="5313600"/>
              <a:ext cx="16041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25400" y="5389560"/>
              <a:ext cx="11955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ells, tissues, organ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858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 Sans MS"/>
              </a:rPr>
              <a:t>Basically, all living things are made up of cel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47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A group of CELLS makes up a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2767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roup of TISSUES makes up an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648320"/>
            <a:ext cx="50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A group of ORGANS makes up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35760"/>
            <a:ext cx="54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roup of SYSTEMS make up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95880" y="685800"/>
            <a:ext cx="2590920" cy="1928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735600" y="2895480"/>
            <a:ext cx="167184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7007400" y="4876920"/>
            <a:ext cx="1298520" cy="1981080"/>
            <a:chOff x="7007400" y="4876920"/>
            <a:chExt cx="1298520" cy="1981080"/>
          </a:xfrm>
        </p:grpSpPr>
        <p:sp>
          <p:nvSpPr>
            <p:cNvPr id="171" name=""/>
            <p:cNvSpPr/>
            <p:nvPr/>
          </p:nvSpPr>
          <p:spPr>
            <a:xfrm>
              <a:off x="7010280" y="4876920"/>
              <a:ext cx="129564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7007400" y="5029200"/>
              <a:ext cx="12762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 flipV="1">
            <a:off x="5029200" y="1143000"/>
            <a:ext cx="152388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3505320"/>
            <a:ext cx="190512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876920"/>
            <a:ext cx="1981440" cy="99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81480" y="4876920"/>
            <a:ext cx="3276720" cy="1981080"/>
            <a:chOff x="5181480" y="4876920"/>
            <a:chExt cx="3276720" cy="1981080"/>
          </a:xfrm>
        </p:grpSpPr>
        <p:sp>
          <p:nvSpPr>
            <p:cNvPr id="177" name=""/>
            <p:cNvSpPr/>
            <p:nvPr/>
          </p:nvSpPr>
          <p:spPr>
            <a:xfrm flipV="1">
              <a:off x="5181480" y="5943240"/>
              <a:ext cx="167652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0" y="4876920"/>
              <a:ext cx="1600200" cy="198108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0:39:02Z</dcterms:created>
  <dc:creator>The Head Teacher</dc:creator>
  <dc:description/>
  <dc:language>en-US</dc:language>
  <cp:lastModifiedBy>hms</cp:lastModifiedBy>
  <dcterms:modified xsi:type="dcterms:W3CDTF">2010-04-30T03:01:52Z</dcterms:modified>
  <cp:revision>7</cp:revision>
  <dc:subject/>
  <dc:title>Slide 1</dc:title>
</cp:coreProperties>
</file>