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DD6B29-5A62-4847-9ECE-79CE337799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EC9F2-A0CB-45A6-BA45-D2DD22425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936D2E-593B-4457-8F55-DC3B34FBAE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7AA01A-2ABF-4FDA-AE63-37AF178677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43F491-0966-418C-A18A-7328760743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65DB26-9BD0-4F8B-BD22-A701D97CA2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6794DA-177C-4ECF-AF5E-3882BD0D5E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AAE7B2-2BAA-4B8A-8432-B0029E7ADF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1AE5FF-B672-4337-9EA8-08B0E8EE54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1BF1DD-E406-4CFC-A4FD-632BBF4F98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040D8E-C70B-4ADE-8317-F21B468732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E3BE5-9775-4AF6-9F1F-1FE68D884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D38ECF-097C-43B5-A92E-CEA84DF644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7FCCB3-A99E-4D24-8A9D-3CD543A9C7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77669F-CD14-47E3-9BFE-E891E7F250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464A7B-F5E2-4E0B-BA3C-2571ED8FF2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00B5C7-456E-409B-990F-255E8099BE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09C5C-B92C-4F65-8CE1-9F8BA30CD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0471D-848F-4F5F-A062-BF1A5318D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BBDBB-6F40-4EA3-80C4-E38F017B0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2DC48-E66F-4580-89FF-2ECD682A9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796A3-DC77-43CB-BB54-BC298F061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DBC19-8465-4187-B3C7-136B4EF15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AAECF-978A-4F83-BB65-04355EFE42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2286000"/>
            <a:ext cx="9144000" cy="3581280"/>
            <a:chOff x="0" y="2286000"/>
            <a:chExt cx="9144000" cy="3581280"/>
          </a:xfrm>
        </p:grpSpPr>
        <p:sp>
          <p:nvSpPr>
            <p:cNvPr id="1" name=""/>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 name=""/>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 name=""/>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 name=""/>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 name=""/>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 name=""/>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 name=""/>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 name=""/>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 name=""/>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6" name=""/>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 name=""/>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 name=""/>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 name=""/>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 name=""/>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1" name=""/>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2" name=""/>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3" name=""/>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 name=""/>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 name=""/>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 name=""/>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 name=""/>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 name=""/>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 name=""/>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 name=""/>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 name=""/>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 name=""/>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 name=""/>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43F2B-F233-48C6-96D5-6886F4DDD203}"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pic>
        <p:nvPicPr>
          <p:cNvPr id="69" name=""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
          <p:cNvGrpSpPr/>
          <p:nvPr/>
        </p:nvGrpSpPr>
        <p:grpSpPr>
          <a:xfrm>
            <a:off x="0" y="3124080"/>
            <a:ext cx="9144000" cy="3581640"/>
            <a:chOff x="0" y="3124080"/>
            <a:chExt cx="9144000" cy="3581640"/>
          </a:xfrm>
        </p:grpSpPr>
        <p:sp>
          <p:nvSpPr>
            <p:cNvPr id="107" name=""/>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 name=""/>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 name=""/>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0" name=""/>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 name=""/>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 name=""/>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 name=""/>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6" name=""/>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 name=""/>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 name=""/>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9" name=""/>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 name=""/>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1" name=""/>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3" name=""/>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 name=""/>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6" name=""/>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7" name=""/>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1" name=""/>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 name=""/>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3" name=""/>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7" name=""/>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0" name=""/>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1" name=""/>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3" name=""/>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5" name=""/>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6" name=""/>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7" name=""/>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8" name=""/>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9" name=""/>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 name=""/>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 name=""/>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 name=""/>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 name=""/>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 name=""/>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 name=""/>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 name=""/>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sp>
        <p:nvSpPr>
          <p:cNvPr id="170" name="PlaceHolder 1"/>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171" name="PlaceHolder 2"/>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172" name="PlaceHolder 3"/>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3" name=""/>
          <p:cNvSpPr/>
          <p:nvPr/>
        </p:nvSpPr>
        <p:spPr>
          <a:xfrm rot="16200000">
            <a:off x="3871080" y="1005120"/>
            <a:ext cx="150840" cy="4845240"/>
          </a:xfrm>
          <a:custGeom>
            <a:avLst/>
            <a:gdLst/>
            <a:ahLst/>
            <a:rect l="l" t="t" r="r" b="b"/>
            <a:pathLst>
              <a:path w="95" h="3052">
                <a:moveTo>
                  <a:pt x="4" y="3052"/>
                </a:moveTo>
                <a:lnTo>
                  <a:pt x="4" y="3032"/>
                </a:lnTo>
                <a:lnTo>
                  <a:pt x="5" y="3008"/>
                </a:lnTo>
                <a:lnTo>
                  <a:pt x="12" y="2948"/>
                </a:lnTo>
                <a:lnTo>
                  <a:pt x="19" y="2882"/>
                </a:lnTo>
                <a:lnTo>
                  <a:pt x="21" y="2846"/>
                </a:lnTo>
                <a:lnTo>
                  <a:pt x="23" y="2810"/>
                </a:lnTo>
                <a:lnTo>
                  <a:pt x="26" y="2736"/>
                </a:lnTo>
                <a:lnTo>
                  <a:pt x="28" y="2662"/>
                </a:lnTo>
                <a:lnTo>
                  <a:pt x="32" y="2596"/>
                </a:lnTo>
                <a:lnTo>
                  <a:pt x="35" y="2540"/>
                </a:lnTo>
                <a:lnTo>
                  <a:pt x="44" y="2426"/>
                </a:lnTo>
                <a:lnTo>
                  <a:pt x="43" y="2444"/>
                </a:lnTo>
                <a:lnTo>
                  <a:pt x="35" y="2540"/>
                </a:lnTo>
                <a:lnTo>
                  <a:pt x="32" y="2602"/>
                </a:lnTo>
                <a:lnTo>
                  <a:pt x="28" y="2676"/>
                </a:lnTo>
                <a:lnTo>
                  <a:pt x="36" y="2582"/>
                </a:lnTo>
                <a:lnTo>
                  <a:pt x="40" y="2540"/>
                </a:lnTo>
                <a:lnTo>
                  <a:pt x="45" y="2504"/>
                </a:lnTo>
                <a:lnTo>
                  <a:pt x="48" y="2456"/>
                </a:lnTo>
                <a:lnTo>
                  <a:pt x="50" y="2404"/>
                </a:lnTo>
                <a:lnTo>
                  <a:pt x="52" y="2350"/>
                </a:lnTo>
                <a:lnTo>
                  <a:pt x="54" y="2294"/>
                </a:lnTo>
                <a:lnTo>
                  <a:pt x="54" y="2184"/>
                </a:lnTo>
                <a:lnTo>
                  <a:pt x="52" y="2074"/>
                </a:lnTo>
                <a:lnTo>
                  <a:pt x="52" y="1966"/>
                </a:lnTo>
                <a:lnTo>
                  <a:pt x="52" y="1916"/>
                </a:lnTo>
                <a:lnTo>
                  <a:pt x="55" y="1854"/>
                </a:lnTo>
                <a:lnTo>
                  <a:pt x="57" y="1794"/>
                </a:lnTo>
                <a:lnTo>
                  <a:pt x="59" y="1768"/>
                </a:lnTo>
                <a:lnTo>
                  <a:pt x="61" y="1746"/>
                </a:lnTo>
                <a:lnTo>
                  <a:pt x="59" y="1786"/>
                </a:lnTo>
                <a:lnTo>
                  <a:pt x="57" y="1826"/>
                </a:lnTo>
                <a:lnTo>
                  <a:pt x="55" y="1906"/>
                </a:lnTo>
                <a:lnTo>
                  <a:pt x="55" y="1986"/>
                </a:lnTo>
                <a:lnTo>
                  <a:pt x="55" y="2068"/>
                </a:lnTo>
                <a:lnTo>
                  <a:pt x="57" y="2230"/>
                </a:lnTo>
                <a:lnTo>
                  <a:pt x="57" y="2310"/>
                </a:lnTo>
                <a:lnTo>
                  <a:pt x="55" y="2392"/>
                </a:lnTo>
                <a:lnTo>
                  <a:pt x="56" y="2374"/>
                </a:lnTo>
                <a:lnTo>
                  <a:pt x="58" y="2290"/>
                </a:lnTo>
                <a:lnTo>
                  <a:pt x="58" y="2204"/>
                </a:lnTo>
                <a:lnTo>
                  <a:pt x="57" y="2034"/>
                </a:lnTo>
                <a:lnTo>
                  <a:pt x="58" y="1974"/>
                </a:lnTo>
                <a:lnTo>
                  <a:pt x="57" y="2034"/>
                </a:lnTo>
                <a:lnTo>
                  <a:pt x="59" y="2108"/>
                </a:lnTo>
                <a:lnTo>
                  <a:pt x="60" y="2188"/>
                </a:lnTo>
                <a:lnTo>
                  <a:pt x="60" y="2242"/>
                </a:lnTo>
                <a:lnTo>
                  <a:pt x="60" y="2294"/>
                </a:lnTo>
                <a:lnTo>
                  <a:pt x="58" y="2336"/>
                </a:lnTo>
                <a:lnTo>
                  <a:pt x="56" y="2374"/>
                </a:lnTo>
                <a:lnTo>
                  <a:pt x="54" y="2426"/>
                </a:lnTo>
                <a:lnTo>
                  <a:pt x="54" y="2442"/>
                </a:lnTo>
                <a:lnTo>
                  <a:pt x="56" y="2428"/>
                </a:lnTo>
                <a:lnTo>
                  <a:pt x="58" y="2408"/>
                </a:lnTo>
                <a:lnTo>
                  <a:pt x="62" y="2348"/>
                </a:lnTo>
                <a:lnTo>
                  <a:pt x="64" y="2270"/>
                </a:lnTo>
                <a:lnTo>
                  <a:pt x="66" y="2180"/>
                </a:lnTo>
                <a:lnTo>
                  <a:pt x="68" y="2006"/>
                </a:lnTo>
                <a:lnTo>
                  <a:pt x="68" y="1900"/>
                </a:lnTo>
                <a:lnTo>
                  <a:pt x="68" y="1858"/>
                </a:lnTo>
                <a:lnTo>
                  <a:pt x="67" y="1818"/>
                </a:lnTo>
                <a:lnTo>
                  <a:pt x="67" y="1776"/>
                </a:lnTo>
                <a:lnTo>
                  <a:pt x="68" y="1732"/>
                </a:lnTo>
                <a:lnTo>
                  <a:pt x="71" y="1704"/>
                </a:lnTo>
                <a:lnTo>
                  <a:pt x="72" y="1690"/>
                </a:lnTo>
                <a:lnTo>
                  <a:pt x="72" y="1678"/>
                </a:lnTo>
                <a:lnTo>
                  <a:pt x="72" y="1672"/>
                </a:lnTo>
                <a:lnTo>
                  <a:pt x="72" y="1660"/>
                </a:lnTo>
                <a:lnTo>
                  <a:pt x="74" y="1628"/>
                </a:lnTo>
                <a:lnTo>
                  <a:pt x="78" y="1598"/>
                </a:lnTo>
                <a:lnTo>
                  <a:pt x="80" y="1570"/>
                </a:lnTo>
                <a:lnTo>
                  <a:pt x="81" y="1544"/>
                </a:lnTo>
                <a:lnTo>
                  <a:pt x="82" y="1534"/>
                </a:lnTo>
                <a:lnTo>
                  <a:pt x="84" y="1520"/>
                </a:lnTo>
                <a:lnTo>
                  <a:pt x="88" y="1492"/>
                </a:lnTo>
                <a:lnTo>
                  <a:pt x="94" y="1466"/>
                </a:lnTo>
                <a:lnTo>
                  <a:pt x="95" y="1456"/>
                </a:lnTo>
                <a:lnTo>
                  <a:pt x="95" y="1452"/>
                </a:lnTo>
                <a:lnTo>
                  <a:pt x="91" y="1442"/>
                </a:lnTo>
                <a:lnTo>
                  <a:pt x="90" y="1440"/>
                </a:lnTo>
                <a:lnTo>
                  <a:pt x="90" y="1436"/>
                </a:lnTo>
                <a:lnTo>
                  <a:pt x="92" y="1422"/>
                </a:lnTo>
                <a:lnTo>
                  <a:pt x="93" y="1390"/>
                </a:lnTo>
                <a:lnTo>
                  <a:pt x="90" y="1372"/>
                </a:lnTo>
                <a:lnTo>
                  <a:pt x="88" y="1360"/>
                </a:lnTo>
                <a:lnTo>
                  <a:pt x="87" y="1348"/>
                </a:lnTo>
                <a:lnTo>
                  <a:pt x="86" y="1320"/>
                </a:lnTo>
                <a:lnTo>
                  <a:pt x="84" y="1298"/>
                </a:lnTo>
                <a:lnTo>
                  <a:pt x="82" y="1274"/>
                </a:lnTo>
                <a:lnTo>
                  <a:pt x="79" y="1244"/>
                </a:lnTo>
                <a:lnTo>
                  <a:pt x="75" y="1198"/>
                </a:lnTo>
                <a:lnTo>
                  <a:pt x="74" y="1164"/>
                </a:lnTo>
                <a:lnTo>
                  <a:pt x="73" y="1130"/>
                </a:lnTo>
                <a:lnTo>
                  <a:pt x="69" y="1090"/>
                </a:lnTo>
                <a:lnTo>
                  <a:pt x="66" y="1032"/>
                </a:lnTo>
                <a:lnTo>
                  <a:pt x="63" y="980"/>
                </a:lnTo>
                <a:lnTo>
                  <a:pt x="63" y="924"/>
                </a:lnTo>
                <a:lnTo>
                  <a:pt x="63" y="876"/>
                </a:lnTo>
                <a:lnTo>
                  <a:pt x="63" y="830"/>
                </a:lnTo>
                <a:lnTo>
                  <a:pt x="66" y="784"/>
                </a:lnTo>
                <a:lnTo>
                  <a:pt x="63" y="756"/>
                </a:lnTo>
                <a:lnTo>
                  <a:pt x="62" y="726"/>
                </a:lnTo>
                <a:lnTo>
                  <a:pt x="60" y="662"/>
                </a:lnTo>
                <a:lnTo>
                  <a:pt x="58" y="598"/>
                </a:lnTo>
                <a:lnTo>
                  <a:pt x="55" y="536"/>
                </a:lnTo>
                <a:lnTo>
                  <a:pt x="52" y="486"/>
                </a:lnTo>
                <a:lnTo>
                  <a:pt x="51" y="444"/>
                </a:lnTo>
                <a:lnTo>
                  <a:pt x="54" y="360"/>
                </a:lnTo>
                <a:lnTo>
                  <a:pt x="54" y="334"/>
                </a:lnTo>
                <a:lnTo>
                  <a:pt x="54" y="314"/>
                </a:lnTo>
                <a:lnTo>
                  <a:pt x="54" y="304"/>
                </a:lnTo>
                <a:lnTo>
                  <a:pt x="52" y="290"/>
                </a:lnTo>
                <a:lnTo>
                  <a:pt x="51" y="274"/>
                </a:lnTo>
                <a:lnTo>
                  <a:pt x="51" y="258"/>
                </a:lnTo>
                <a:lnTo>
                  <a:pt x="54" y="262"/>
                </a:lnTo>
                <a:lnTo>
                  <a:pt x="55" y="238"/>
                </a:lnTo>
                <a:lnTo>
                  <a:pt x="55" y="232"/>
                </a:lnTo>
                <a:lnTo>
                  <a:pt x="56" y="234"/>
                </a:lnTo>
                <a:lnTo>
                  <a:pt x="58" y="236"/>
                </a:lnTo>
                <a:lnTo>
                  <a:pt x="59" y="238"/>
                </a:lnTo>
                <a:lnTo>
                  <a:pt x="60" y="236"/>
                </a:lnTo>
                <a:lnTo>
                  <a:pt x="61" y="230"/>
                </a:lnTo>
                <a:lnTo>
                  <a:pt x="63" y="190"/>
                </a:lnTo>
                <a:lnTo>
                  <a:pt x="66" y="150"/>
                </a:lnTo>
                <a:lnTo>
                  <a:pt x="66" y="110"/>
                </a:lnTo>
                <a:lnTo>
                  <a:pt x="66" y="72"/>
                </a:lnTo>
                <a:lnTo>
                  <a:pt x="64" y="68"/>
                </a:lnTo>
                <a:lnTo>
                  <a:pt x="62" y="64"/>
                </a:lnTo>
                <a:lnTo>
                  <a:pt x="63" y="40"/>
                </a:lnTo>
                <a:lnTo>
                  <a:pt x="61" y="38"/>
                </a:lnTo>
                <a:lnTo>
                  <a:pt x="60" y="36"/>
                </a:lnTo>
                <a:lnTo>
                  <a:pt x="58" y="34"/>
                </a:lnTo>
                <a:lnTo>
                  <a:pt x="57" y="32"/>
                </a:lnTo>
                <a:lnTo>
                  <a:pt x="55" y="30"/>
                </a:lnTo>
                <a:lnTo>
                  <a:pt x="52" y="26"/>
                </a:lnTo>
                <a:lnTo>
                  <a:pt x="48" y="12"/>
                </a:lnTo>
                <a:lnTo>
                  <a:pt x="44" y="2"/>
                </a:lnTo>
                <a:lnTo>
                  <a:pt x="41" y="0"/>
                </a:lnTo>
                <a:lnTo>
                  <a:pt x="39" y="0"/>
                </a:lnTo>
                <a:lnTo>
                  <a:pt x="37" y="8"/>
                </a:lnTo>
                <a:lnTo>
                  <a:pt x="34" y="28"/>
                </a:lnTo>
                <a:lnTo>
                  <a:pt x="31" y="50"/>
                </a:lnTo>
                <a:lnTo>
                  <a:pt x="26" y="68"/>
                </a:lnTo>
                <a:lnTo>
                  <a:pt x="26" y="70"/>
                </a:lnTo>
                <a:lnTo>
                  <a:pt x="25" y="70"/>
                </a:lnTo>
                <a:lnTo>
                  <a:pt x="24" y="66"/>
                </a:lnTo>
                <a:lnTo>
                  <a:pt x="22" y="56"/>
                </a:lnTo>
                <a:lnTo>
                  <a:pt x="20" y="72"/>
                </a:lnTo>
                <a:lnTo>
                  <a:pt x="19" y="80"/>
                </a:lnTo>
                <a:lnTo>
                  <a:pt x="17" y="80"/>
                </a:lnTo>
                <a:lnTo>
                  <a:pt x="16" y="80"/>
                </a:lnTo>
                <a:lnTo>
                  <a:pt x="15" y="72"/>
                </a:lnTo>
                <a:lnTo>
                  <a:pt x="14" y="86"/>
                </a:lnTo>
                <a:lnTo>
                  <a:pt x="11" y="78"/>
                </a:lnTo>
                <a:lnTo>
                  <a:pt x="5" y="134"/>
                </a:lnTo>
                <a:lnTo>
                  <a:pt x="1" y="190"/>
                </a:lnTo>
                <a:lnTo>
                  <a:pt x="0" y="220"/>
                </a:lnTo>
                <a:lnTo>
                  <a:pt x="0" y="248"/>
                </a:lnTo>
                <a:lnTo>
                  <a:pt x="0" y="274"/>
                </a:lnTo>
                <a:lnTo>
                  <a:pt x="1" y="302"/>
                </a:lnTo>
                <a:lnTo>
                  <a:pt x="3" y="328"/>
                </a:lnTo>
                <a:lnTo>
                  <a:pt x="7" y="358"/>
                </a:lnTo>
                <a:lnTo>
                  <a:pt x="7" y="374"/>
                </a:lnTo>
                <a:lnTo>
                  <a:pt x="7" y="390"/>
                </a:lnTo>
                <a:lnTo>
                  <a:pt x="9" y="396"/>
                </a:lnTo>
                <a:lnTo>
                  <a:pt x="11" y="400"/>
                </a:lnTo>
                <a:lnTo>
                  <a:pt x="14" y="404"/>
                </a:lnTo>
                <a:lnTo>
                  <a:pt x="15" y="450"/>
                </a:lnTo>
                <a:lnTo>
                  <a:pt x="16" y="502"/>
                </a:lnTo>
                <a:lnTo>
                  <a:pt x="17" y="526"/>
                </a:lnTo>
                <a:lnTo>
                  <a:pt x="20" y="544"/>
                </a:lnTo>
                <a:lnTo>
                  <a:pt x="22" y="556"/>
                </a:lnTo>
                <a:lnTo>
                  <a:pt x="23" y="558"/>
                </a:lnTo>
                <a:lnTo>
                  <a:pt x="25" y="558"/>
                </a:lnTo>
                <a:lnTo>
                  <a:pt x="26" y="584"/>
                </a:lnTo>
                <a:lnTo>
                  <a:pt x="28" y="602"/>
                </a:lnTo>
                <a:lnTo>
                  <a:pt x="32" y="622"/>
                </a:lnTo>
                <a:lnTo>
                  <a:pt x="34" y="648"/>
                </a:lnTo>
                <a:lnTo>
                  <a:pt x="38" y="740"/>
                </a:lnTo>
                <a:lnTo>
                  <a:pt x="40" y="790"/>
                </a:lnTo>
                <a:lnTo>
                  <a:pt x="41" y="840"/>
                </a:lnTo>
                <a:lnTo>
                  <a:pt x="43" y="896"/>
                </a:lnTo>
                <a:lnTo>
                  <a:pt x="41" y="952"/>
                </a:lnTo>
                <a:lnTo>
                  <a:pt x="41" y="992"/>
                </a:lnTo>
                <a:lnTo>
                  <a:pt x="43" y="1094"/>
                </a:lnTo>
                <a:lnTo>
                  <a:pt x="46" y="1190"/>
                </a:lnTo>
                <a:lnTo>
                  <a:pt x="50" y="1282"/>
                </a:lnTo>
                <a:lnTo>
                  <a:pt x="55" y="1370"/>
                </a:lnTo>
                <a:lnTo>
                  <a:pt x="57" y="1414"/>
                </a:lnTo>
                <a:lnTo>
                  <a:pt x="56" y="1456"/>
                </a:lnTo>
                <a:lnTo>
                  <a:pt x="55" y="1500"/>
                </a:lnTo>
                <a:lnTo>
                  <a:pt x="52" y="1544"/>
                </a:lnTo>
                <a:lnTo>
                  <a:pt x="46" y="1636"/>
                </a:lnTo>
                <a:lnTo>
                  <a:pt x="40" y="1736"/>
                </a:lnTo>
                <a:lnTo>
                  <a:pt x="38" y="1786"/>
                </a:lnTo>
                <a:lnTo>
                  <a:pt x="38" y="1838"/>
                </a:lnTo>
                <a:lnTo>
                  <a:pt x="37" y="1942"/>
                </a:lnTo>
                <a:lnTo>
                  <a:pt x="39" y="2046"/>
                </a:lnTo>
                <a:lnTo>
                  <a:pt x="40" y="2148"/>
                </a:lnTo>
                <a:lnTo>
                  <a:pt x="41" y="2248"/>
                </a:lnTo>
                <a:lnTo>
                  <a:pt x="40" y="2344"/>
                </a:lnTo>
                <a:lnTo>
                  <a:pt x="39" y="2392"/>
                </a:lnTo>
                <a:lnTo>
                  <a:pt x="37" y="2438"/>
                </a:lnTo>
                <a:lnTo>
                  <a:pt x="35" y="2482"/>
                </a:lnTo>
                <a:lnTo>
                  <a:pt x="31" y="2526"/>
                </a:lnTo>
                <a:lnTo>
                  <a:pt x="25" y="2612"/>
                </a:lnTo>
                <a:lnTo>
                  <a:pt x="22" y="2692"/>
                </a:lnTo>
                <a:lnTo>
                  <a:pt x="20" y="2766"/>
                </a:lnTo>
                <a:lnTo>
                  <a:pt x="15" y="2830"/>
                </a:lnTo>
                <a:lnTo>
                  <a:pt x="11" y="2886"/>
                </a:lnTo>
                <a:lnTo>
                  <a:pt x="5" y="2936"/>
                </a:lnTo>
                <a:lnTo>
                  <a:pt x="2" y="2976"/>
                </a:lnTo>
                <a:lnTo>
                  <a:pt x="1" y="2994"/>
                </a:lnTo>
                <a:lnTo>
                  <a:pt x="0" y="3010"/>
                </a:lnTo>
                <a:lnTo>
                  <a:pt x="2" y="3032"/>
                </a:lnTo>
                <a:lnTo>
                  <a:pt x="4" y="305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PlaceHolder 4"/>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94CFD-A305-4F11-AD6C-57ADBE6956E8}"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111240" algn="ctr">
              <a:spcBef>
                <a:spcPts val="70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39680" algn="ctr">
              <a:spcBef>
                <a:spcPts val="601"/>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71360" algn="ctr">
              <a:spcBef>
                <a:spcPts val="499"/>
              </a:spcBef>
              <a:buClr>
                <a:srgbClr val="4068a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223920" algn="ctr">
              <a:spcBef>
                <a:spcPts val="4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ject Alert</a:t>
            </a:r>
            <a:endParaRPr b="0" lang="en-US" sz="4400" spc="-1" strike="noStrike">
              <a:solidFill>
                <a:srgbClr val="ffffff"/>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sson 9-</a:t>
            </a:r>
            <a:endParaRPr b="0" lang="en-US" sz="3200" spc="-1" strike="noStrike">
              <a:solidFill>
                <a:srgbClr val="ffffff"/>
              </a:solidFill>
              <a:latin typeface="Arial"/>
            </a:endParaRPr>
          </a:p>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and Practice of Resistance Techniqu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fontScale="94000"/>
          </a:bodyPr>
          <a:p>
            <a:pPr marL="426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bacco:</a:t>
            </a:r>
            <a:endParaRPr b="0" lang="en-US" sz="2800" spc="-1" strike="noStrike">
              <a:solidFill>
                <a:srgbClr val="ffffff"/>
              </a:solidFill>
              <a:latin typeface="Arial"/>
            </a:endParaRPr>
          </a:p>
          <a:p>
            <a:pPr marL="426600" indent="-33120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re going to see which group can be the first to come up with eight benefits of not using tobacco – cigarettes, smokeless tobacco, cigars.</a:t>
            </a:r>
            <a:endParaRPr b="0" lang="en-US" sz="2800" spc="-1" strike="noStrike">
              <a:solidFill>
                <a:srgbClr val="ffffff"/>
              </a:solidFill>
              <a:latin typeface="Arial"/>
            </a:endParaRPr>
          </a:p>
          <a:p>
            <a:pPr marL="426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26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divide the class into three groups</a:t>
            </a:r>
            <a:endParaRPr b="0" lang="en-US" sz="2800" spc="-1" strike="noStrike">
              <a:solidFill>
                <a:srgbClr val="ffffff"/>
              </a:solidFill>
              <a:latin typeface="Arial"/>
            </a:endParaRPr>
          </a:p>
          <a:p>
            <a:pPr marL="426600" indent="-33120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Recorder must list the numbers 1 to 8 on one sheet and to title it “Tobacco.” </a:t>
            </a:r>
            <a:endParaRPr b="0" lang="en-US" sz="2800" spc="-1" strike="noStrike">
              <a:solidFill>
                <a:srgbClr val="ffffff"/>
              </a:solidFill>
              <a:latin typeface="Arial"/>
            </a:endParaRPr>
          </a:p>
          <a:p>
            <a:pPr marL="426600" indent="-33120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ember that not using tobacco results in good things in terms of health, how we feel about ourselves, what people think of us, and what we don’t have to worry about.</a:t>
            </a:r>
            <a:endParaRPr b="0" lang="en-US" sz="2800" spc="-1" strike="noStrike">
              <a:solidFill>
                <a:srgbClr val="ffffff"/>
              </a:solidFill>
              <a:latin typeface="Arial"/>
            </a:endParaRPr>
          </a:p>
          <a:p>
            <a:pPr marL="4266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n’t start yet: “Hold your markers in the air.”</a:t>
            </a:r>
            <a:endParaRPr b="0" lang="en-US" sz="2800" spc="-1" strike="noStrike">
              <a:solidFill>
                <a:srgbClr val="ffffff"/>
              </a:solidFill>
              <a:latin typeface="Arial"/>
            </a:endParaRPr>
          </a:p>
          <a:p>
            <a:pPr lvl="1" marL="919080" indent="-350640">
              <a:lnSpc>
                <a:spcPct val="90000"/>
              </a:lnSpc>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must write one benefit of not using tobacco by each number on the list.</a:t>
            </a:r>
            <a:endParaRPr b="0" lang="en-US" sz="2400" spc="-1" strike="noStrike">
              <a:solidFill>
                <a:srgbClr val="ffffff"/>
              </a:solidFill>
              <a:latin typeface="Arial"/>
            </a:endParaRPr>
          </a:p>
          <a:p>
            <a:pPr marL="453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r group is done, the Recorder should bring the list up front and tape it to the board. You’re not done until your list is taped up and the rest of your group is seated and quiet.</a:t>
            </a:r>
            <a:endParaRPr b="0" lang="en-US" sz="2800" spc="-1" strike="noStrike">
              <a:solidFill>
                <a:srgbClr val="ffffff"/>
              </a:solidFill>
              <a:latin typeface="Arial"/>
            </a:endParaRPr>
          </a:p>
          <a:p>
            <a:pPr marL="453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y? Begin!</a:t>
            </a:r>
            <a:endParaRPr b="0" lang="en-US" sz="2800" spc="-1" strike="noStrike">
              <a:solidFill>
                <a:srgbClr val="ffffff"/>
              </a:solidFill>
              <a:latin typeface="Arial"/>
            </a:endParaRPr>
          </a:p>
          <a:p>
            <a:pPr marL="453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ijuana and Alcohol</a:t>
            </a: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s do this again for Marijuana and Alcohol!</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s see which group can finish first. When your group is done, the Recorder should bring your list up front and tape it to the board.</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y? Begi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mework:</a:t>
            </a:r>
            <a:endParaRPr b="0" lang="en-US" sz="4000" spc="-1" strike="noStrike">
              <a:solidFill>
                <a:srgbClr val="ffffff"/>
              </a:solidFill>
              <a:latin typeface="Arial"/>
            </a:endParaRPr>
          </a:p>
        </p:txBody>
      </p:sp>
      <p:sp>
        <p:nvSpPr>
          <p:cNvPr id="227"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l Report on Drugs</a:t>
            </a:r>
            <a:endParaRPr b="0" lang="en-US" sz="3200" spc="-1" strike="noStrike">
              <a:solidFill>
                <a:srgbClr val="ffffff"/>
              </a:solidFill>
              <a:latin typeface="Arial"/>
            </a:endParaRPr>
          </a:p>
          <a:p>
            <a:pPr lvl="1" marL="919080" indent="-350640">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an oral report about drugs.  Share this with your families.  When you are done with your report, have them complete the ba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oals</a:t>
            </a:r>
            <a:endParaRPr b="0" lang="en-US" sz="4000" spc="-1" strike="noStrike">
              <a:solidFill>
                <a:srgbClr val="ffffff"/>
              </a:solidFill>
              <a:latin typeface="Arial"/>
            </a:endParaRPr>
          </a:p>
        </p:txBody>
      </p:sp>
      <p:sp>
        <p:nvSpPr>
          <p:cNvPr id="21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4539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To review and practice ways of resisting pressures to use drugs</a:t>
            </a:r>
            <a:endParaRPr b="0" lang="en-US" sz="2800" spc="-1" strike="noStrike">
              <a:solidFill>
                <a:srgbClr val="ffffff"/>
              </a:solidFill>
              <a:latin typeface="Arial"/>
            </a:endParaRPr>
          </a:p>
          <a:p>
            <a:pPr marL="4539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To help students feel capable of resisting when faced with a real-life pressure situation</a:t>
            </a:r>
            <a:endParaRPr b="0" lang="en-US" sz="2800" spc="-1" strike="noStrike">
              <a:solidFill>
                <a:srgbClr val="ffffff"/>
              </a:solidFill>
              <a:latin typeface="Arial"/>
            </a:endParaRPr>
          </a:p>
          <a:p>
            <a:pPr marL="4539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To help students become aware of the benefits of not using dru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day we will be reviewing pressures to use drugs. Then we will act out our own solutions to pressure situations. After that, we will talk a little about some of the good things we get from saying ‘no’ to drug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609480" y="304920"/>
            <a:ext cx="7772400" cy="6248160"/>
          </a:xfrm>
          <a:prstGeom prst="rect">
            <a:avLst/>
          </a:prstGeom>
          <a:noFill/>
          <a:ln w="0">
            <a:noFill/>
          </a:ln>
        </p:spPr>
        <p:txBody>
          <a:bodyPr lIns="90000" rIns="90000" tIns="46800" bIns="46800" anchor="t">
            <a:normAutofit/>
          </a:bodyPr>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let’s review where pressures come from.</a:t>
            </a:r>
            <a:endParaRPr b="0" lang="en-US" sz="2400" spc="-1" strike="noStrike">
              <a:solidFill>
                <a:srgbClr val="ffffff"/>
              </a:solidFill>
              <a:latin typeface="Arial"/>
            </a:endParaRPr>
          </a:p>
          <a:p>
            <a:pPr marL="453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s look at the Poster: Where Does Pressure to Use Drugs Come From?</a:t>
            </a:r>
            <a:endParaRPr b="0" lang="en-US" sz="2400" spc="-1" strike="noStrike">
              <a:solidFill>
                <a:srgbClr val="ffffff"/>
              </a:solidFill>
              <a:latin typeface="Arial"/>
            </a:endParaRPr>
          </a:p>
          <a:p>
            <a:pPr marL="453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essures inside yourself are often hard to identify, but they are important because, in the end, it all comes down to you. You make the decision to use drugs or not. Let’s see how you can resist these internal pressures.</a:t>
            </a:r>
            <a:endParaRPr b="0" lang="en-US" sz="2400" spc="-1" strike="noStrike">
              <a:solidFill>
                <a:srgbClr val="ffffff"/>
              </a:solidFill>
              <a:latin typeface="Arial"/>
            </a:endParaRPr>
          </a:p>
          <a:p>
            <a:pPr marL="453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s look at Pressures From Inside Yourself poster. </a:t>
            </a:r>
            <a:endParaRPr b="0" lang="en-US" sz="2400" spc="-1" strike="noStrike">
              <a:solidFill>
                <a:srgbClr val="ffffff"/>
              </a:solidFill>
              <a:latin typeface="Arial"/>
            </a:endParaRPr>
          </a:p>
          <a:p>
            <a:pPr marL="453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could you say, think, or do if you were feeling bored and you didn’t want to drin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fontScale="95000"/>
          </a:bodyPr>
          <a:p>
            <a:pPr marL="430920" indent="-33480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ve been learning how to spot pressures and how to avoid using drugs by resisting these pressures. Today we’ll get more practice resisting pressure. The more we practice, the easier it will be to say ‘no’ in a real situation.”</a:t>
            </a:r>
            <a:endParaRPr b="0" lang="en-US" sz="2400" spc="-1" strike="noStrike">
              <a:solidFill>
                <a:srgbClr val="ffffff"/>
              </a:solidFill>
              <a:latin typeface="Arial"/>
            </a:endParaRPr>
          </a:p>
          <a:p>
            <a:pPr marL="4309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30920" indent="-33480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practice, we’ll be doing skits in which you make up the pressure situation and the solution.</a:t>
            </a:r>
            <a:endParaRPr b="0" lang="en-US" sz="2400" spc="-1" strike="noStrike">
              <a:solidFill>
                <a:srgbClr val="ffffff"/>
              </a:solidFill>
              <a:latin typeface="Arial"/>
            </a:endParaRPr>
          </a:p>
          <a:p>
            <a:pPr marL="4309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30920" indent="-33480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are some situations in which you sometimes feel pressure from yourself or others to do something you’re not sure you want to do?</a:t>
            </a:r>
            <a:endParaRPr b="0" lang="en-US" sz="2400" spc="-1" strike="noStrike">
              <a:solidFill>
                <a:srgbClr val="ffffff"/>
              </a:solidFill>
              <a:latin typeface="Arial"/>
            </a:endParaRPr>
          </a:p>
          <a:p>
            <a:pPr marL="4309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30920" indent="-33480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could you do to resis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 minute I’m going to divide the class into groups. Each group’s job will be to come up with a pressure situation and a saying ‘no’ solution, rehearse the whole skit, and act it out. Remember that your skits may be about internal or external pressures.</a:t>
            </a:r>
            <a:endParaRPr b="0" lang="en-US" sz="2800" spc="-1" strike="noStrike">
              <a:solidFill>
                <a:srgbClr val="ffffff"/>
              </a:solidFill>
              <a:latin typeface="Arial"/>
            </a:endParaRPr>
          </a:p>
          <a:p>
            <a:pPr marL="453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571320" y="456840"/>
            <a:ext cx="8001000" cy="533412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use the Ways to Say ‘No’ poster and your own ideas to come up with a solution. Remember, the people who say ‘no’ are the main characters in the skit, so really emphasize their parts.</a:t>
            </a: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group will have six minutes to come up with and rehearse its sk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group will select a Director, who will be responsible for getting everyone to work together. </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group will select a Recorder, who will write on their Skit Preparation Sheet the pressure situation and solutions and who plays what part.</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sure your skits are situations that might really happen at school or in your neighborhood.</a:t>
            </a:r>
            <a:endParaRPr b="0" lang="en-US" sz="2800" spc="-1" strike="noStrike">
              <a:solidFill>
                <a:srgbClr val="ffffff"/>
              </a:solidFill>
              <a:latin typeface="Arial"/>
            </a:endParaRPr>
          </a:p>
          <a:p>
            <a:pPr marL="453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divide the class into four or five group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4539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me:</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day we’ve talked about some of the pressures to use drugs, and we’ve practiced resisting them. Now let’s talk about the good things you get from resisting - from not using tobacco, alcohol, or marijuana.</a:t>
            </a:r>
            <a:endParaRPr b="0" lang="en-US" sz="2800" spc="-1" strike="noStrike">
              <a:solidFill>
                <a:srgbClr val="ffffff"/>
              </a:solidFill>
              <a:latin typeface="Arial"/>
            </a:endParaRPr>
          </a:p>
          <a:p>
            <a:pPr marL="4539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 minute we’re going to divide into three groups. I’ll give each group two sheets of chart paper and one marker. Each group will select a Record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6T20:56:55Z</dcterms:created>
  <dc:creator>asd</dc:creator>
  <dc:description/>
  <dc:language>en-US</dc:language>
  <cp:lastModifiedBy>asd</cp:lastModifiedBy>
  <dcterms:modified xsi:type="dcterms:W3CDTF">2011-03-18T22:50:40Z</dcterms:modified>
  <cp:revision>3</cp:revision>
  <dc:subject/>
  <dc:title>Project Alert</dc:title>
</cp:coreProperties>
</file>