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D1D33-2818-4716-B877-2C814C4D7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CD54E-57F3-4CF2-BCF1-2531AC678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A8377-1FE0-4CB9-813D-BDE02CBA4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24144-F764-4787-85E1-E0D1CFC87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0435A-EAA1-4BE4-889A-3E94CBA6F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6B076-C9DC-464B-B384-73F49CFD7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223E9-4DCD-44FC-924C-7F435646D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8D254-5562-4BEC-89EE-166658EFD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B4FDC-99BA-406D-9C80-770527598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DAD3F-F440-4239-9C0A-9B1929A7E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177B2-9CAD-4CA7-BB2E-771300D0B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15C6D-D746-4F6C-8942-89AADF812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C763D-9413-46FF-972C-4AB2A9B7A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A59FD-C4A1-4620-A257-ACFAF5AD8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19C84-F58D-40C5-A983-407374EA4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53FE1-86E4-495D-B2C7-58BA124EB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97CDD-C4D8-4E29-B2C8-010923D4B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AAF61-CD81-49CB-A2F7-BE55672D9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586E6-1EF4-43E5-850F-9E088CD81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58E48-65BD-482A-ACD4-DE007757F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DDD2C-FDA3-45B1-8536-906EDBA6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3154D-90CF-43A3-BA13-C2A64D6F4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4391A-B8DD-4BBB-946F-14B49AD5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45413-ED3E-4BDA-A24C-934EB7931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C432-1F1E-470D-AB3E-641B6938646E}"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F0A7-5DAF-42B2-9B4C-2DD50310FF17}"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9-</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and Practice of Resistance Techniq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4000"/>
          </a:bodyPr>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bacco:</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going to see which group can be the first to come up with eight benefits of not using tobacco – cigarettes, smokeless tobacco, cigars.</a:t>
            </a:r>
            <a:endParaRPr b="0" lang="en-US" sz="2800" spc="-1" strike="noStrike">
              <a:solidFill>
                <a:srgbClr val="ffffff"/>
              </a:solidFill>
              <a:latin typeface="Arial"/>
            </a:endParaRPr>
          </a:p>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divide the class into three groups</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corder must list the numbers 1 to 8 on one sheet and to title it “Tobacco.” </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not using tobacco results in good things in terms of health, how we feel about ourselves, what people think of us, and what we don’t have to worry about.</a:t>
            </a:r>
            <a:endParaRPr b="0" lang="en-US" sz="2800" spc="-1" strike="noStrike">
              <a:solidFill>
                <a:srgbClr val="ffffff"/>
              </a:solidFill>
              <a:latin typeface="Arial"/>
            </a:endParaRPr>
          </a:p>
          <a:p>
            <a:pPr marL="426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start yet: “Hold your markers in the air.”</a:t>
            </a:r>
            <a:endParaRPr b="0" lang="en-US" sz="2800" spc="-1" strike="noStrike">
              <a:solidFill>
                <a:srgbClr val="ffffff"/>
              </a:solidFill>
              <a:latin typeface="Arial"/>
            </a:endParaRPr>
          </a:p>
          <a:p>
            <a:pPr lvl="1" marL="919080" indent="-35064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write one benefit of not using tobacco by each number on the list.</a:t>
            </a:r>
            <a:endParaRPr b="0" lang="en-US" sz="24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r group is done, the Recorder should bring the list up front and tape it to the board. You’re not done until your list is taped up and the rest of your group is seated and quiet.</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y? Begin!</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juana and Alcohol</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do this again for Marijuana and Alcoh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see which group can finish first. When your group is done, the Recorder should bring your list up front and tape it to the boar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y? Beg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l Report on Drugs</a:t>
            </a:r>
            <a:endParaRPr b="0" lang="en-US" sz="32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n oral report about drugs.  Share this with your families.  When you are done with your report, have them complete the b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 review and practice ways of resisting pressures to use drugs</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o help students feel capable of resisting when faced with a real-life pressure situation</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o help students become aware of the benefits of not using dru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be reviewing pressures to use drugs. Then we will act out our own solutions to pressure situations. After that, we will talk a little about some of the good things we get from saying ‘no’ to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09480" y="304920"/>
            <a:ext cx="7772400" cy="624816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let’s review where pressures come from.</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the Poster: Where Does Pressure to Use Drugs Come From?</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sures inside yourself are often hard to identify, but they are important because, in the end, it all comes down to you. You make the decision to use drugs or not. Let’s see how you can resist these internal pressures.</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Pressures From Inside Yourself poster.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you say, think, or do if you were feeling bored and you didn’t want to drin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5000"/>
          </a:bodyPr>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ve been learning how to spot pressures and how to avoid using drugs by resisting these pressures. Today we’ll get more practice resisting pressure. The more we practice, the easier it will be to say ‘no’ in a real situation.”</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actice, we’ll be doing skits in which you make up the pressure situation and the solution.</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situations in which you sometimes feel pressure from yourself or others to do something you’re not sure you want to do?</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you do to resi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minute I’m going to divide the class into groups. Each group’s job will be to come up with a pressure situation and a saying ‘no’ solution, rehearse the whole skit, and act it out. Remember that your skits may be about internal or external pressure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571320" y="456840"/>
            <a:ext cx="8001000" cy="533412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use the Ways to Say ‘No’ poster and your own ideas to come up with a solution. Remember, the people who say ‘no’ are the main characters in the skit, so really emphasize their par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group will have six minutes to come up with and rehearse its sk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Director, who will be responsible for getting everyone to work together.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Recorder, who will write on their Skit Preparation Sheet the pressure situation and solutions and who plays what par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your skits are situations that might really happen at school or in your neighborhood.</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divide the class into four or five grou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ve talked about some of the pressures to use drugs, and we’ve practiced resisting them. Now let’s talk about the good things you get from resisting - from not using tobacco, alcohol, or marijuana.</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minute we’re going to divide into three groups. I’ll give each group two sheets of chart paper and one marker. Each group will select a Recor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20:56:55Z</dcterms:created>
  <dc:creator>asd</dc:creator>
  <dc:description/>
  <dc:language>en-US</dc:language>
  <cp:lastModifiedBy>asd</cp:lastModifiedBy>
  <dcterms:modified xsi:type="dcterms:W3CDTF">2011-03-18T22:50:40Z</dcterms:modified>
  <cp:revision>3</cp:revision>
  <dc:subject/>
  <dc:title>Project Alert</dc:title>
</cp:coreProperties>
</file>