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9B8-E5F3-4A9C-A7EA-1C0374B6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9256-36A1-4639-A14C-282A2CEB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EBE-821B-41CD-B33E-D7E09506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BA10-C4C0-42F6-8165-8E9E6C0C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FD09-E338-450A-B2B2-24D41AD4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31B8-DC9D-4988-B4D6-904B0DB7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4B02-1900-404A-BAAB-059ECE86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3285-C024-46E9-8F3B-BAB27508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16BC-6EF7-4CF0-8A63-43E05959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3EC3-5D6A-40BF-8889-A6D7CF70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2516-850F-4494-BEC8-B7EABC58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7B4-C519-4D4D-9F51-74A0CA00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9A6D-8FDD-4A88-A24F-48DD2FED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0037-7305-4AE1-B253-83446D6C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408C-F9B4-461C-9466-FE256B00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7238-AE12-40BE-8372-E7C7E3FC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8C7E-924C-4D53-AD53-CC5E762C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5BD-B6F5-4D6F-B96A-E929BFEE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51F-C524-45D6-BC6D-A896F51A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E03-1670-4372-AE04-8CE91D83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4B3-3F9F-4BFB-8A77-00A16F00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661-E21C-4920-BAB6-47CC2170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861F-5BEF-467D-9307-9B2D35C0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E35-653F-4A52-8DFB-7395BB97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FF35-7734-4276-8402-C462157F4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6C0B-4E42-4418-8FBE-9B2F5814F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6600"/>
                </a:solidFill>
                <a:latin typeface="Smartie CAPS"/>
              </a:rPr>
              <a:t>Parts of a Cell</a:t>
            </a:r>
            <a:br>
              <a:rPr sz="7200"/>
            </a:br>
            <a:r>
              <a:rPr b="1" lang="en-US" sz="7200" spc="-1" strike="noStrike">
                <a:solidFill>
                  <a:srgbClr val="996600"/>
                </a:solidFill>
                <a:latin typeface="Smartie CAPS"/>
              </a:rPr>
              <a:t>Organelles</a:t>
            </a:r>
            <a:endParaRPr b="1" lang="en-US" sz="72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Mitochondria Picture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3810240" cy="4660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48320" y="1676520"/>
            <a:ext cx="39621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POP QUIZ…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happen if the mitochondria were removed from the cell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happen if the nucleus were removed from the cell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happen if the cell membrane were removed from the cell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happen if the cytoplasm were removed from the cell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IN your JOURNAL…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uctures do animal AND plant cells have in com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ose structures function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6600"/>
                </a:solidFill>
                <a:latin typeface="Smartie CAPS"/>
              </a:rPr>
              <a:t>Learning Target:</a:t>
            </a:r>
            <a:endParaRPr b="1" lang="en-US" sz="7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…explain that plant and animals cells must carry on life functions which is why they must have parts in common,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Nucleu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and Plant cells have a nucle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the “Brain” or “Control Center” of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ell activities are directed by the nucleus.  DNA can be found here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  Large oval body near the center of the cell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Nucleus Picture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619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Cytoplasm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and Plant cells have cytoplas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lly-like substance that constantly flows within the cell membrane.  Most chemical reactions happen h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: outside of the nucleus but within the cell membra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structures called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Cytoplasm Picture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0320" y="1828800"/>
            <a:ext cx="762156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Cell Membran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and Plant cells have cell membra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the cell shape and holds the cytoplasm. Controls what moves in and out of the cell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boundary of cell, separates one cell from anot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Cell Membrane Picture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619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Pokemon Hollow Normal"/>
              </a:rPr>
              <a:t>Mitochondri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and Plant cells have mitochondr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the “Powerhouse” of the cell because it produces energy for the cell when food is broken dow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cells contain 1000s of mitochondr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: in the cytoplas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8:01:38Z</dcterms:created>
  <dc:creator>asd</dc:creator>
  <dc:description/>
  <dc:language>en-US</dc:language>
  <cp:lastModifiedBy>asd</cp:lastModifiedBy>
  <dcterms:modified xsi:type="dcterms:W3CDTF">2010-03-18T17:52:21Z</dcterms:modified>
  <cp:revision>6</cp:revision>
  <dc:subject/>
  <dc:title>Parts of a Cell Organelles</dc:title>
</cp:coreProperties>
</file>