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C2E-6FD9-4C04-8B25-C884E02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2D7-AB40-46D6-9224-4DDDE836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BF6-2009-4CF2-B774-5C7520FB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B6F-ACC0-4617-A0F4-AD514361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F89-991A-4B35-93A7-C68605B1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CFF1-5F0E-496E-ACB6-B8BD4AB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DD4-B405-4B4F-A2AD-22B2F9C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DC2F-4E68-402C-90EC-1F697FA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93F-A2C1-45D9-86F2-D77E36B4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ED32-A12D-4494-A111-102C433E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80B-D807-440B-9EB1-90F7A88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EA6-7FD9-441E-88FD-2CE2058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C5D5-F742-4B59-A4CD-6E7F9B9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4A4B-6696-407D-A458-571A826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7F43-614C-4411-95AB-FEDDCB2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1EDC-2AE9-4346-9F2D-3371A8A9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702-79DC-4F18-8533-8DAFDB55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B7C-EB22-4516-B08A-C5FBB59D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A13-BA10-4E07-8C11-D2A863A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A9F-800F-4E1B-A917-C97FE7A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B6C-4116-46A4-8AFE-6011666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688-DE99-49F9-BAFA-2B390EB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148-FD1E-49F6-80A7-1DFEC28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2A1-D330-440E-A9A9-0B05794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268-1E72-4C63-B519-817510B7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DCE9-7D2C-4228-BB7E-6F520817E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Parts of a Cell</a:t>
            </a:r>
            <a:br>
              <a:rPr sz="7200"/>
            </a:b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Organelles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962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POP QUIZ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mitochondria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nucleus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ell membrane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ytoplasm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IN your JOURNAL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s do animal AND plant cell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ose structures func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Learning Target: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…explain that plant and animals cells must carry on life functions which is why they must have parts in common,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a nucle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Brain” or “Control Center”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ell activities are directed by the nucleus.  DNA can be found her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 Large oval body near the center of the cell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-like substance that constantly flows within the cell membrane.  Most chemical reactions happen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outside of the nucleus but within the cell membr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tructures calle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0320" y="1828800"/>
            <a:ext cx="76215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cell membra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cell shape and holds the cytoplasm. Controls what moves in and out of the cell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boundary of cell, separates one cell from an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Powerhouse” of the cell because it produces energy for the cell when food is broken dow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1000s of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in th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01:38Z</dcterms:created>
  <dc:creator>asd</dc:creator>
  <dc:description/>
  <dc:language>en-US</dc:language>
  <cp:lastModifiedBy>asd</cp:lastModifiedBy>
  <dcterms:modified xsi:type="dcterms:W3CDTF">2010-03-18T17:52:21Z</dcterms:modified>
  <cp:revision>6</cp:revision>
  <dc:subject/>
  <dc:title>Parts of a Cell Organelles</dc:title>
</cp:coreProperties>
</file>