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D932-9ED9-4091-88AD-8C95979C9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FB91-6F7F-41E0-A145-5B79D788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79D7-9736-4FFB-B6D0-9B6F71F14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6E6D-FED2-4A80-98DE-5A280037A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61F8-58EB-4229-8127-DF19702E3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D226-F49C-45FB-B84C-50565165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B343-2B53-40A2-9FA7-7133EFF6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4E11-4BFD-49E6-90B5-F0F0AB27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E3C0-E93F-49F1-B821-C6ED749F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23C4-EB45-485A-98BD-C96AA1B6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0E7F-E27C-4209-9A39-E4B5B7D7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8F4C-ADE8-4DDF-9281-8727C147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778F-FE72-4FEB-A090-157BB640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A0B2-86C0-48AF-983B-31159F82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BC35-2D5D-4C93-A8B6-93FC270C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46F2-5837-4D0F-B622-2FA00181F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98E6-A439-4F95-867C-BAAC27CA3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3C86-05A9-486A-8448-40B6EF83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8CA2-1422-48F3-8C2D-5073B361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E2CC-E478-4492-B774-543BF1FB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A93E-A60E-46ED-9777-C64703E2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8E41-6DAA-4010-86C8-9A5C2B1B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0B41-2043-4284-A7EF-074BC99D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5308-5849-490C-99DB-1CF770BA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B9BC-7782-46CF-994E-8F2640984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A72F-E7A2-4748-8E5D-21198B6F0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78695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6600"/>
                </a:solidFill>
                <a:latin typeface="Smartie CAPS"/>
              </a:rPr>
              <a:t>Parts of a Cell</a:t>
            </a:r>
            <a:br>
              <a:rPr sz="7200"/>
            </a:br>
            <a:r>
              <a:rPr b="1" lang="en-US" sz="7200" spc="-1" strike="noStrike">
                <a:solidFill>
                  <a:srgbClr val="996600"/>
                </a:solidFill>
                <a:latin typeface="Smartie CAPS"/>
              </a:rPr>
              <a:t>Organelles</a:t>
            </a:r>
            <a:endParaRPr b="1" lang="en-US" sz="72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Pokemon Hollow Normal"/>
              </a:rPr>
              <a:t>Mitochondria Picture!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3810240" cy="4660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648320" y="1676520"/>
            <a:ext cx="39621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Pokemon Hollow Normal"/>
              </a:rPr>
              <a:t>POP QUIZ…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ould happen if the mitochondria were removed from the cell? 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ould happen if the nucleus were removed from the cell? 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ould happen if the cell membrane were removed from the cell? 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ould happen if the cytoplasm were removed from the cell? 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Pokemon Hollow Normal"/>
              </a:rPr>
              <a:t>IN your JOURNAL…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tructures do animal AND plant cells have in comm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ose structures function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6600"/>
                </a:solidFill>
                <a:latin typeface="Smartie CAPS"/>
              </a:rPr>
              <a:t>Learning Target:</a:t>
            </a:r>
            <a:endParaRPr b="1" lang="en-US" sz="7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…explain that plant and animals cells must carry on life functions which is why they must have parts in common, such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Pokemon Hollow Normal"/>
              </a:rPr>
              <a:t>Nucleu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 and Plant cells have a nucle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n as the “Brain” or “Control Center” of the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ell activities are directed by the nucleus.  DNA can be found here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:  Large oval body near the center of the cell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Pokemon Hollow Normal"/>
              </a:rPr>
              <a:t>Nucleus Picture!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62120" y="1828800"/>
            <a:ext cx="76197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Pokemon Hollow Normal"/>
              </a:rPr>
              <a:t>Cytoplasm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 and Plant cells have cytoplas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lly-like substance that constantly flows within the cell membrane.  Most chemical reactions happen he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d: outside of the nucleus but within the cell membran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structures called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Pokemon Hollow Normal"/>
              </a:rPr>
              <a:t>Cytoplasm Picture!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60320" y="1828800"/>
            <a:ext cx="762156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Pokemon Hollow Normal"/>
              </a:rPr>
              <a:t>Cell Membran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 and Plant cells have cell membran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 the cell shape and holds the cytoplasm. Controls what moves in and out of the cell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er boundary of cell, separates one cell from anoth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Pokemon Hollow Normal"/>
              </a:rPr>
              <a:t>Cell Membrane Picture!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62120" y="1828800"/>
            <a:ext cx="76197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Pokemon Hollow Normal"/>
              </a:rPr>
              <a:t>Mitochondria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 and Plant cells have mitochondri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n as the “Powerhouse” of the cell because it produces energy for the cell when food is broken dow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cle cells contain 1000s of mitochondri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d: in the cytoplas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8:01:38Z</dcterms:created>
  <dc:creator>asd</dc:creator>
  <dc:description/>
  <dc:language>en-US</dc:language>
  <cp:lastModifiedBy>asd</cp:lastModifiedBy>
  <dcterms:modified xsi:type="dcterms:W3CDTF">2010-03-18T17:52:21Z</dcterms:modified>
  <cp:revision>6</cp:revision>
  <dc:subject/>
  <dc:title>Parts of a Cell Organelles</dc:title>
</cp:coreProperties>
</file>