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732-B503-4500-B928-2FFDC6E0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64C-631B-4C81-BF28-5AD02044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9BF-7811-4C5D-8070-27CF6425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8C6-525E-4E85-B4EF-40DC3001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B128-FB5F-47F5-9158-67108B3A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800B-D798-4E82-A501-4B700C18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6801-7E2F-4C87-AE2D-9D525C16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80A7-937D-4F35-ACA4-769D249D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D2E-784F-414E-A40B-542BA039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EF31-1BAF-4B01-8339-0BA88012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F421-2D9F-446D-83BF-33990B7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C31-8700-411C-84C2-B92F915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F948-75F0-4AA3-B5B7-8E28DE89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CB32-A628-4E0C-8401-A7340F18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DB3E-D958-4A86-8455-4BC3E0BE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22B-C654-4463-B7B2-724939E3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F75E-17CF-4897-9183-59F352C4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DE5-4D61-43B8-A796-772CF40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E67-E601-4971-9D3E-B9F50D83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94C-753C-4AB4-95C7-5C488B6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8D8-6D7B-4EBF-AF7D-26C3F8AD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A47-5D66-4AF8-B93D-291D7586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4CC-C594-4B94-AAC5-F835928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6EF-6EDE-497E-8CBE-EBAEC56A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332-4B2A-47FA-96E2-EB9B71813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DF0-A506-4604-9809-8090CC19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Parts of a Cell</a:t>
            </a:r>
            <a:br>
              <a:rPr sz="7200"/>
            </a:b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Organelles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3962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POP QUIZ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mitochondria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nucleus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ell membrane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ytoplasm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IN your JOURNAL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s do animal AND plant cell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ose structures func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Learning Target: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…explain that plant and animals cells must carry on life functions which is why they must have parts in common,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a nucle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Brain” or “Control Center”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ell activities are directed by the nucleus.  DNA can be found here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 Large oval body near the center of the cell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-like substance that constantly flows within the cell membrane.  Most chemical reactions happen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outside of the nucleus but within the cell membr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tructures calle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0320" y="1828800"/>
            <a:ext cx="76215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and Plant cells have cell membra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cell shape and holds the cytoplasm. Controls what moves in and out of the cell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boundary of cell, separates one cell from an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Powerhouse” of the cell because it produces energy for the cell when food is broken dow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contain 1000s of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in th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01:38Z</dcterms:created>
  <dc:creator>asd</dc:creator>
  <dc:description/>
  <dc:language>en-US</dc:language>
  <cp:lastModifiedBy>asd</cp:lastModifiedBy>
  <dcterms:modified xsi:type="dcterms:W3CDTF">2010-03-18T17:52:21Z</dcterms:modified>
  <cp:revision>6</cp:revision>
  <dc:subject/>
  <dc:title>Parts of a Cell Organelles</dc:title>
</cp:coreProperties>
</file>