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389-6E35-4908-B30E-0D8D3F06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266-AE95-4168-844A-94CA6EC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28F-941D-40EB-BB8B-ED615794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6FC-0345-4051-B4D6-308A8396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C14E-767B-49E5-AAD6-BE33446B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EEF8-6DED-409D-821A-3733815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F7EE-9046-43DB-BC24-E15890B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7DD1-24AF-46B2-9244-C805C548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B78F-E15D-4DFC-9CE5-379D48D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88B-EEFD-41C4-AB83-7BD6CBBE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95F7-9C39-454D-97F8-2C88F91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4DE-5951-4D94-907C-5238397A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82AC-E200-46CA-B299-AC93402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3C31-D77F-4CA8-9CC0-4030A08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D662-402E-4A6D-9B92-ECB6E4FA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DEC4-CEF9-497C-A3B5-4BD1F7C5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A96C-A6F9-480D-A423-47E93F02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BD0-4C0B-42FC-81F9-8966F46F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1F3-D5E9-4281-810C-C61033DD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01B-2959-485D-8324-7658413F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54E-7F59-4260-B3A5-08BEA475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967-1075-4FED-B62D-6BBD662F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9BC-B605-4210-B874-D490027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A93-DE5F-4491-82D9-E185990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BBDB-B88E-4EBE-9AE2-E11428E8EB1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ACA9-09D7-48DF-ABD9-B075339AFC8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Not Using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 hope your remember ways to say ‘no’ and what you learned during Project Al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en I call your name, please come forward.  I will return your commitment statement which is kind of a Project ALERT graduation certif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oday is our last lesson for Project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Fi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rs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r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going to play a game that reviews wha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ed in Project AL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n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about what some high school students think about using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fter that, you’ll have a chance to write how you feel about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 are going to play a game.  This answers come from previous lessons and from some of the handouts I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given you. Let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s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e how much you rem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e will have 4-5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’ll ask a question.  Each team has to come up with a single answer to the question.  The answer has to be written down.  If it isn’t the team is disqualified on hat 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eams must work quickly and hold up their answer when I say “Time’s Up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ny team that gives the correct answer gets a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ach team must pick one person to give the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lect: a recorder and a scorekee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umber 1 to 16 in the small box of each quadrant.  The recorder will write the answer in the square with the same question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deo:  Saying “No” to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413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No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what some high school students have to say about using drugs. Look for reasons they had for resi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did the high school students on the video say that is similar to some of the things you think about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are some other things those high school students said about not using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ve you ever heard older students say things like what was said on the vid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On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 thing that helps people stick to their decisions is to write them down as commitments. How do you think commitments help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e certificates I will be handing out are a change for you to write, in your own words, why you have made the decision to choose a healthy lifestyle free from drugs. I want to remind you that tobacco, alcohol, and marijuana are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a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ke a few minutes now to write down your own thoughts. Be honest. There are no right or wrong commitments. Your statement may be long or sh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might it help to share our commitments with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6:53:40Z</dcterms:created>
  <dc:creator>asd</dc:creator>
  <dc:description/>
  <dc:language>en-US</dc:language>
  <cp:lastModifiedBy>asd</cp:lastModifiedBy>
  <dcterms:modified xsi:type="dcterms:W3CDTF">2011-03-19T17:07:59Z</dcterms:modified>
  <cp:revision>1</cp:revision>
  <dc:subject/>
  <dc:title>Project Alert</dc:title>
</cp:coreProperties>
</file>