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052-E59F-413A-BB21-1EFF9E00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D8A-84A5-4D78-851F-06EE7490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CFD-BB0D-402D-B544-55AEB780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9A9-91C4-4A37-AF7B-B40C0F4B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48D-5D01-44AD-830E-890E31D5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F5A0-87BC-4AC2-A908-4BAE7B56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5B6-39BA-477C-8354-87F8590F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C7F-B19C-4DF5-B5BB-63FF684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078-861C-4251-B061-167F2FCB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B65-49BC-476A-AB44-997D707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26E-F3EC-4EE1-9618-5BB635F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169-5E4D-4C40-A58E-7FC3840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23A-BC67-4C48-88CB-EC81A2A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EA6-CE39-4FD9-BBC0-97EC8D3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07B0-D657-459D-BA09-FA68323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E064-D03D-40B7-9A3D-212E7A98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5B9-B279-4A22-8556-152BBFA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449-DB9B-4532-AACB-7A7E907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291-B6DB-4AC1-B488-7C2335A7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B27-42C1-4EB6-8FF7-F1DA71C6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151-5612-4321-898D-FE0B53BB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38-043A-4D98-9A17-C92570D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3CF-B28F-4B44-B5A9-5C30ED44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55A-82F2-41A6-A5A7-848F58F8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C295-FD9C-416B-A3E5-207E6B88966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FD2-85A2-41CD-9985-02632F515C1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Not Using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 hope your remember ways to say ‘no’ and what you learned during Project Al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en I call your name, please come forward.  I will return your commitment statement which is kind of a Project ALERT graduation certif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oday is our last lesson for Project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Fi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rs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r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going to play a game that reviews wha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ed in Project AL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n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about what some high school students think about using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fter that, you’ll have a chance to write how you feel about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 are going to play a game.  This answers come from previous lessons and from some of the handouts I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given you. Let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s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e how much you rem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e will have 4-5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’ll ask a question.  Each team has to come up with a single answer to the question.  The answer has to be written down.  If it isn’t the team is disqualified on hat 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eams must work quickly and hold up their answer when I say “Time’s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ny team that gives the correct answer gets a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ach team must pick one person to give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lect: a recorder and a scorek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umber 1 to 16 in the small box of each quadrant.  The recorder will write the answer in the square with the same question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deo:  Saying “No” to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41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No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what some high school students have to say about using drugs. Look for reasons they had for resi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did the high school students on the video say that is similar to some of the things you think about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are some other things those high school students said about not using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ve you ever heard older students say things like what was said on the vid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On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 thing that helps people stick to their decisions is to write them down as commitments. How do you think commitments help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e certificates I will be handing out are a change for you to write, in your own words, why you have made the decision to choose a healthy lifestyle free from drugs. I want to remind you that tobacco, alcohol, and marijuana are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a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ke a few minutes now to write down your own thoughts. Be honest. There are no right or wrong commitments. Your statement may be long or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might it help to share our commitments with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53:40Z</dcterms:created>
  <dc:creator>asd</dc:creator>
  <dc:description/>
  <dc:language>en-US</dc:language>
  <cp:lastModifiedBy>asd</cp:lastModifiedBy>
  <dcterms:modified xsi:type="dcterms:W3CDTF">2011-03-19T17:07:59Z</dcterms:modified>
  <cp:revision>1</cp:revision>
  <dc:subject/>
  <dc:title>Project Alert</dc:title>
</cp:coreProperties>
</file>