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307-2D33-4BD7-984C-1CC8D8A3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DF7-A717-47B0-BF7F-19C22302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4DEF-B181-46EF-A4BF-5F905219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16D2-34D7-40B7-81A2-A785A88A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8E49-EAC9-4085-A9A3-A79D0713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6094-7141-4C44-BD42-972DE073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E338-2E1F-448C-9D71-345867FC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FB06-6E8C-4136-812B-3C8DD8B5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63F9-D14B-49A0-8963-96C7D668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0531-335B-459B-8EDB-350377B0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BC60-B4F3-4421-B183-7835A4A8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3A9F-0680-49C0-9065-04DF3AC2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71A8-BBEA-4A0D-9DAD-F50EEA74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8E97-6986-4485-8A1F-8B9170F3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4FC3-AAD4-47FA-95C8-5090F40D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391B-4133-4A0B-B173-9FF77158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119F-98A2-4613-88CF-9136AE96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5D9-5A05-4808-8612-621BAC08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12A-F071-45E4-A753-68B808A6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078-99A4-4287-A48D-2CB5F5EC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F55-94D5-4BB9-95A2-69B06441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2A9-CC31-4E73-ACBC-35EC3ABC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A9C-90A7-4BC3-8344-DA4B8274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552-7E33-4D05-B97C-6A593DFE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998E-6D2C-45E6-A652-2A4EAC0428D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B2AD-1311-4C43-A58D-ED833CD8A11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Al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11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 of Not Using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itments to Choose a Healthy Lifestyle Free From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I hope your remember ways to say ‘no’ and what you learned during Project Ale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en I call your name, please come forward.  I will return your commitment statement which is kind of a Project ALERT graduation certific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Today is our last lesson for Project Al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Fi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rst w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’r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 going to play a game that reviews what w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’v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 learned in Project AL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Wh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en w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’ll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 learn about what some high school students think about using dru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After that, you’ll have a chance to write how you feel about dru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tion Review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Now we are going to play a game.  This answers come from previous lessons and from some of the handouts I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v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given you. Let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s 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see how much you reme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tion Review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e will have 4-5 te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I’ll ask a question.  Each team has to come up with a single answer to the question.  The answer has to be written down.  If it isn’t the team is disqualified on hat 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tion Review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9280" indent="-3488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Teams must work quickly and hold up their answer when I say “Time’s Up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9280" indent="-3488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Any team that gives the correct answer gets a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9280" indent="-3488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Each team must pick one person to give the ans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9280" indent="-3488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Select: a recorder and a scorekee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tion Review Ga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Number 1 to 16 in the small box of each quadrant.  The recorder will write the answer in the square with the same question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deo:  Saying “No” to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1240" indent="-2959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41413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No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w we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’ll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 learn what some high school students have to say about using drugs. Look for reasons they had for resi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W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at did the high school students on the video say that is similar to some of the things you think about drug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Lucida Grande"/>
              </a:rPr>
              <a:t>W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at are some other things those high school students said about not using drug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Lucida Grande"/>
              </a:rPr>
              <a:t>H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ve you ever heard older students say things like what was said on the vide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itments to Choose a Healthy Lifestyle Free From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7600" indent="-3240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On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e thing that helps people stick to their decisions is to write them down as commitments. How do you think commitments help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The certificates I will be handing out are a change for you to write, in your own words, why you have made the decision to choose a healthy lifestyle free from drugs. I want to remind you that tobacco, alcohol, and marijuana are dru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itments to Choose a Healthy Lifestyle Free From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Ta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ke a few minutes now to write down your own thoughts. Be honest. There are no right or wrong commitments. Your statement may be long or sh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How might it help to share our commitments with o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6:53:40Z</dcterms:created>
  <dc:creator>asd</dc:creator>
  <dc:description/>
  <dc:language>en-US</dc:language>
  <cp:lastModifiedBy>asd</cp:lastModifiedBy>
  <dcterms:modified xsi:type="dcterms:W3CDTF">2011-03-19T17:07:59Z</dcterms:modified>
  <cp:revision>1</cp:revision>
  <dc:subject/>
  <dc:title>Project Alert</dc:title>
</cp:coreProperties>
</file>