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E90-CD12-4B7A-981E-47572A10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23B-0D89-48CD-A690-8FE9818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BD3-9001-4AE9-A2A2-30EE3BD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1C5-462A-49F3-AC08-F333375E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B479-DCCC-4F1A-9053-0DC7C7BD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D551-1364-40BD-BA35-0BC260AB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AAF0-D7F2-4F7C-9E9B-6DE5EE09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F69-03D3-4BE9-8B3E-85A134C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BC6F-C06E-4248-8F66-31C3B90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1E0-2D90-4720-BAA7-4E54FAE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C8B8-C5DA-43A8-9772-C486623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7DE-22EA-41E6-B51F-C6F22F00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FA57-BF6D-4112-A689-6C8B7BA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130-D90C-4BC0-B654-398C33C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4B14-789C-4AD6-ABD6-9F9ADAD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ACFB-5DFE-466D-93DD-1A813219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F64-9010-4375-B554-C8D63CC3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61A-054B-4E57-A475-636A0F0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4C9-49C9-45D3-9295-5C8C284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4BC-667F-4B6E-97A8-FAF63EFA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040-5B2E-4814-9BCE-36E499F2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104-A8B2-48AC-BAE5-10CDFE6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18E-0DC6-4438-AC30-9AE637C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235-CD3E-45DC-96CC-4CFF1D4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DE6-340A-44A1-ABF6-43674915F32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A74-9493-4897-98F2-15B89DCEC2B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Not Using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 hope your remember ways to say ‘no’ and what you learned during Project Al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en I call your name, please come forward.  I will return your commitment statement which is kind of a Project ALERT graduation certif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oday is our last lesson for Project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Fi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rs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r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going to play a game that reviews wha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ed in Project AL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n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about what some high school students think about using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fter that, you’ll have a chance to write how you feel about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 are going to play a game.  This answers come from previous lessons and from some of the handouts I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given you. Let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s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e how much you rem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e will have 4-5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’ll ask a question.  Each team has to come up with a single answer to the question.  The answer has to be written down.  If it isn’t the team is disqualified on hat 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eams must work quickly and hold up their answer when I say “Time’s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ny team that gives the correct answer gets a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ach team must pick one person to give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lect: a recorder and a scorek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umber 1 to 16 in the small box of each quadrant.  The recorder will write the answer in the square with the same question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deo:  Saying “No” to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41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No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what some high school students have to say about using drugs. Look for reasons they had for resi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did the high school students on the video say that is similar to some of the things you think about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are some other things those high school students said about not using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ve you ever heard older students say things like what was said on the vid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On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 thing that helps people stick to their decisions is to write them down as commitments. How do you think commitments help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e certificates I will be handing out are a change for you to write, in your own words, why you have made the decision to choose a healthy lifestyle free from drugs. I want to remind you that tobacco, alcohol, and marijuana are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a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ke a few minutes now to write down your own thoughts. Be honest. There are no right or wrong commitments. Your statement may be long or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might it help to share our commitments with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53:40Z</dcterms:created>
  <dc:creator>asd</dc:creator>
  <dc:description/>
  <dc:language>en-US</dc:language>
  <cp:lastModifiedBy>asd</cp:lastModifiedBy>
  <dcterms:modified xsi:type="dcterms:W3CDTF">2011-03-19T17:07:59Z</dcterms:modified>
  <cp:revision>1</cp:revision>
  <dc:subject/>
  <dc:title>Project Alert</dc:title>
</cp:coreProperties>
</file>