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195-34F3-44B8-861B-43BB42D3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D73-F483-4F04-B415-E5E45292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F31-FB2D-48BA-AFA5-3AC707DB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5D5D-8EE3-44FA-80D1-0E4D35ED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4C82-07F3-4D72-BA15-887DBCDE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8345-CB42-41AD-AC82-7E1FB365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8D0A-EE55-409A-BF15-D3CD8407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9C38-09E2-4B50-9160-5BC479BA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4A33-364E-4896-8F00-7EFB16B8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4198-D4F6-41ED-A8F6-B09F36FB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E381-F91E-4CA6-80C0-EBC2D897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30E-7530-427F-A281-8AE1183D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63F6-7CE3-4C39-9980-E5A8F74F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B4FE-3B4B-4359-973A-4533C24C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E3B3-A3A6-41FF-908A-D3F3390B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BB4E-5E17-4CC4-BF2F-DFA1CB6C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B1E0-478C-4E98-A06F-266A4677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5B60-D9BC-44A4-9515-54A0B312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649-2F4B-4A66-99D7-976D1118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EA2-DE17-4E2E-A65E-205B5C43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AE9-4F8C-427D-BDF0-58910B2E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A610-C8C7-47E7-A58C-957BE027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31FA-6EB1-4880-B8BC-CAB7C480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264-34B9-4C3C-99B1-78891AC6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8870-EED8-4E1D-ACC0-CBE0374310A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339E-3AB7-4EED-BC91-45477269DD2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Al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2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quences of smoking cigarettes and Mariju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ap-U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Teenagers want to know about Alcoho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Th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is information will help you in a game we will  be playing in the next lesson.  Please read it before tomorrow’s les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To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day you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ll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learn more about how cigarettes and marijuana affect people. W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ll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talk about exactly what happens when you smoke a cigarette or a j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moking Cigaret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when you smoke a cigarette for the first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to you after you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v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smoked cigarettes for a while, like for a few weeks or month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after you’v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smoked a long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2590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effects are also true for smokeless tobacco (chew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Marijua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when you use marijuana for the first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to you after you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v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used marijuana for a while (regularly at parties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after you’v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used for a long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: The Party Cras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Here’s a question many young people as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Can marijuana hurt you if you use it just o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Now w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ll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see a video that answers that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mar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How did Colleen look at the end of the video? Why? What do you think happened when her parents arrived ho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at happened when the kids at the party got hig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mar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o didn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t 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smoke marijuana in the video and what was their reas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How did they say ‘no’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y was Angela so upset when Frank took a h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mar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y was Kim concerned about the marijuan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did A.J. and Lori do after the marijuana was passed arou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did Rich do?  What did Jim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4:54:17Z</dcterms:created>
  <dc:creator>asd</dc:creator>
  <dc:description/>
  <dc:language>en-US</dc:language>
  <cp:lastModifiedBy>asd</cp:lastModifiedBy>
  <dcterms:modified xsi:type="dcterms:W3CDTF">2011-03-15T05:09:55Z</dcterms:modified>
  <cp:revision>1</cp:revision>
  <dc:subject/>
  <dc:title>Project Alert</dc:title>
</cp:coreProperties>
</file>