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BFC-3E83-4E24-ADCD-D2056323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20EF-BB4B-4C64-8C10-A29F3C0F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3C21-E2B5-4D83-A7AF-81C453D6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520F-5E50-456F-A4C6-BB2B760A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5434-C726-47B2-AFC3-C5378D07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A32D-C4C2-449F-B408-220FF7B0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4CBD-9287-4843-A03F-C2B7C146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B76B-21E3-40FE-A5B5-FF9EE830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0DD2-3A67-45A4-B4E5-2A15AE15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4BF9-9491-44FD-8E13-6A7322FD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F94A-2A1D-4584-9C90-ED18536A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FC47-F3E8-4B27-B086-9B87105A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0FEB-CEF9-4D03-96F5-13522958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6662-6C24-45C0-99F3-635B9E71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BF5E-CE99-4693-9329-16328424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D646-1E22-4C9C-9A99-76DF3568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8526-25C2-49B6-964A-7DDB4B0C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BABB-BA70-45D2-8490-A29D840F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FBF8-48C2-40E0-B6AB-6A241309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D52-A125-40CF-BA07-258FB961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323-6302-4E77-9652-76D501F6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211-9F7A-4D49-8ABB-63280BD2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3FA-0EFF-4730-8F94-7F98CDDC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906-E932-42F3-BC5C-EE54F821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9AD1-1D4C-4C8C-B864-56790D8E2BF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318B-2AF0-4997-9F1D-FF291C9A7CE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Al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2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quences of smoking cigarettes and Mariju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ap-U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Teenagers want to know about Alcoho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Th</a:t>
            </a: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is information will help you in a game we will  be playing in the next lesson.  Please read it before tomorrow’s les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To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day you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ll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learn more about how cigarettes and marijuana affect people. W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ll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talk about exactly what happens when you smoke a cigarette or a j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moking Cigaret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when you smoke a cigarette for the first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to you after you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v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smoked cigarettes for a while, like for a few weeks or month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after you’v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smoked a long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2590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effects are also true for smokeless tobacco (chew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Marijua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when you use marijuana for the first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to you after you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v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used marijuana for a while (regularly at parties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can happen after you’v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used for a long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: The Party Cras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Here’s a question many young people as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e65a0"/>
                </a:solidFill>
                <a:latin typeface="Arial"/>
              </a:rPr>
              <a:t>Can marijuana hurt you if you use it just o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Now we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ll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 see a video that answers that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mar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How did Colleen look at the end of the video? Why? What do you think happened when her parents arrived ho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at happened when the kids at the party got hig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mar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o didn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’t </a:t>
            </a: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smoke marijuana in the video and what was their reas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How did they say ‘no’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y was Angela so upset when Frank took a h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mari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y was Kim concerned about the marijuan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did A.J. and Lori do after the marijuana was passed arou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e65a0"/>
                </a:solidFill>
                <a:latin typeface="Arial"/>
              </a:rPr>
              <a:t>What did Rich do?  What did Jim 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4:54:17Z</dcterms:created>
  <dc:creator>asd</dc:creator>
  <dc:description/>
  <dc:language>en-US</dc:language>
  <cp:lastModifiedBy>asd</cp:lastModifiedBy>
  <dcterms:modified xsi:type="dcterms:W3CDTF">2011-03-15T05:09:55Z</dcterms:modified>
  <cp:revision>1</cp:revision>
  <dc:subject/>
  <dc:title>Project Alert</dc:title>
</cp:coreProperties>
</file>