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7D1-9E84-4C58-B49B-89D5BA6D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0EA-DC39-4DB5-9A4B-1D5FD396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4D0-99C0-4543-B10D-12C17375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2A0A-39BA-4166-8565-7D013B08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7670-CC85-4747-8757-ABA27D8A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185A-C0BF-45E0-A00A-36CDBF2E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5004-235F-4FC6-8C80-D3BBD078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DB12-A5A7-48A0-8D41-1D1D372F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1859-98E4-4B22-911A-786F42A6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3125-5A34-4741-BAA9-45DCB220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C1ED-E9B7-4DBE-B208-DEE981B8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E137-290C-476C-AD4B-856AA1FF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75E1-6FF6-4FCA-B9CB-3F62BD0E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2A52-1D4A-4268-8133-DEBAE944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D51E-CC39-45C3-BE27-ABC20B86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F118-A93A-47CA-88DA-A701C027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9817-2916-4E1A-AF84-D6E78AAA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7232-AE17-4919-B0B3-1FF40951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D9A5-F353-4D06-93E2-1746D9F7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5B28-F328-474E-9DF2-559509DD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BB1-2FED-498B-84C8-8D2BC4D8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9E3-B76F-4095-9BCB-FDF77A9C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571-2FB1-4F87-B61B-02FA5371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CA3-6C30-41B0-80FC-5373BA49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C1E2-ABFF-4829-9729-2EBCF34717A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501E-F33D-4BE0-BA79-B23C33AAC77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Al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2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quences of smoking cigarettes and Mariju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ap-U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Teenagers want to know about Alcoho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Th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is information will help you in a game we will  be playing in the next lesson.  Please read it before tomorrow’s les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To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day you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ll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learn more about how cigarettes and marijuana affect people. W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ll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talk about exactly what happens when you smoke a cigarette or a j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moking Cigaret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when you smoke a cigarette for the first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to you after you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v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smoked cigarettes for a while, like for a few weeks or month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after you’v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smoked a long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2590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effects are also true for smokeless tobacco (chew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Marijua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when you use marijuana for the first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to you after you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v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used marijuana for a while (regularly at parties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after you’v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used for a long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: The Party Cras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Here’s a question many young people as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Can marijuana hurt you if you use it just o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Now w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ll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see a video that answers that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mar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How did Colleen look at the end of the video? Why? What do you think happened when her parents arrived ho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at happened when the kids at the party got hig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mar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o didn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t 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smoke marijuana in the video and what was their reas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How did they say ‘no’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y was Angela so upset when Frank took a h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mar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y was Kim concerned about the marijuan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did A.J. and Lori do after the marijuana was passed arou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did Rich do?  What did Jim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4:54:17Z</dcterms:created>
  <dc:creator>asd</dc:creator>
  <dc:description/>
  <dc:language>en-US</dc:language>
  <cp:lastModifiedBy>asd</cp:lastModifiedBy>
  <dcterms:modified xsi:type="dcterms:W3CDTF">2011-03-15T05:09:55Z</dcterms:modified>
  <cp:revision>1</cp:revision>
  <dc:subject/>
  <dc:title>Project Alert</dc:title>
</cp:coreProperties>
</file>