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2A7-7B6A-49AF-AA42-09E31934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6B1-3714-43D8-95B3-B2DAFBF4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391-AF96-48D2-B63C-BB1EC061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EB4-39FB-4819-890F-A3C759AD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5619-DEAA-4DDD-B875-3170A79F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4458-6E48-448B-B981-767E1E8B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D5B5-658C-43DA-A8A0-E32CDA06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DA72-FC07-4CA0-B45D-C0833990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7F5-4839-4F49-A901-0E45A6CD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40E6-9FEC-4B25-B9B4-EF32756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EC5E-70BE-4AD0-9F0D-9CB6201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CE8-A7D9-42D6-A6FE-A95082BE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BEA-B2F7-4E0A-BF2E-04B9B40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70C1-E5FC-47FB-AADA-4406E266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1FFD-99B8-425B-B4DB-0B3D1CE8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D12-4DCC-42F0-8A59-D861DCD2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4F69-BA3C-4A5B-8B43-196FF863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BF2-0A36-4283-8C79-B831E215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043-6DD8-4C0A-B01C-0741B16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C34-97E4-4937-A253-A064C6B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788-4412-48BF-A1F9-E252E320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DD2-B708-4DAD-AEC1-01B61ED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761-3679-44A9-A6BD-2D1C50E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1DA-F294-4E62-944B-D17265A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676D-1268-4DBE-86FA-0AA7F1DD3CD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2B89-7C97-481F-A823-C155CCD377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 of smoking cigarettes and Marij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ap-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Teenagers want to know about Alcoh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is information will help you in a game we will  be playing in the next lesson.  Please read it before tomorrow’s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day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learn more about how cigarettes and marijuana affect people.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talk about exactly what happens when you smoke a cigarette or a j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oking Cigaret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smoke a cigarette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cigarettes for a while, like for a few weeks or month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590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effects are also true for smokeless tobacco (chew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Mariju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use marijuana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marijuana for a while (regularly at partie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for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: The Party Cras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ere’s a question many young people a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Can marijuana hurt you if you use it just o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ee a video that answers that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Colleen look at the end of the video? Why? What do you think happened when her parents arrived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t happened when the kids at the party got hig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o didn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t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moke marijuana in the video and what was their rea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they say ‘no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Angela so upset when Frank took a h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Kim concerned about the marijua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A.J. and Lori do after the marijuana was passed arou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Rich do?  What did Jim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4:54:17Z</dcterms:created>
  <dc:creator>asd</dc:creator>
  <dc:description/>
  <dc:language>en-US</dc:language>
  <cp:lastModifiedBy>asd</cp:lastModifiedBy>
  <dcterms:modified xsi:type="dcterms:W3CDTF">2011-03-15T05:09:55Z</dcterms:modified>
  <cp:revision>1</cp:revision>
  <dc:subject/>
  <dc:title>Project Alert</dc:title>
</cp:coreProperties>
</file>