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7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21D-E5A4-457F-91FA-6F488964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1F6-AF9C-4765-BCCD-59B8D7EE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5BC-9880-4B1E-ACD1-8EA25E69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633-6224-4CD9-8E84-B4772042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B59E-DC8B-4255-A9A5-CEFAAECC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8B42-3860-4555-999A-3FF32531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CA3F-5715-4D28-8CC0-098D7D3A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1A4-35A6-4787-932D-18A0AC1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860-3589-4323-AA10-6A0E54D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5265-C4E4-470E-8A4E-5A91B8D4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0E79-EFE6-403F-B25A-02270A44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937-14FC-4945-ACE8-48419EE9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72B-7A19-475D-98E1-A80D832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E52B-AC96-4924-8022-840A62D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12DA-38F3-42F0-BA9D-336E06B1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9DE6-DF77-42F0-8D56-9C4BFE43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E9C8-2342-4570-98AB-5755DA0B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545-D2AA-469C-850F-68CA1A00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65A-21B5-4E7D-A495-A43817F8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2F5-55B4-429D-8141-818A741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90E-9C5A-43FB-8BE6-CB8806C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558-47E3-4556-9140-E9BCE1CE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D7C-EE3D-447D-BF38-CF27F6FD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5DA-967D-463E-B048-9949AB75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5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6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A74C-5467-47C3-879D-631B8F132532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7755-967E-4DC4-8595-9D2872EB7ECE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Plant Cells </a:t>
            </a:r>
            <a:br>
              <a:rPr sz="6600"/>
            </a:b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Organelles</a:t>
            </a:r>
            <a:endParaRPr b="0" i="1" lang="en-US" sz="6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362320"/>
            <a:ext cx="198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523880"/>
          <a:ext cx="495324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953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V="1">
            <a:off x="4267080" y="2209680"/>
            <a:ext cx="1600200" cy="9144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343400"/>
            <a:ext cx="1447920" cy="16765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85440" y="2057400"/>
            <a:ext cx="609480" cy="380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880" y="3733920"/>
            <a:ext cx="1447920" cy="198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905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5181480" cy="46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5181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629400" y="1828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22096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37720" y="1752480"/>
            <a:ext cx="129564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952880" y="3885840"/>
            <a:ext cx="990720" cy="1143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2362320"/>
            <a:ext cx="22860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6840" y="4648320"/>
            <a:ext cx="6858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1905120"/>
            <a:ext cx="457200" cy="761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419720" y="4800600"/>
            <a:ext cx="12952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Learning Target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I can…explain that plant cells have specialized parts that animal cells DO NOT,  such as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hloroplast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ell Wall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BECAUSE…they are </a:t>
            </a:r>
            <a:r>
              <a:rPr b="0" i="1" lang="en-US" sz="2400" spc="-1" strike="noStrike">
                <a:solidFill>
                  <a:srgbClr val="990f14"/>
                </a:solidFill>
                <a:latin typeface="Impact"/>
              </a:rPr>
              <a:t>producers </a:t>
            </a:r>
            <a:r>
              <a:rPr b="0" i="1" lang="en-US" sz="2400" spc="-1" strike="noStrike">
                <a:solidFill>
                  <a:srgbClr val="333399"/>
                </a:solidFill>
                <a:latin typeface="Impact"/>
              </a:rPr>
              <a:t>(they produce their own food) and they do not move.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s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ontains green pigment known as chlorophyll .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raps the energy from light and it is where photosynthesis takes place. 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NLY located in plant cells.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689120"/>
            <a:ext cx="8001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xplain what the Mitochondria and Chloroplast have in common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Let’s discus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Non-living structure that surrounds the plant cell. Located outside of the cell membrane!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Function: support and protects the plant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Made of a thick and rigid fibre called cellulose.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oth PLANT and ANIMAL cells have cell membranes BUT only the PLANT cell has a CELL WALL!!!!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uter Structure: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roding Cell Wall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495680" cy="3648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733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hat are the differences between the functions of the cell membrane and the cell wall?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Let’s discus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torage areas for food, water, minerals, and waste.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Both plant and animal cells have vacuol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UT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Plant cells have one large vacuole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WHEREA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Animals cells have many smaller vacuoles dispersed throughout the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7:54:20Z</dcterms:created>
  <dc:creator>asd</dc:creator>
  <dc:description/>
  <dc:language>en-US</dc:language>
  <cp:lastModifiedBy>asd</cp:lastModifiedBy>
  <cp:lastPrinted>2010-03-18T18:04:18Z</cp:lastPrinted>
  <dcterms:modified xsi:type="dcterms:W3CDTF">2010-03-18T20:27:44Z</dcterms:modified>
  <cp:revision>10</cp:revision>
  <dc:subject/>
  <dc:title>Plant Cells  Organelles</dc:title>
</cp:coreProperties>
</file>