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7.pct" ContentType="image/x-pict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2F9A-76B2-41D9-86D4-7F2D1026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7BBB-E126-423E-94F3-A49E1BBA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7782-C834-4F2D-A47B-03FAE6C6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86F1-0E8C-47FC-8A81-4779CAF4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1E41-1FF2-434C-B290-ED4AA3D2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1D48-8AFC-4259-8B70-9D6371F2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A6D8-47F6-441D-817E-255ADC0A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B7CA-6614-4E07-B658-462EED61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CBC4-107C-4558-947B-18372660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CB5B-627D-4287-AB8F-6E10246E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F82B-6644-41DD-A311-EBD152E8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41DF-7A45-4039-9E44-C8D380B4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671A-B6E6-4B4B-9C15-C1A26E48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BC3D-7542-4650-A0AD-2BEC574F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7B3F-2790-4BA7-B844-AA58A438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64ED-AEAE-4292-B3EE-E60969CC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342E-A638-42CB-BEA3-C9F758BD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B690-918F-4699-97AA-40AB891A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6D03-BB62-4B98-9E9F-B9D896FF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A90E-266C-4CE1-9BF7-65073726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8C1E-1D5B-425E-9E56-A4C0CC2B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8BC6-31B9-43CC-A136-B9A5A6A1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0FD6-C56F-4C61-BF92-C32D9E64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03EC-D031-43AF-8704-97091F58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1" marL="698400" indent="-2685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2" marL="1074240" indent="-2145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3" marL="1504080" indent="-2145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4" marL="1933920" indent="-2145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5" marL="1933920" indent="-2145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6" marL="1933920" indent="-2145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4ACB-1BD2-48A5-BE13-118A8512FCFB}" type="slidenum">
              <a: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FD82-9E38-483C-AE72-18436808BAEB}" type="slidenum">
              <a: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2209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333399"/>
                </a:solidFill>
                <a:latin typeface="Pokemon Hollow Normal"/>
              </a:rPr>
              <a:t>Plant Cells </a:t>
            </a:r>
            <a:br>
              <a:rPr sz="6600"/>
            </a:br>
            <a:r>
              <a:rPr b="0" i="1" lang="en-US" sz="6600" spc="-1" strike="noStrike">
                <a:solidFill>
                  <a:srgbClr val="333399"/>
                </a:solidFill>
                <a:latin typeface="Pokemon Hollow Normal"/>
              </a:rPr>
              <a:t>Organelles</a:t>
            </a:r>
            <a:endParaRPr b="0" i="1" lang="en-US" sz="66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Vacuoles Picture!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What Type of Cell Is This?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2362320"/>
            <a:ext cx="19814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0499"/>
                </a:solidFill>
                <a:latin typeface="Arial"/>
              </a:rPr>
              <a:t>Match the letter to it’s name!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Mitochondria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09480" y="1523880"/>
          <a:ext cx="4953240" cy="4800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523880"/>
                    <a:ext cx="4953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 flipV="1">
            <a:off x="4267080" y="2209680"/>
            <a:ext cx="1600200" cy="9144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4343400"/>
            <a:ext cx="1447920" cy="16765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685440" y="2057400"/>
            <a:ext cx="609480" cy="3808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80880" y="3733920"/>
            <a:ext cx="1447920" cy="1981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19051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867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5715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752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What Type of Cell Is This?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905120"/>
          <a:ext cx="5181480" cy="4647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05120"/>
                    <a:ext cx="51814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6629400" y="1828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1600200"/>
            <a:ext cx="22096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0499"/>
                </a:solidFill>
                <a:latin typeface="Arial"/>
              </a:rPr>
              <a:t>Match the letter to it’s name!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Cell Wal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Mitochondria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Chloroplas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837720" y="1752480"/>
            <a:ext cx="1295640" cy="9144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952880" y="3885840"/>
            <a:ext cx="990720" cy="1143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334120" y="2362320"/>
            <a:ext cx="228600" cy="9144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56840" y="4648320"/>
            <a:ext cx="685800" cy="6858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191120" y="1905120"/>
            <a:ext cx="457200" cy="7617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419720" y="4800600"/>
            <a:ext cx="1295280" cy="9144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447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1523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1981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4800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5257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Learning Target: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I can…explain that plant cells have specialized parts that animal cells DO NOT,  such as: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2" marL="1108440" indent="-22140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Impact"/>
              </a:rPr>
              <a:t>Chloroplasts</a:t>
            </a:r>
            <a:endParaRPr b="0" lang="en-US" sz="2400" spc="-1" strike="noStrike">
              <a:solidFill>
                <a:srgbClr val="333399"/>
              </a:solidFill>
              <a:latin typeface="Impact"/>
            </a:endParaRPr>
          </a:p>
          <a:p>
            <a:pPr lvl="2" marL="1108440" indent="-22140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Impact"/>
              </a:rPr>
              <a:t>Cell Walls</a:t>
            </a:r>
            <a:endParaRPr b="0" lang="en-US" sz="2400" spc="-1" strike="noStrike">
              <a:solidFill>
                <a:srgbClr val="333399"/>
              </a:solidFill>
              <a:latin typeface="Impact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Impact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Impact"/>
              </a:rPr>
              <a:t>BECAUSE…they are </a:t>
            </a:r>
            <a:r>
              <a:rPr b="0" i="1" lang="en-US" sz="2400" spc="-1" strike="noStrike">
                <a:solidFill>
                  <a:srgbClr val="990f14"/>
                </a:solidFill>
                <a:latin typeface="Impact"/>
              </a:rPr>
              <a:t>producers </a:t>
            </a:r>
            <a:r>
              <a:rPr b="0" i="1" lang="en-US" sz="2400" spc="-1" strike="noStrike">
                <a:solidFill>
                  <a:srgbClr val="333399"/>
                </a:solidFill>
                <a:latin typeface="Impact"/>
              </a:rPr>
              <a:t>(they produce their own food) and they do not move.</a:t>
            </a:r>
            <a:endParaRPr b="0" lang="en-US" sz="24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Chloroplasts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Contains green pigment known as chlorophyll .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Traps the energy from light and it is where photosynthesis takes place.  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ONLY located in plant cells. 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Chloroplast Picture!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09480" y="1689120"/>
            <a:ext cx="800100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POP QUIZ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Explain what the Mitochondria and Chloroplast have in common…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Talk in groups…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Let’s discuss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Write answer in your powerpoint notes…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Cell Walls: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Non-living structure that surrounds the plant cell. Located outside of the cell membrane! 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Function: support and protects the plant cell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Made of a thick and rigid fibre called cellulose. 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f14"/>
                </a:solidFill>
                <a:latin typeface="Impact"/>
              </a:rPr>
              <a:t>Both PLANT and ANIMAL cells have cell membranes BUT only the PLANT cell has a CELL WALL!!!!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Cell Wall Picture!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Outer Structure:</a:t>
            </a: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Eroding Cell Wall: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514600"/>
            <a:ext cx="4495680" cy="3648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876920" y="2514600"/>
            <a:ext cx="37335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POP QUIZ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What are the differences between the functions of the cell membrane and the cell wall?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Talk in groups…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Let’s discuss…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Write answer in your powerpoint notes…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Vacuoles: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Storage areas for food, water, minerals, and waste.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Both plant and animal cells have vacuoles…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f14"/>
                </a:solidFill>
                <a:latin typeface="Impact"/>
              </a:rPr>
              <a:t>BUT…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Plant cells have one large vacuole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f14"/>
                </a:solidFill>
                <a:latin typeface="Impact"/>
              </a:rPr>
              <a:t>WHEREAS…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Animals cells have many smaller vacuoles dispersed throughout the cell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7:54:20Z</dcterms:created>
  <dc:creator>asd</dc:creator>
  <dc:description/>
  <dc:language>en-US</dc:language>
  <cp:lastModifiedBy>asd</cp:lastModifiedBy>
  <cp:lastPrinted>2010-03-18T18:04:18Z</cp:lastPrinted>
  <dcterms:modified xsi:type="dcterms:W3CDTF">2010-03-18T20:27:44Z</dcterms:modified>
  <cp:revision>10</cp:revision>
  <dc:subject/>
  <dc:title>Plant Cells  Organelles</dc:title>
</cp:coreProperties>
</file>