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7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AF5-FB7C-4CB5-8CCC-1FD4A776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B4DD-437B-4645-8CA4-CA6B7858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317A-1E54-4C71-B32D-AE5F725E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ED2-B0A1-44DC-8B5A-6958DFCA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E0B1-3535-4DCF-B815-310B9155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478E-863C-4233-BFA4-DE45E16C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4ED8-9D3B-4545-ABD5-91975542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40E4-9F6F-45EA-AC02-D912E13C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B518-5B06-4D3E-905D-FDB65096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CF90-9EAE-41D7-A8E4-A41B02AA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3CA0-CC83-4647-B9F4-1EB8D174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AA3-8B0B-4C71-BEA5-F4F7DF15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4986-7038-4405-9519-5BD7305F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59BA-DCF8-4187-9908-B35B1078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5B1B-4847-42D1-905C-7CC30D96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5883-826D-48F6-8269-74A26606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4BC9-B255-4113-994F-737BDE9A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B08-A74C-41EC-9CD8-BBFC0940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4821-F2B8-4692-9952-7A4DC0F5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B3AE-B845-4217-B3C2-48770E08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200-16D0-4AB2-886B-BFAEA6D4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92F5-6C6A-49DC-8167-23F8D961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F40-549B-4686-BB4B-40BED29F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5302-E2FB-4AB5-A4DB-62449855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1" marL="698400" indent="-268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2" marL="107424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3" marL="150408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4" marL="193392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5" marL="193392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6" marL="193392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129A-F975-4D2C-84B5-DE25AA7B0BB3}" type="slidenum"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420A-4ABA-4986-B6E4-F65BE73FB412}" type="slidenum"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2209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333399"/>
                </a:solidFill>
                <a:latin typeface="Pokemon Hollow Normal"/>
              </a:rPr>
              <a:t>Plant Cells </a:t>
            </a:r>
            <a:br>
              <a:rPr sz="6600"/>
            </a:br>
            <a:r>
              <a:rPr b="0" i="1" lang="en-US" sz="6600" spc="-1" strike="noStrike">
                <a:solidFill>
                  <a:srgbClr val="333399"/>
                </a:solidFill>
                <a:latin typeface="Pokemon Hollow Normal"/>
              </a:rPr>
              <a:t>Organelles</a:t>
            </a:r>
            <a:endParaRPr b="0" i="1" lang="en-US" sz="6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Vacuoles Picture!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What Type of Cell Is This?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2362320"/>
            <a:ext cx="1981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0499"/>
                </a:solidFill>
                <a:latin typeface="Arial"/>
              </a:rPr>
              <a:t>Match the letter to it’s name!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Mitochondri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1523880"/>
          <a:ext cx="4953240" cy="4800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523880"/>
                    <a:ext cx="4953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 flipV="1">
            <a:off x="4267080" y="2209680"/>
            <a:ext cx="1600200" cy="9144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4343400"/>
            <a:ext cx="1447920" cy="16765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685440" y="2057400"/>
            <a:ext cx="609480" cy="380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80880" y="3733920"/>
            <a:ext cx="1447920" cy="1981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1905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867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5715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752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What Type of Cell Is This?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905120"/>
          <a:ext cx="5181480" cy="4647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05120"/>
                    <a:ext cx="51814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6629400" y="1828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1600200"/>
            <a:ext cx="22096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0499"/>
                </a:solidFill>
                <a:latin typeface="Arial"/>
              </a:rPr>
              <a:t>Match the letter to it’s name!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ell Wal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Mitochondri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hloroplas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837720" y="1752480"/>
            <a:ext cx="1295640" cy="9144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952880" y="3885840"/>
            <a:ext cx="990720" cy="1143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334120" y="2362320"/>
            <a:ext cx="228600" cy="9144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56840" y="4648320"/>
            <a:ext cx="685800" cy="685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191120" y="1905120"/>
            <a:ext cx="457200" cy="761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419720" y="4800600"/>
            <a:ext cx="1295280" cy="9144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447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1523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1981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800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5257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Learning Target: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I can…explain that plant cells have specialized parts that animal cells DO NOT,  such as: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2" marL="1108440" indent="-22140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Impact"/>
              </a:rPr>
              <a:t>Chloroplasts</a:t>
            </a:r>
            <a:endParaRPr b="0" lang="en-US" sz="2400" spc="-1" strike="noStrike">
              <a:solidFill>
                <a:srgbClr val="333399"/>
              </a:solidFill>
              <a:latin typeface="Impact"/>
            </a:endParaRPr>
          </a:p>
          <a:p>
            <a:pPr lvl="2" marL="1108440" indent="-22140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Impact"/>
              </a:rPr>
              <a:t>Cell Walls</a:t>
            </a:r>
            <a:endParaRPr b="0" lang="en-US" sz="2400" spc="-1" strike="noStrike">
              <a:solidFill>
                <a:srgbClr val="333399"/>
              </a:solidFill>
              <a:latin typeface="Impact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Impact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Impact"/>
              </a:rPr>
              <a:t>BECAUSE…they are </a:t>
            </a:r>
            <a:r>
              <a:rPr b="0" i="1" lang="en-US" sz="2400" spc="-1" strike="noStrike">
                <a:solidFill>
                  <a:srgbClr val="990f14"/>
                </a:solidFill>
                <a:latin typeface="Impact"/>
              </a:rPr>
              <a:t>producers </a:t>
            </a:r>
            <a:r>
              <a:rPr b="0" i="1" lang="en-US" sz="2400" spc="-1" strike="noStrike">
                <a:solidFill>
                  <a:srgbClr val="333399"/>
                </a:solidFill>
                <a:latin typeface="Impact"/>
              </a:rPr>
              <a:t>(they produce their own food) and they do not move.</a:t>
            </a:r>
            <a:endParaRPr b="0" lang="en-US" sz="24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Chloroplasts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Contains green pigment known as chlorophyll .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Traps the energy from light and it is where photosynthesis takes place.  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ONLY located in plant cells. 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Chloroplast Picture!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9480" y="1689120"/>
            <a:ext cx="80010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POP QUIZ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Explain what the Mitochondria and Chloroplast have in common…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Talk in groups…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Let’s discus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rite answer in your powerpoint notes…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Cell Walls: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Non-living structure that surrounds the plant cell. Located outside of the cell membrane! 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Function: support and protects the plant cell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Made of a thick and rigid fibre called cellulose. 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f14"/>
                </a:solidFill>
                <a:latin typeface="Impact"/>
              </a:rPr>
              <a:t>Both PLANT and ANIMAL cells have cell membranes BUT only the PLANT cell has a CELL WALL!!!!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Cell Wall Picture!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Outer Structure:</a:t>
            </a: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Eroding Cell Wall: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4495680" cy="3648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876920" y="2514600"/>
            <a:ext cx="3733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POP QUIZ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What are the differences between the functions of the cell membrane and the cell wall?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Talk in groups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Let’s discuss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Write answer in your powerpoint notes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Vacuoles: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Storage areas for food, water, minerals, and waste.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Both plant and animal cells have vacuoles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f14"/>
                </a:solidFill>
                <a:latin typeface="Impact"/>
              </a:rPr>
              <a:t>BUT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Plant cells have one large vacuole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f14"/>
                </a:solidFill>
                <a:latin typeface="Impact"/>
              </a:rPr>
              <a:t>WHEREAS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Animals cells have many smaller vacuoles dispersed throughout the cell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7:54:20Z</dcterms:created>
  <dc:creator>asd</dc:creator>
  <dc:description/>
  <dc:language>en-US</dc:language>
  <cp:lastModifiedBy>asd</cp:lastModifiedBy>
  <cp:lastPrinted>2010-03-18T18:04:18Z</cp:lastPrinted>
  <dcterms:modified xsi:type="dcterms:W3CDTF">2010-03-18T20:27:44Z</dcterms:modified>
  <cp:revision>10</cp:revision>
  <dc:subject/>
  <dc:title>Plant Cells  Organelles</dc:title>
</cp:coreProperties>
</file>