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7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562-2FA9-4E94-8243-CE5724D5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2ED-D18B-49F3-919F-FFC7431D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9C1-B757-48BB-8C2D-E1CA7A09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1A6-F520-4B75-85E7-92D5F623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8CA-2FF4-46AD-A12F-7380F56D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0135-586D-4A27-9E04-A85DC2E6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100D-0A15-4255-8D8E-CF936F40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36AD-34BC-40CB-A016-EA05338A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514D-D162-4150-8F19-F5C57EDC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6EB7-5D84-43BF-ACB8-95C25F56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C51C-2F1F-4C20-B0A3-29E0D32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3F9-F90D-4075-BD90-36C1BAE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FC98-B297-4217-9F37-36D5CBB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B27-992B-400B-86BF-88D9CA8D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316-206B-4266-9AFD-B6753CAD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9B30-D7B5-4411-BBF1-815DEB99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FCF7-9075-4EB0-8132-F6D08C68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CDD-354C-42A8-A433-69A9A974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396-DA6A-4997-8812-F6A286AA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DAA-AF8F-46C8-822C-E58EB6E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9E0-AD1F-4C12-B6E5-896C249E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DD2-42D7-4C81-9E97-6667020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F94-A038-4D10-8C59-9271AA0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8D4-2FA1-4714-A679-5248DA11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5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6" marL="1933920" indent="-21456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D234-0375-462F-92A3-C6B27A2E11BA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AC40-AB12-46C5-9CB2-93292515C22C}" type="slidenum">
              <a:rPr b="0" lang="en-US" sz="1400" spc="-1" strike="noStrike">
                <a:solidFill>
                  <a:srgbClr val="333399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Plant Cells </a:t>
            </a:r>
            <a:br>
              <a:rPr sz="6600"/>
            </a:br>
            <a:r>
              <a:rPr b="0" i="1" lang="en-US" sz="6600" spc="-1" strike="noStrike">
                <a:solidFill>
                  <a:srgbClr val="333399"/>
                </a:solidFill>
                <a:latin typeface="Pokemon Hollow Normal"/>
              </a:rPr>
              <a:t>Organelles</a:t>
            </a:r>
            <a:endParaRPr b="0" i="1" lang="en-US" sz="6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362320"/>
            <a:ext cx="1981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523880"/>
          <a:ext cx="495324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23880"/>
                    <a:ext cx="4953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V="1">
            <a:off x="4267080" y="2209680"/>
            <a:ext cx="1600200" cy="9144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343400"/>
            <a:ext cx="1447920" cy="16765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85440" y="2057400"/>
            <a:ext cx="609480" cy="380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80880" y="3733920"/>
            <a:ext cx="1447920" cy="198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1905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867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What Type of Cell Is This?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05120"/>
          <a:ext cx="5181480" cy="4647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51814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629400" y="1828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600200"/>
            <a:ext cx="22096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0499"/>
                </a:solidFill>
                <a:latin typeface="Arial"/>
              </a:rPr>
              <a:t>Match the letter to it’s name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0499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837720" y="1752480"/>
            <a:ext cx="129564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952880" y="3885840"/>
            <a:ext cx="990720" cy="1143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34120" y="2362320"/>
            <a:ext cx="22860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6840" y="4648320"/>
            <a:ext cx="6858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1905120"/>
            <a:ext cx="457200" cy="761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419720" y="4800600"/>
            <a:ext cx="12952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1523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Learning Target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I can…explain that plant cells have specialized parts that animal cells DO NOT,  such as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hloroplast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-2214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Cell Walls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Impact"/>
              </a:rPr>
              <a:t>BECAUSE…they are </a:t>
            </a:r>
            <a:r>
              <a:rPr b="0" i="1" lang="en-US" sz="2400" spc="-1" strike="noStrike">
                <a:solidFill>
                  <a:srgbClr val="990f14"/>
                </a:solidFill>
                <a:latin typeface="Impact"/>
              </a:rPr>
              <a:t>producers </a:t>
            </a:r>
            <a:r>
              <a:rPr b="0" i="1" lang="en-US" sz="2400" spc="-1" strike="noStrike">
                <a:solidFill>
                  <a:srgbClr val="333399"/>
                </a:solidFill>
                <a:latin typeface="Impact"/>
              </a:rPr>
              <a:t>(they produce their own food) and they do not move.</a:t>
            </a:r>
            <a:endParaRPr b="0" lang="en-US" sz="24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s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Contains green pigment known as chlorophyll .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raps the energy from light and it is where photosynthesis takes place. 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NLY located in plant cells. 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hloroplast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689120"/>
            <a:ext cx="80010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xplain what the Mitochondria and Chloroplast have in common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Let’s discus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Non-living structure that surrounds the plant cell. Located outside of the cell membrane!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Function: support and protects the plant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Made of a thick and rigid fibre called cellulose. 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oth PLANT and ANIMAL cells have cell membranes BUT only the PLANT cell has a CELL WALL!!!!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Cell Wall Picture!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Outer Structure: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Eroding Cell Wall: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495680" cy="3648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733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POP QUIZ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hat are the differences between the functions of the cell membrane and the cell wall?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Talk in group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Let’s discus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Write answer in your powerpoint not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Pokemon Hollow Normal"/>
              </a:rPr>
              <a:t>Vacuoles:</a:t>
            </a:r>
            <a:endParaRPr b="0" i="1" lang="en-US" sz="44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Storage areas for food, water, minerals, and waste.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Both plant and animal cells have vacuole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BUT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Plant cells have one large vacuole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f14"/>
                </a:solidFill>
                <a:latin typeface="Impact"/>
              </a:rPr>
              <a:t>WHEREAS…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Impact"/>
              </a:rPr>
              <a:t>Animals cells have many smaller vacuoles dispersed throughout the cell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7:54:20Z</dcterms:created>
  <dc:creator>asd</dc:creator>
  <dc:description/>
  <dc:language>en-US</dc:language>
  <cp:lastModifiedBy>asd</cp:lastModifiedBy>
  <cp:lastPrinted>2010-03-18T18:04:18Z</cp:lastPrinted>
  <dcterms:modified xsi:type="dcterms:W3CDTF">2010-03-18T20:27:44Z</dcterms:modified>
  <cp:revision>10</cp:revision>
  <dc:subject/>
  <dc:title>Plant Cells  Organelles</dc:title>
</cp:coreProperties>
</file>