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8BE-EE68-4D49-8349-CF9C5D9A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4B12-C646-4AF2-9845-D0576291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B24-BFA9-409B-906C-8AC9C813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C79E-A13B-44B6-9DDA-39D07C55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F97C-7A8D-41EE-B92C-DA92B9EB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52B8-648F-4130-B0D3-FD8C42BD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B666-335D-45EF-B9EF-39E1B714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E242-3F18-4662-97E0-59B02133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2D3D-3115-4FFC-964B-7A7165D9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3B1B-2F09-4060-A336-EF3D3F56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FDEA-CA75-4F52-A6AF-C2DB53A8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F1F-B1D6-45E3-BA90-5635CC64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7D0D-6AB7-445D-B8D0-B42BCA7F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C319-43B6-4BCE-937D-F0B72CBD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801B-E18F-4A6D-AEF6-DF501691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9793-3D3F-44C2-B18F-95EEBA9F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A8D8-35AA-4FC8-911E-6F1E9CB4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E722-1E40-478F-9C73-1C9C6FE7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AD1-161A-4F22-9EF8-3A607F20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9F2-7CAF-4A50-955F-840DB09B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587-817B-49C2-81B1-F0151BFE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359-664B-40DF-ABAA-010D8F28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6212-1E4D-47DC-939C-6B5BB7C0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1C33-BB8B-403B-B340-18606DA1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AFF9-E928-476D-BA4B-FB0E20D17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9BDD-B10C-488E-ADFA-93D57C50A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362320" y="1981080"/>
          <a:ext cx="457200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981080"/>
                    <a:ext cx="4572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476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666880" y="1828800"/>
          <a:ext cx="3505320" cy="266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828800"/>
                    <a:ext cx="35053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14600" y="2209680"/>
          <a:ext cx="4038480" cy="304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2209680"/>
                    <a:ext cx="40384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90920" y="2209680"/>
          <a:ext cx="4190760" cy="3353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209680"/>
                    <a:ext cx="419076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362320" y="1676520"/>
          <a:ext cx="3886200" cy="28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676520"/>
                    <a:ext cx="388620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95480" y="2209680"/>
          <a:ext cx="3429000" cy="365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209680"/>
                    <a:ext cx="3429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90920" y="2057400"/>
          <a:ext cx="3886200" cy="373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057400"/>
                    <a:ext cx="38862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5029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362320" y="2057400"/>
          <a:ext cx="4419360" cy="3886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057400"/>
                    <a:ext cx="4419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476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133720" y="1752480"/>
          <a:ext cx="4572000" cy="2667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752480"/>
                    <a:ext cx="45720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666880" y="1905120"/>
          <a:ext cx="3886200" cy="396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905120"/>
                    <a:ext cx="38862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438280" y="1905120"/>
          <a:ext cx="4191120" cy="3886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905120"/>
                    <a:ext cx="4191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7476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206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89160" y="464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36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81080" y="1752480"/>
          <a:ext cx="4572000" cy="259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752480"/>
                    <a:ext cx="4572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0" y="1752480"/>
          <a:ext cx="4572000" cy="449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752480"/>
                    <a:ext cx="4572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86000" y="1905120"/>
          <a:ext cx="4572000" cy="4343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905120"/>
                    <a:ext cx="4572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types of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mechanical (physical)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chem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examples of mechan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2 examples of chemical weather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81080" y="1828800"/>
          <a:ext cx="5181840" cy="2362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828800"/>
                    <a:ext cx="51818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432080" y="454356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572000"/>
            <a:ext cx="85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weathering is happening here (chemical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nt of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agent cause the weathe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ing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133720" y="1828800"/>
          <a:ext cx="4647960" cy="4191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828800"/>
                    <a:ext cx="46479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27:11Z</dcterms:created>
  <dc:creator>asd</dc:creator>
  <dc:description/>
  <dc:language>en-US</dc:language>
  <cp:lastModifiedBy>asd</cp:lastModifiedBy>
  <dcterms:modified xsi:type="dcterms:W3CDTF">2010-12-03T18:08:35Z</dcterms:modified>
  <cp:revision>1</cp:revision>
  <dc:subject/>
  <dc:title>Weathering Review</dc:title>
</cp:coreProperties>
</file>