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BED5-FB81-456E-B311-1102BF41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389-5E9E-41E9-A863-076B9D5D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9D19-AC69-4262-B090-0D6E7D9E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C8FD-A383-4413-9769-2FEC711A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4758-6B99-48CC-8BE9-8164DD4D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96E4-0D62-4324-8E7B-2E865ED4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2799-3DC2-40C3-A2BC-C346B895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F3D7-6838-40A5-91C6-FD47F216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EA0E-1D84-4B09-A6E5-FD5BFB72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47E4-FD44-4391-BD83-93D795C2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E4B6-C4FD-4CF6-A6FB-738DDE9F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B87-F618-4236-913B-8CB65214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9B7D-EAB7-4754-8D1F-0CB49C32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1E0E-76A2-422E-89FB-AD2B11E3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731D-7FF8-4FDC-829A-2D50F1F4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6839-CA4F-4648-B9BA-8017222A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027D-A4CA-4387-A2B8-8965A574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B4B2-D9A9-4C6D-9B73-C48E7A06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69E-AFD8-4C27-BCF7-63D7DE92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52F1-68E2-4D60-9FB2-C0B1AF04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9CAF-F2CE-4AC2-AD98-140A46B7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725-8AD6-4446-BBAA-96F6975D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5DF2-6C10-48FD-8F49-7A4F766A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8395-2DE3-4611-A8A0-02E55579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8EE9-98C9-487D-9934-816B1FB9A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2998-91C1-4771-ADE7-738863945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362320" y="1981080"/>
          <a:ext cx="4572000" cy="41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981080"/>
                    <a:ext cx="4572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476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666880" y="1828800"/>
          <a:ext cx="3505320" cy="2666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828800"/>
                    <a:ext cx="35053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14600" y="2209680"/>
          <a:ext cx="4038480" cy="304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2209680"/>
                    <a:ext cx="40384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90920" y="2209680"/>
          <a:ext cx="4190760" cy="3353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209680"/>
                    <a:ext cx="419076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362320" y="1676520"/>
          <a:ext cx="3886200" cy="281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676520"/>
                    <a:ext cx="388620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895480" y="2209680"/>
          <a:ext cx="3429000" cy="3657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209680"/>
                    <a:ext cx="3429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90920" y="2057400"/>
          <a:ext cx="3886200" cy="373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057400"/>
                    <a:ext cx="38862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5029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362320" y="2057400"/>
          <a:ext cx="4419360" cy="3886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057400"/>
                    <a:ext cx="4419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476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133720" y="1752480"/>
          <a:ext cx="4572000" cy="2667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752480"/>
                    <a:ext cx="45720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666880" y="1905120"/>
          <a:ext cx="3886200" cy="3962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905120"/>
                    <a:ext cx="38862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438280" y="1905120"/>
          <a:ext cx="4191120" cy="3886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1905120"/>
                    <a:ext cx="41911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981080" y="1752480"/>
          <a:ext cx="4572000" cy="259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752480"/>
                    <a:ext cx="4572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286000" y="1752480"/>
          <a:ext cx="4572000" cy="4496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752480"/>
                    <a:ext cx="45720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286000" y="1905120"/>
          <a:ext cx="4572000" cy="4343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905120"/>
                    <a:ext cx="4572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2 types of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mechanical (physical)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chemical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2 examples of mechanical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2 examples of chemical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981080" y="1828800"/>
          <a:ext cx="5181840" cy="2362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828800"/>
                    <a:ext cx="51818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4320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133720" y="1828800"/>
          <a:ext cx="4647960" cy="4191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828800"/>
                    <a:ext cx="46479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6:27:11Z</dcterms:created>
  <dc:creator>asd</dc:creator>
  <dc:description/>
  <dc:language>en-US</dc:language>
  <cp:lastModifiedBy>asd</cp:lastModifiedBy>
  <dcterms:modified xsi:type="dcterms:W3CDTF">2010-12-03T18:08:35Z</dcterms:modified>
  <cp:revision>1</cp:revision>
  <dc:subject/>
  <dc:title>Weathering Review</dc:title>
</cp:coreProperties>
</file>