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0F884-C6C2-403F-B9A3-A995E7CC7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3800A-0664-41DA-AD38-61C7BDA1B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90F28-BBBA-42EF-B443-1B25F7B5D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E958F-165E-4020-8F49-F0BB6F367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8FABF-D387-46FD-8506-AB00951C7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158C0-4E77-47DD-8E99-62EC32128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3D8C6-89D2-41AC-BD1C-22CB12A2A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9B799-17BA-4689-80A0-08EFE64FD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4B785-EEB7-458B-A9B1-5C7BCA307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58CF6-AED0-43BF-B4B3-A002144DB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694DD-92E4-49CF-B4AD-AE903B455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69D2D-94E3-47A8-88D1-E9136DF0E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A9CAF-8182-4BBE-BB28-B42AF3C1E7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3.interscience.wiley.com:8100/legacy/college/strahler/0471238007/animations/ch15_animations/animation2.html" TargetMode="External"/><Relationship Id="rId2" Type="http://schemas.openxmlformats.org/officeDocument/2006/relationships/hyperlink" Target="http://www.classzone.com/books/earth_science/terc/content/visualizations/es1201/es1201page01.cfm?chapter_no=visualization"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classzone.com/books/earth_science/terc/content/visualizations/es1405/es1405page01.cfm?chapter_no=visualization"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alrus.wr.usgs.gov/pubinfo/jump.html"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74284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badi MT Condensed Light"/>
              </a:rPr>
              <a:t>Learning Target:</a:t>
            </a:r>
            <a:br>
              <a:rPr sz="5400"/>
            </a:br>
            <a:r>
              <a:rPr b="0" lang="en-US" sz="5400" spc="-1" strike="noStrike">
                <a:solidFill>
                  <a:srgbClr val="000000"/>
                </a:solidFill>
                <a:latin typeface="Abadi MT Condensed Light"/>
              </a:rPr>
              <a:t>I can explain how a given landform has been shaped by processes that </a:t>
            </a:r>
            <a:r>
              <a:rPr b="0" lang="en-US" sz="5400" spc="-1" strike="noStrike">
                <a:solidFill>
                  <a:srgbClr val="99cc00"/>
                </a:solidFill>
                <a:latin typeface="Abadi MT Condensed Light"/>
              </a:rPr>
              <a:t>breakdown material</a:t>
            </a:r>
            <a:r>
              <a:rPr b="0" lang="en-US" sz="5400" spc="-1" strike="noStrike">
                <a:solidFill>
                  <a:srgbClr val="000000"/>
                </a:solidFill>
                <a:latin typeface="Abadi MT Condensed Light"/>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9" name="" descr=""/>
          <p:cNvPicPr/>
          <p:nvPr/>
        </p:nvPicPr>
        <p:blipFill>
          <a:blip r:embed="rId1"/>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 by Ice</a:t>
            </a:r>
            <a:endParaRPr b="0" lang="en-US" sz="8800" spc="-1" strike="noStrike">
              <a:solidFill>
                <a:srgbClr val="000000"/>
              </a:solidFill>
              <a:latin typeface="Arial"/>
            </a:endParaRPr>
          </a:p>
        </p:txBody>
      </p:sp>
      <p:sp>
        <p:nvSpPr>
          <p:cNvPr id="61" name="PlaceHolder 2"/>
          <p:cNvSpPr>
            <a:spLocks noGrp="1"/>
          </p:cNvSpPr>
          <p:nvPr>
            <p:ph/>
          </p:nvPr>
        </p:nvSpPr>
        <p:spPr>
          <a:xfrm>
            <a:off x="685800" y="25909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ater runs into cracks in land or rocks it and the temperature lowers enough the water will freeze.  Frozen water expands and causes the material to break apar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Ice Wed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Pictures of Mechanical Weathe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638680" y="380880"/>
            <a:ext cx="3200400" cy="510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ellyka Castle's Queen"/>
              </a:rPr>
              <a:t>Ice Weathering</a:t>
            </a:r>
            <a:br>
              <a:rPr sz="4400"/>
            </a:br>
            <a:r>
              <a:rPr b="0" lang="en-US" sz="4400" spc="-1" strike="noStrike">
                <a:solidFill>
                  <a:srgbClr val="000000"/>
                </a:solidFill>
                <a:latin typeface="Arial"/>
              </a:rPr>
              <a:t> </a:t>
            </a:r>
            <a:r>
              <a:rPr b="0" lang="en-US" sz="2800" spc="-1" strike="noStrike">
                <a:solidFill>
                  <a:srgbClr val="000000"/>
                </a:solidFill>
                <a:latin typeface="Arial"/>
              </a:rPr>
              <a:t>Water is held in the cracks, when it freezes it expands and pushes the rock apart.</a:t>
            </a:r>
            <a:endParaRPr b="0" lang="en-US" sz="2800" spc="-1" strike="noStrike">
              <a:solidFill>
                <a:srgbClr val="000000"/>
              </a:solidFill>
              <a:latin typeface="Arial"/>
            </a:endParaRPr>
          </a:p>
        </p:txBody>
      </p:sp>
      <p:pic>
        <p:nvPicPr>
          <p:cNvPr id="63" name="" descr=""/>
          <p:cNvPicPr/>
          <p:nvPr/>
        </p:nvPicPr>
        <p:blipFill>
          <a:blip r:embed="rId1"/>
          <a:stretch/>
        </p:blipFill>
        <p:spPr>
          <a:xfrm>
            <a:off x="0" y="0"/>
            <a:ext cx="51418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 by Rivers</a:t>
            </a:r>
            <a:endParaRPr b="0" lang="en-US" sz="8800" spc="-1" strike="noStrike">
              <a:solidFill>
                <a:srgbClr val="000000"/>
              </a:solidFill>
              <a:latin typeface="Arial"/>
            </a:endParaRPr>
          </a:p>
        </p:txBody>
      </p:sp>
      <p:sp>
        <p:nvSpPr>
          <p:cNvPr id="65" name="PlaceHolder 2"/>
          <p:cNvSpPr>
            <a:spLocks noGrp="1"/>
          </p:cNvSpPr>
          <p:nvPr>
            <p:ph/>
          </p:nvPr>
        </p:nvSpPr>
        <p:spPr>
          <a:xfrm>
            <a:off x="685800" y="32767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Moving water is a powerful force that can change the land that it moves over.  After time, we can easily see the effects from the river on the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4572000" cy="3429000"/>
          </a:xfrm>
          <a:prstGeom prst="rect">
            <a:avLst/>
          </a:prstGeom>
          <a:ln w="0">
            <a:noFill/>
          </a:ln>
        </p:spPr>
      </p:pic>
      <p:pic>
        <p:nvPicPr>
          <p:cNvPr id="67" name="" descr=""/>
          <p:cNvPicPr/>
          <p:nvPr/>
        </p:nvPicPr>
        <p:blipFill>
          <a:blip r:embed="rId2"/>
          <a:stretch/>
        </p:blipFill>
        <p:spPr>
          <a:xfrm>
            <a:off x="4419720" y="1219320"/>
            <a:ext cx="4724280" cy="4000320"/>
          </a:xfrm>
          <a:prstGeom prst="rect">
            <a:avLst/>
          </a:prstGeom>
          <a:ln w="0">
            <a:noFill/>
          </a:ln>
        </p:spPr>
      </p:pic>
      <p:pic>
        <p:nvPicPr>
          <p:cNvPr id="68" name="" descr=""/>
          <p:cNvPicPr/>
          <p:nvPr/>
        </p:nvPicPr>
        <p:blipFill>
          <a:blip r:embed="rId3"/>
          <a:stretch/>
        </p:blipFill>
        <p:spPr>
          <a:xfrm>
            <a:off x="0" y="342900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Chemical Weathering</a:t>
            </a:r>
            <a:endParaRPr b="0" lang="en-US" sz="8800" spc="-1" strike="noStrike">
              <a:solidFill>
                <a:srgbClr val="000000"/>
              </a:solidFill>
              <a:latin typeface="Arial"/>
            </a:endParaRPr>
          </a:p>
        </p:txBody>
      </p:sp>
      <p:sp>
        <p:nvSpPr>
          <p:cNvPr id="70" name="PlaceHolder 2"/>
          <p:cNvSpPr>
            <a:spLocks noGrp="1"/>
          </p:cNvSpPr>
          <p:nvPr>
            <p:ph/>
          </p:nvPr>
        </p:nvSpPr>
        <p:spPr>
          <a:xfrm>
            <a:off x="685800" y="32767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Certain chemicals can cause some types of rocks to breakdown and dissolve.  This is called chemical weathering.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The rock that is most often weathered is limest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Caves made from chemical ero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 rains in northwest Iowa washed away soil, leaving this scarred tableau. This type of erosion, termed sheet-and-rill erosion, occurs when there is insufficient vegetation to hold soil in place. As rain falls, it forms sheets of surface water that transport soil away. As more water accumulates, it forms runoff channels called rills, which further displace so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1240" y="304560"/>
            <a:ext cx="9753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cc00"/>
                </a:solidFill>
                <a:latin typeface="Abadi MT Condensed Light"/>
              </a:rPr>
              <a:t>…</a:t>
            </a:r>
            <a:r>
              <a:rPr b="0" lang="en-US" sz="5400" spc="-1" strike="noStrike">
                <a:solidFill>
                  <a:srgbClr val="99cc00"/>
                </a:solidFill>
                <a:latin typeface="Abadi MT Condensed Light"/>
              </a:rPr>
              <a:t>breakdown material  </a:t>
            </a:r>
            <a:endParaRPr b="0" lang="en-US" sz="5400" spc="-1" strike="noStrike">
              <a:solidFill>
                <a:srgbClr val="000000"/>
              </a:solidFill>
              <a:latin typeface="Arial"/>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Weathering is the process that breaks down mater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We will be exploring different ways that Earth materials can be weathere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rnard Glacier in Alaska's Saint Elias Mountains looks like a huge alpine highway. Glaciers are slow but highly effective shapers of the land, essentially carrying away anything in their path—from soil and rocks to hills and even the sides of mounta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dbars swirl beneath Oregon Inlet in Cape Hatteras National Seashore on North Carolina's Outer Banks. Waves driven by ocean winds can cause the sandbars here to shift and change literally by the hour, making conditions hazardous for bo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snow-draped Sierra Nevada as a backdrop, unique erosion formations called sand tufa stand like giant cauliflower stalks in a dry Arizona lake bed. Before this alkaline lake went dry, tufa formed when a freshwater spring percolated from below and formed calcium carbonate deposits. When the lake's level dropped, these fragile formations surfaced, and wind went to work removing the sand beneath the depos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rt winds sculpted these gentle swirls out of the limestone hills in Black Gap Wildlife Management Area, Texas. This remote, 100,000-acre (40,470-hectare) area in West Texas contains some of the lowest, driest, and hottest areas in the Chihuahuan Dese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stent winds in the mountains of Nevada's Great Basin National Park eroded the trunk of this old pine tree into what look like a pair of sideways spectacles. The Great Basin hosts drastically varied climates, from its cold, snowy mountains to its dry, hot desert vall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7315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a:t>
            </a:r>
            <a:endParaRPr b="0" lang="en-US" sz="8800" spc="-1" strike="noStrike">
              <a:solidFill>
                <a:srgbClr val="000000"/>
              </a:solidFill>
              <a:latin typeface="Arial"/>
            </a:endParaRPr>
          </a:p>
        </p:txBody>
      </p:sp>
      <p:sp>
        <p:nvSpPr>
          <p:cNvPr id="4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badi MT Condensed Light"/>
              </a:rPr>
              <a:t>Weathering (noun): the physical break down and chemical decomposition of earth materials at or near the earth's surfa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s sweeping through the Grand Canyon have eroded this sandstone outcrop into an anvil shape. Wind shapes these fantastical forms by eroding less dense rock, like sandstone, faster than surrounding r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 Examples</a:t>
            </a:r>
            <a:endParaRPr b="0" lang="en-US" sz="8800" spc="-1" strike="noStrike">
              <a:solidFill>
                <a:srgbClr val="000000"/>
              </a:solidFill>
              <a:latin typeface="Arial"/>
            </a:endParaRPr>
          </a:p>
        </p:txBody>
      </p:sp>
      <p:sp>
        <p:nvSpPr>
          <p:cNvPr id="47" name="PlaceHolder 2"/>
          <p:cNvSpPr>
            <a:spLocks noGrp="1"/>
          </p:cNvSpPr>
          <p:nvPr>
            <p:ph/>
          </p:nvPr>
        </p:nvSpPr>
        <p:spPr>
          <a:xfrm>
            <a:off x="685800" y="2819520"/>
            <a:ext cx="7772400" cy="4114800"/>
          </a:xfrm>
          <a:prstGeom prst="rect">
            <a:avLst/>
          </a:prstGeom>
          <a:noFill/>
          <a:ln w="0">
            <a:noFill/>
          </a:ln>
        </p:spPr>
        <p:txBody>
          <a:bodyPr lIns="90000" rIns="90000" tIns="46800" bIns="46800" anchor="t">
            <a:normAutofit/>
          </a:bodyPr>
          <a:p>
            <a:pPr marL="609480" indent="-609480">
              <a:lnSpc>
                <a:spcPct val="100000"/>
              </a:lnSpc>
              <a:spcBef>
                <a:spcPts val="901"/>
              </a:spcBef>
              <a:buClr>
                <a:srgbClr val="000000"/>
              </a:buClr>
              <a:buFont typeface="Abadi MT Condensed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Water (rain, rivers, tide, etc.) *Mechanical*</a:t>
            </a:r>
            <a:endParaRPr b="0" lang="en-US" sz="3600" spc="-1" strike="noStrike">
              <a:solidFill>
                <a:srgbClr val="000000"/>
              </a:solidFill>
              <a:latin typeface="Arial"/>
            </a:endParaRPr>
          </a:p>
          <a:p>
            <a:pPr marL="609480" indent="-609480">
              <a:lnSpc>
                <a:spcPct val="100000"/>
              </a:lnSpc>
              <a:spcBef>
                <a:spcPts val="901"/>
              </a:spcBef>
              <a:buClr>
                <a:srgbClr val="000000"/>
              </a:buClr>
              <a:buFont typeface="Abadi MT Condensed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Ice (freezing water, glaciers) *Mechanical*</a:t>
            </a:r>
            <a:endParaRPr b="0" lang="en-US" sz="3600" spc="-1" strike="noStrike">
              <a:solidFill>
                <a:srgbClr val="000000"/>
              </a:solidFill>
              <a:latin typeface="Arial"/>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 Examples</a:t>
            </a:r>
            <a:endParaRPr b="0" lang="en-US" sz="8800" spc="-1" strike="noStrike">
              <a:solidFill>
                <a:srgbClr val="000000"/>
              </a:solidFill>
              <a:latin typeface="Arial"/>
            </a:endParaRPr>
          </a:p>
        </p:txBody>
      </p:sp>
      <p:sp>
        <p:nvSpPr>
          <p:cNvPr id="49" name="PlaceHolder 2"/>
          <p:cNvSpPr>
            <a:spLocks noGrp="1"/>
          </p:cNvSpPr>
          <p:nvPr>
            <p:ph/>
          </p:nvPr>
        </p:nvSpPr>
        <p:spPr>
          <a:xfrm>
            <a:off x="685800" y="3048120"/>
            <a:ext cx="7772400" cy="4114800"/>
          </a:xfrm>
          <a:prstGeom prst="rect">
            <a:avLst/>
          </a:prstGeom>
          <a:noFill/>
          <a:ln w="0">
            <a:noFill/>
          </a:ln>
        </p:spPr>
        <p:txBody>
          <a:bodyPr lIns="90000" rIns="90000" tIns="46800" bIns="46800" anchor="t">
            <a:normAutofit/>
          </a:bodyPr>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3. Wind *Mechanical*</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4. Gravity *Mechanical*</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5. Biological (plant roots)</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6. Chemical (acid rain)</a:t>
            </a:r>
            <a:endParaRPr b="0" lang="en-US" sz="3600" spc="-1" strike="noStrike">
              <a:solidFill>
                <a:srgbClr val="000000"/>
              </a:solidFill>
              <a:latin typeface="Arial"/>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 by Tide</a:t>
            </a:r>
            <a:endParaRPr b="0" lang="en-US" sz="8800" spc="-1" strike="noStrike">
              <a:solidFill>
                <a:srgbClr val="000000"/>
              </a:solidFill>
              <a:latin typeface="Arial"/>
            </a:endParaRPr>
          </a:p>
        </p:txBody>
      </p:sp>
      <p:sp>
        <p:nvSpPr>
          <p:cNvPr id="51" name="PlaceHolder 2"/>
          <p:cNvSpPr>
            <a:spLocks noGrp="1"/>
          </p:cNvSpPr>
          <p:nvPr>
            <p:ph/>
          </p:nvPr>
        </p:nvSpPr>
        <p:spPr>
          <a:xfrm>
            <a:off x="685800" y="3581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ves caused by the tide crash onto rocks daily causing them to break into small pie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Sea Stack Ero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 by Rain</a:t>
            </a:r>
            <a:endParaRPr b="0" lang="en-US" sz="8800" spc="-1" strike="noStrike">
              <a:solidFill>
                <a:srgbClr val="000000"/>
              </a:solidFill>
              <a:latin typeface="Arial"/>
            </a:endParaRPr>
          </a:p>
        </p:txBody>
      </p:sp>
      <p:sp>
        <p:nvSpPr>
          <p:cNvPr id="55" name="PlaceHolder 2"/>
          <p:cNvSpPr>
            <a:spLocks noGrp="1"/>
          </p:cNvSpPr>
          <p:nvPr>
            <p:ph/>
          </p:nvPr>
        </p:nvSpPr>
        <p:spPr>
          <a:xfrm>
            <a:off x="685800" y="2971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badi MT Condensed Light"/>
              </a:rPr>
              <a:t>	</a:t>
            </a:r>
            <a:r>
              <a:rPr b="0" lang="en-US" sz="2800" spc="-1" strike="noStrike">
                <a:solidFill>
                  <a:srgbClr val="000000"/>
                </a:solidFill>
                <a:latin typeface="Abadi MT Condensed Light"/>
              </a:rPr>
              <a:t>After it rains, the water needs a place to go. As the raindrops hit the surface they slowly break apart the material they are landing on.  The little bits of rock are then carried away in the water flow. Often it will rush downhill in a stream when it is not able to be absorbed into the ground.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013280" y="0"/>
            <a:ext cx="5130720" cy="6858000"/>
          </a:xfrm>
          <a:prstGeom prst="rect">
            <a:avLst/>
          </a:prstGeom>
          <a:ln w="0">
            <a:noFill/>
          </a:ln>
        </p:spPr>
      </p:pic>
      <p:sp>
        <p:nvSpPr>
          <p:cNvPr id="57" name="PlaceHolder 1"/>
          <p:cNvSpPr>
            <a:spLocks noGrp="1"/>
          </p:cNvSpPr>
          <p:nvPr>
            <p:ph type="title"/>
          </p:nvPr>
        </p:nvSpPr>
        <p:spPr>
          <a:xfrm>
            <a:off x="304560" y="609480"/>
            <a:ext cx="3352680" cy="510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ellyka Castle's Queen"/>
              </a:rPr>
              <a:t>Rain Weathering</a:t>
            </a:r>
            <a:br>
              <a:rPr sz="4400"/>
            </a:br>
            <a:r>
              <a:rPr b="0" lang="en-US" sz="4400" spc="-1" strike="noStrike">
                <a:solidFill>
                  <a:srgbClr val="000000"/>
                </a:solidFill>
                <a:latin typeface="Arial"/>
              </a:rPr>
              <a:t> </a:t>
            </a:r>
            <a:r>
              <a:rPr b="0" lang="en-US" sz="2800" spc="-1" strike="noStrike">
                <a:solidFill>
                  <a:srgbClr val="000000"/>
                </a:solidFill>
                <a:latin typeface="Arial"/>
              </a:rPr>
              <a:t>The ground is too dense to absorb extra rain water so the water carves its way though the 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7:09:50Z</dcterms:created>
  <dc:creator>hms</dc:creator>
  <dc:description/>
  <cp:keywords/>
  <dc:language>en-US</dc:language>
  <cp:lastModifiedBy>asd</cp:lastModifiedBy>
  <dcterms:modified xsi:type="dcterms:W3CDTF">2011-01-31T19:26:31Z</dcterms:modified>
  <cp:revision>7</cp:revision>
  <dc:subject/>
  <dc:title>Essential Student Outcome I can explain how a given landform has been shaped by processes that build up structures and breakdown and carry away material.</dc:title>
</cp:coreProperties>
</file>