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ct" ContentType="image/x-pict"/>
  <Override PartName="/ppt/media/image15.jpeg" ContentType="image/jpeg"/>
  <Override PartName="/ppt/media/image14.pct" ContentType="image/x-pict"/>
  <Override PartName="/ppt/media/image4.jpeg" ContentType="image/jpeg"/>
  <Override PartName="/ppt/media/image9.pct" ContentType="image/x-pict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ct" ContentType="image/x-pict"/>
  <Override PartName="/ppt/media/image7.jpeg" ContentType="image/jpeg"/>
  <Override PartName="/ppt/media/image12.jpeg" ContentType="image/jpeg"/>
  <Override PartName="/ppt/media/image6.jpeg" ContentType="image/jpeg"/>
  <Override PartName="/ppt/media/image8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6D02-0568-40F2-8DAF-045E0275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1CE-AD14-407F-BBDC-6CDE0847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DCA-E451-45CA-A5D1-54E6C201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FF55-713A-4DF9-B3BF-0121C44B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197-6CAF-4CCE-8482-641EB61B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538-8EF3-47C1-9FD1-EF0F4B0B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286D-FE29-432B-A4D0-3BA1DB45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C98-3B65-4295-856D-8804E519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47B-61B8-4657-8FFA-34D51725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308-C626-4280-AB2A-BB349A1A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18A-EB94-442B-A21F-B2BECC73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0C85-7192-4460-A143-F05515D0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971720" cy="2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171960" cy="3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314A-1FC8-48EE-BD26-DE7B69EEA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8991360" cy="6019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354600" y="46656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900"/>
                </a:solidFill>
                <a:latin typeface="Chalkboard Bold"/>
              </a:rPr>
              <a:t>geologic tim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900"/>
                </a:solidFill>
                <a:latin typeface="Chalkboard Bold"/>
              </a:rPr>
              <a:t>Fossils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900"/>
                </a:solidFill>
                <a:latin typeface="Chalkboard Bold"/>
              </a:rPr>
              <a:t>relative 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01000" cy="3855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-1194120" y="6080040"/>
            <a:ext cx="113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halkboard"/>
              </a:rPr>
              <a:t>similar units found in India, Africa, S. America, Australia, Antarct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749880" y="30492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halkboard"/>
              </a:rPr>
              <a:t>use of index fossils/fossil assembl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halkboard"/>
              </a:rPr>
              <a:t>permits global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3505320"/>
            <a:ext cx="2133360" cy="914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753160" y="228600"/>
            <a:ext cx="33145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525312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223240" y="1066680"/>
            <a:ext cx="41432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stablished initially a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lative scale 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dimentary r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nd foss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bsolute 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ere determined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adiometric d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9480" y="76320"/>
            <a:ext cx="7696440" cy="66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-357480" y="838080"/>
            <a:ext cx="89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nnual growth of trees produces concentric 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ating back to 9000 years is possib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5920" y="1828800"/>
            <a:ext cx="4761000" cy="4800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203520" y="6324480"/>
            <a:ext cx="2855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ff00"/>
                </a:solidFill>
                <a:latin typeface="Verdana"/>
              </a:rPr>
              <a:t>photo © H.D. Grissino-May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Other dating methods: dendrochro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760" y="2362320"/>
            <a:ext cx="5362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halkboar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ings need to be calibr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gainst C-14 dates to yie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ue” numerical 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halkboar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ther information may al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e obtained from ring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cluding rainfall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halkboar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 develop compo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hronologies for specific reg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f interest for climat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7619760" cy="5464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relative and absolute dates comb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21320" y="52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am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lative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190440"/>
            <a:ext cx="7696080" cy="64134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48320" y="40381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geological time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35400" y="464832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ons, eras, periods, epo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190760" y="6248520"/>
            <a:ext cx="4947840" cy="337320"/>
            <a:chOff x="4190760" y="6248520"/>
            <a:chExt cx="4947840" cy="337320"/>
          </a:xfrm>
        </p:grpSpPr>
        <p:sp>
          <p:nvSpPr>
            <p:cNvPr id="191" name=""/>
            <p:cNvSpPr/>
            <p:nvPr/>
          </p:nvSpPr>
          <p:spPr>
            <a:xfrm flipH="1">
              <a:off x="4190760" y="64008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50200" y="6248520"/>
              <a:ext cx="438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ldest rock fragments: W. Australia detrital zirc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191120" y="5562720"/>
            <a:ext cx="3504600" cy="337320"/>
            <a:chOff x="4191120" y="5562720"/>
            <a:chExt cx="3504600" cy="337320"/>
          </a:xfrm>
        </p:grpSpPr>
        <p:sp>
          <p:nvSpPr>
            <p:cNvPr id="194" name=""/>
            <p:cNvSpPr/>
            <p:nvPr/>
          </p:nvSpPr>
          <p:spPr>
            <a:xfrm flipH="1">
              <a:off x="4191120" y="5700600"/>
              <a:ext cx="56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14920" y="5562720"/>
              <a:ext cx="298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ldest rocks: Greenland gnei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610480" cy="2360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-200880" y="30492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portional time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093000" cy="6172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28600" y="152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halkboard"/>
              </a:rPr>
              <a:t>combine relative and absolute time for geologic time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1353240" y="228600"/>
            <a:ext cx="111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halkboard"/>
                <a:ea typeface="Times New Roman"/>
              </a:rPr>
              <a:t>time is critical for geologic 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" y="106668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Rockies and Alps are ~3000 m 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0680" y="25909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Atlantic Ocean is ~5000 km acr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360" y="5257800"/>
            <a:ext cx="8044560" cy="459720"/>
          </a:xfrm>
          <a:prstGeom prst="rect">
            <a:avLst/>
          </a:prstGeom>
          <a:noFill/>
          <a:ln w="9360">
            <a:solidFill>
              <a:srgbClr val="6f3f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f3f50"/>
                </a:solidFill>
                <a:latin typeface="Chalkboard"/>
              </a:rPr>
              <a:t>for comparison: fingernail grows at 1 cm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4720" y="1523880"/>
            <a:ext cx="93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-- mountains grow at ~1 meter per 5000 yrs </a:t>
            </a: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(0.2 mm/y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5800" y="1905120"/>
            <a:ext cx="93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-- 3000 m x 5000 yr/m = 15,000,000 (yrs necess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3840" y="3048120"/>
            <a:ext cx="96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-- today, seafloor spreading in Atlantic is ~4 cm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45000" y="350532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-- 6000 km = 6000 km x 1000 m/km x 100 cm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= 600,000,000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2600" y="43434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-- 600,000,000 cm / 4 cm/yr = 150,000,000 ye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halkboard"/>
                <a:ea typeface="Times New Roman"/>
              </a:rPr>
              <a:t>the key to the p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547560" y="5791320"/>
            <a:ext cx="100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udy of timing of geologic events and processes is </a:t>
            </a:r>
            <a:r>
              <a:rPr b="1" lang="en-US" sz="2000" spc="-1" strike="noStrike">
                <a:solidFill>
                  <a:srgbClr val="ff0000"/>
                </a:solidFill>
                <a:latin typeface="Chalkboard"/>
              </a:rPr>
              <a:t>geochro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6440" y="8380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relative time vs. absolut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360" y="16765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halkboard"/>
                <a:ea typeface="Times New Roman"/>
              </a:rPr>
              <a:t>relativ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447480" y="2193840"/>
            <a:ext cx="100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Times New Roman"/>
              </a:rPr>
              <a:t>order of events or objects from first (oldest) to last (young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Chalkboard"/>
                <a:ea typeface="Times New Roman"/>
              </a:rPr>
              <a:t>she is older than he is; she was born first and he was born last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60" y="4114800"/>
            <a:ext cx="71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Times New Roman"/>
              </a:rPr>
              <a:t>age of events or objects expressed numer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Chalkboard"/>
                <a:ea typeface="Times New Roman"/>
              </a:rPr>
              <a:t>she is twenty-one and he is nineteen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360" y="36576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halkboard"/>
                <a:ea typeface="Times New Roman"/>
              </a:rPr>
              <a:t>absolut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halkboard"/>
                <a:ea typeface="Times New Roman"/>
              </a:rPr>
              <a:t>relative time and relative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560" y="114300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apply simple concepts to determin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4400" y="201924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original horizont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96560" y="25146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super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59760" y="300996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lateral contin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0680" y="350532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cross-cutting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17440" y="40006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i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09160" y="44956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unconform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relative age dating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8524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halkboard"/>
              </a:rPr>
              <a:t>original horizon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4320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ll beds originally deposited in water formed in horizontal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4876920" cy="4192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693760" y="3352680"/>
            <a:ext cx="338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sediments will se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to 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and blan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the sea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relative age dating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2193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halkboard"/>
              </a:rPr>
              <a:t>super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752480"/>
            <a:ext cx="4495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ithin a sequence of undisturb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dimentary or volcanic rock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ldest rocks are at the bott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nd youngest at the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.young upward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782960" y="1066680"/>
            <a:ext cx="4256280" cy="5486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623760" y="4724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Chalkboard"/>
              </a:rPr>
              <a:t>old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06320" y="1371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Chalkboard"/>
              </a:rPr>
              <a:t>young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495680" y="1752480"/>
            <a:ext cx="0" cy="2895840"/>
          </a:xfrm>
          <a:prstGeom prst="line">
            <a:avLst/>
          </a:prstGeom>
          <a:ln w="57240">
            <a:solidFill>
              <a:srgbClr val="6f3f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4662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halkboard"/>
              </a:rPr>
              <a:t>lateral contin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181480"/>
            <a:ext cx="419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riginal sedimentary layers exte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aterally until they thin at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248520" y="5866920"/>
            <a:ext cx="2590560" cy="838440"/>
          </a:xfrm>
          <a:prstGeom prst="line">
            <a:avLst/>
          </a:prstGeom>
          <a:ln w="57240">
            <a:solidFill>
              <a:srgbClr val="094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800240" y="5715000"/>
            <a:ext cx="1143000" cy="914400"/>
          </a:xfrm>
          <a:prstGeom prst="line">
            <a:avLst/>
          </a:prstGeom>
          <a:ln w="57240">
            <a:solidFill>
              <a:srgbClr val="094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36160" y="6248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94300"/>
                </a:solidFill>
                <a:latin typeface="Chalkboard"/>
              </a:rPr>
              <a:t>conti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89760" y="6248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94300"/>
                </a:solidFill>
                <a:latin typeface="Chalkboard"/>
              </a:rPr>
              <a:t>conti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15238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halkboard"/>
              </a:rPr>
              <a:t>faunal succession (correlation by fossi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relative age: cor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928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halkboard"/>
              </a:rPr>
              <a:t>how is this d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36680" y="3371760"/>
            <a:ext cx="3335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8900"/>
                </a:solidFill>
                <a:latin typeface="Chalkboard"/>
              </a:rPr>
              <a:t>index fossil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hort-lived organis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oints to narrow ran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f geologic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2206800"/>
            <a:ext cx="5410080" cy="4651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3880" y="2057400"/>
            <a:ext cx="3505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8040" y="2041560"/>
            <a:ext cx="841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ossil species succeed one another through the lay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 a </a:t>
            </a:r>
            <a:r>
              <a:rPr b="1" i="1" lang="en-US" sz="2000" spc="-1" strike="noStrike">
                <a:solidFill>
                  <a:srgbClr val="990033"/>
                </a:solidFill>
                <a:latin typeface="Chalkboard"/>
              </a:rPr>
              <a:t>predictable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63640" y="5048280"/>
            <a:ext cx="2649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8900"/>
                </a:solidFill>
                <a:latin typeface="Chalkboard"/>
              </a:rPr>
              <a:t>fossil assemblage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group of foss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ssoc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7696080" cy="6568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00200" y="76320"/>
            <a:ext cx="51814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614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ms</cp:lastModifiedBy>
  <dcterms:modified xsi:type="dcterms:W3CDTF">2009-11-30T16:50:28Z</dcterms:modified>
  <cp:revision>14</cp:revision>
  <dc:subject/>
  <dc:title>PowerPoint Presentation</dc:title>
</cp:coreProperties>
</file>