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ct" ContentType="image/x-pict"/>
  <Override PartName="/ppt/media/image15.jpeg" ContentType="image/jpeg"/>
  <Override PartName="/ppt/media/image14.pct" ContentType="image/x-pict"/>
  <Override PartName="/ppt/media/image4.jpeg" ContentType="image/jpeg"/>
  <Override PartName="/ppt/media/image9.pct" ContentType="image/x-pict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ct" ContentType="image/x-pict"/>
  <Override PartName="/ppt/media/image7.jpeg" ContentType="image/jpeg"/>
  <Override PartName="/ppt/media/image12.jpeg" ContentType="image/jpeg"/>
  <Override PartName="/ppt/media/image6.jpeg" ContentType="image/jpeg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F84-4E85-4D94-B2C0-45769F26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65B-87AB-4B84-96D1-3491A6A3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4BC-515C-4CA8-A1D1-BD6B54B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B95-754C-4B30-98B3-CC7C5F35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8D4-676A-4E8B-827A-68245CD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BED-94F5-4CEF-8275-A3A1A059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2C0-3A3A-46BF-A2BF-C626696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C99-C94F-477A-82CB-6D9D0C6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352-3016-4010-95A6-EB69740B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31C-41BF-4CC6-81D2-395A74D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CF2-FDC5-4D30-B769-DC8CC7F2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EE9-4258-4545-972A-040E13A7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1719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44E-8399-45DF-9AB0-3A443A97E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01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54600" y="46656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geologic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Fossils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900"/>
                </a:solidFill>
                <a:latin typeface="Chalkboard Bold"/>
              </a:rPr>
              <a:t>relative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01000" cy="3855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1194120" y="6080040"/>
            <a:ext cx="113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imilar units found in India, Africa, S. America, Australia, Antarct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749880" y="3049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use of index fossils/fossil assembl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halkboard"/>
              </a:rPr>
              <a:t>permits global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3505320"/>
            <a:ext cx="21333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53160" y="228600"/>
            <a:ext cx="3314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23240" y="1066680"/>
            <a:ext cx="41432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established initially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elative scale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foss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bsolute 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ere determin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adiometric 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69644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357480" y="838080"/>
            <a:ext cx="89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nnual growth of trees produces concentric 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ating back to 9000 years is possi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5920" y="1828800"/>
            <a:ext cx="4761000" cy="4800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203520" y="6324480"/>
            <a:ext cx="2855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Verdana"/>
              </a:rPr>
              <a:t>photo © H.D. Grissino-May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Other dating methods: dendrochro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760" y="2362320"/>
            <a:ext cx="536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rings need to be calib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gainst C-14 dates to yie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rue” numerical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ther information may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be obtained from ring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cluding rainfall an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an develop compo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chronologies for specific reg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f interest for climat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46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nd absolute dates comb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132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am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relative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7696080" cy="6413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geological time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5400" y="46483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ons, eras, periods, epo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0760" y="6248520"/>
            <a:ext cx="4947840" cy="337320"/>
            <a:chOff x="4190760" y="6248520"/>
            <a:chExt cx="4947840" cy="337320"/>
          </a:xfrm>
        </p:grpSpPr>
        <p:sp>
          <p:nvSpPr>
            <p:cNvPr id="191" name=""/>
            <p:cNvSpPr/>
            <p:nvPr/>
          </p:nvSpPr>
          <p:spPr>
            <a:xfrm flipH="1">
              <a:off x="4190760" y="64008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50200" y="6248520"/>
              <a:ext cx="438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 fragments: W. Australia detrital zirc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191120" y="5562720"/>
            <a:ext cx="3504600" cy="337320"/>
            <a:chOff x="4191120" y="5562720"/>
            <a:chExt cx="3504600" cy="337320"/>
          </a:xfrm>
        </p:grpSpPr>
        <p:sp>
          <p:nvSpPr>
            <p:cNvPr id="194" name=""/>
            <p:cNvSpPr/>
            <p:nvPr/>
          </p:nvSpPr>
          <p:spPr>
            <a:xfrm flipH="1">
              <a:off x="4191120" y="5700600"/>
              <a:ext cx="56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14920" y="5562720"/>
              <a:ext cx="298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ldest rocks: Greenland gnei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10480" cy="236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200880" y="3049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roportional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9300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152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combine relative and absolute time for geologic tim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353240" y="228600"/>
            <a:ext cx="111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ime is critical for geologic 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" y="1066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Rockies and Alps are ~3000 m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0680" y="25909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"/>
              </a:rPr>
              <a:t>Atlantic Ocean is ~5000 km ac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360" y="5257800"/>
            <a:ext cx="8044560" cy="459720"/>
          </a:xfrm>
          <a:prstGeom prst="rect">
            <a:avLst/>
          </a:prstGeom>
          <a:noFill/>
          <a:ln w="9360">
            <a:solidFill>
              <a:srgbClr val="6f3f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f3f50"/>
                </a:solidFill>
                <a:latin typeface="Chalkboard"/>
              </a:rPr>
              <a:t>for comparison: fingernail grows at 1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4720" y="1523880"/>
            <a:ext cx="93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mountains grow at ~1 meter per 5000 yrs </a:t>
            </a:r>
            <a:r>
              <a:rPr b="0" lang="en-US" sz="1600" spc="-1" strike="noStrike">
                <a:solidFill>
                  <a:srgbClr val="000000"/>
                </a:solidFill>
                <a:latin typeface="Chalkboard"/>
              </a:rPr>
              <a:t>(0.2 mm/y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800" y="1905120"/>
            <a:ext cx="93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3000 m x 5000 yr/m = 15,000,000 (yrs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840" y="3048120"/>
            <a:ext cx="96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today, seafloor spreading in Atlantic is ~4 cm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5000" y="350532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0 km = 6000 km x 1000 m/km x 100 c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= 600,000,00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" y="43434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-- 600,000,000 cm / 4 cm/yr = 150,000,000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the key to the 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547560" y="5791320"/>
            <a:ext cx="100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tudy of timing of geologic events and processes is </a:t>
            </a:r>
            <a:r>
              <a:rPr b="1" lang="en-US" sz="2000" spc="-1" strike="noStrike">
                <a:solidFill>
                  <a:srgbClr val="ff0000"/>
                </a:solidFill>
                <a:latin typeface="Chalkboard"/>
              </a:rPr>
              <a:t>geochro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8380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relative time vs. absolu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360" y="1676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relativ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447480" y="2193840"/>
            <a:ext cx="100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der of events or objects from first (oldest) to last (young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older than he is; she was born first and he was born last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60" y="411480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ge of events or objects expressed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  <a:ea typeface="Times New Roman"/>
              </a:rPr>
              <a:t>she is twenty-one and he is nineteen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60" y="36576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halkboard"/>
                <a:ea typeface="Times New Roman"/>
              </a:rPr>
              <a:t>absolut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  <a:ea typeface="Times New Roman"/>
              </a:rPr>
              <a:t>relative time and relativ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560" y="11430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apply simple concepts to determ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4400" y="201924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original horizont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6560" y="25146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9760" y="30099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lateral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0680" y="35053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cross-cutt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7440" y="40006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i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09160" y="44956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  <a:ea typeface="Times New Roman"/>
              </a:rPr>
              <a:t>unconform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8524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original horizon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32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ll beds originally deposited in water formed in horizonta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419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93760" y="3352680"/>
            <a:ext cx="338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sediments will se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o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and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the sea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 dating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219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752480"/>
            <a:ext cx="4495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ithin a sequence of undisturb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sedimentary or volcanic roc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ldest rocks are at the bot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and youngest at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Chalkboard"/>
              </a:rPr>
              <a:t>.young upwar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2960" y="1066680"/>
            <a:ext cx="425628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23760" y="4724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old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06320" y="1371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33"/>
                </a:solidFill>
                <a:latin typeface="Chalkboard"/>
              </a:rPr>
              <a:t>young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95680" y="1752480"/>
            <a:ext cx="0" cy="2895840"/>
          </a:xfrm>
          <a:prstGeom prst="line">
            <a:avLst/>
          </a:prstGeom>
          <a:ln w="57240">
            <a:solidFill>
              <a:srgbClr val="6f3f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662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halkboard"/>
              </a:rPr>
              <a:t>lateral contin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1814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iginal sedimentary layers ext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laterally until they thin at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48520" y="5866920"/>
            <a:ext cx="2590560" cy="83844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5715000"/>
            <a:ext cx="1143000" cy="914400"/>
          </a:xfrm>
          <a:prstGeom prst="line">
            <a:avLst/>
          </a:prstGeom>
          <a:ln w="57240">
            <a:solidFill>
              <a:srgbClr val="094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361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8976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94300"/>
                </a:solidFill>
                <a:latin typeface="Chalkboard"/>
              </a:rPr>
              <a:t>conti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15238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halkboard"/>
              </a:rPr>
              <a:t>faunal succession (correlation by foss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relative age: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928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halkboard"/>
              </a:rPr>
              <a:t>how is this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6680" y="3371760"/>
            <a:ext cx="333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index fossil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short-lived organis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points to narrow ran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of geologic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6800"/>
            <a:ext cx="5410080" cy="465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3880" y="2057400"/>
            <a:ext cx="3505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8040" y="2041560"/>
            <a:ext cx="841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fossil species succeed one another through the lay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in a </a:t>
            </a:r>
            <a:r>
              <a:rPr b="1" i="1" lang="en-US" sz="2000" spc="-1" strike="noStrike">
                <a:solidFill>
                  <a:srgbClr val="990033"/>
                </a:solidFill>
                <a:latin typeface="Chalkboard"/>
              </a:rPr>
              <a:t>predictabl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3640" y="5048280"/>
            <a:ext cx="2649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00"/>
                </a:solidFill>
                <a:latin typeface="Chalkboard"/>
              </a:rPr>
              <a:t>fossil assemblage</a:t>
            </a: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group of foss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assoc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7696080" cy="6568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0200" y="76320"/>
            <a:ext cx="51814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14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ms</cp:lastModifiedBy>
  <dcterms:modified xsi:type="dcterms:W3CDTF">2009-11-30T16:50:28Z</dcterms:modified>
  <cp:revision>14</cp:revision>
  <dc:subject/>
  <dc:title>PowerPoint Presentation</dc:title>
</cp:coreProperties>
</file>