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ct" ContentType="image/x-pict"/>
  <Override PartName="/ppt/media/image15.jpeg" ContentType="image/jpeg"/>
  <Override PartName="/ppt/media/image14.pct" ContentType="image/x-pict"/>
  <Override PartName="/ppt/media/image4.jpeg" ContentType="image/jpeg"/>
  <Override PartName="/ppt/media/image9.pct" ContentType="image/x-pict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ct" ContentType="image/x-pict"/>
  <Override PartName="/ppt/media/image7.jpeg" ContentType="image/jpeg"/>
  <Override PartName="/ppt/media/image12.jpeg" ContentType="image/jpeg"/>
  <Override PartName="/ppt/media/image6.jpeg" ContentType="image/jpeg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0FD-526E-4549-A937-382EEF59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178-1EAE-48C7-8654-41490ACD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5DC-1702-4679-84F8-39DC03CB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E71-DD41-426E-AD62-DCF350F5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55D-C28B-4614-B4AC-9C70E71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D82-394E-48F7-A4DD-2EE52A6F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5D7-F9A6-429A-BB9C-400388B8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06A-F397-4300-888D-74EE1A5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CD3-55E7-4160-9D83-6277A85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3D3-F8E1-4D21-A534-CA273134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C1E-0C98-41DF-81EF-CB73FF07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C26-93D8-49E9-9C29-DEBBE9A6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97172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1719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44D7-59B7-47D6-9C04-5771F3C9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019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54600" y="4665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geologic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Fossil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relative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01000" cy="3855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1194120" y="6080040"/>
            <a:ext cx="113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similar units found in India, Africa, S. America, Australia, Antarc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749880" y="30492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halkboard"/>
              </a:rPr>
              <a:t>use of index fossils/fossil assembl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halkboard"/>
              </a:rPr>
              <a:t>permits global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505320"/>
            <a:ext cx="213336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53160" y="228600"/>
            <a:ext cx="3314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2531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23240" y="1066680"/>
            <a:ext cx="41432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stablished initially a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ative scale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dimentary r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foss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bsolute 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ere determin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adiometric 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69644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357480" y="838080"/>
            <a:ext cx="89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nnual growth of trees produces concentric 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ing back to 9000 years is possi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5920" y="1828800"/>
            <a:ext cx="4761000" cy="480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203520" y="6324480"/>
            <a:ext cx="2855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ff00"/>
                </a:solidFill>
                <a:latin typeface="Verdana"/>
              </a:rPr>
              <a:t>photo © H.D. Grissino-May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Other dating methods: dendrochro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760" y="2362320"/>
            <a:ext cx="536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ings need to be calib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gainst C-14 dates to y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ue” numerical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ther information may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 obtained from ring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luding rainfall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develop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ronologies for specific reg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f interest for climat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46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nd absolute dates comb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1320" y="52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am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lative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7696080" cy="6413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48320" y="40381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geological time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5400" y="46483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ons, eras, periods, epo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90760" y="6248520"/>
            <a:ext cx="4947840" cy="337320"/>
            <a:chOff x="4190760" y="6248520"/>
            <a:chExt cx="4947840" cy="337320"/>
          </a:xfrm>
        </p:grpSpPr>
        <p:sp>
          <p:nvSpPr>
            <p:cNvPr id="191" name=""/>
            <p:cNvSpPr/>
            <p:nvPr/>
          </p:nvSpPr>
          <p:spPr>
            <a:xfrm flipH="1">
              <a:off x="4190760" y="64008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50200" y="6248520"/>
              <a:ext cx="438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ldest rock fragments: W. Australia detrital zirc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191120" y="5562720"/>
            <a:ext cx="3504600" cy="337320"/>
            <a:chOff x="4191120" y="5562720"/>
            <a:chExt cx="3504600" cy="337320"/>
          </a:xfrm>
        </p:grpSpPr>
        <p:sp>
          <p:nvSpPr>
            <p:cNvPr id="194" name=""/>
            <p:cNvSpPr/>
            <p:nvPr/>
          </p:nvSpPr>
          <p:spPr>
            <a:xfrm flipH="1">
              <a:off x="4191120" y="5700600"/>
              <a:ext cx="56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4920" y="5562720"/>
              <a:ext cx="298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ldest rocks: Greenland gnei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10480" cy="236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200880" y="3049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portional tim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9300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152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combine relative and absolute time for geologic time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353240" y="228600"/>
            <a:ext cx="111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time is critical for geologic 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" y="10666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Rockies and Alps are ~3000 m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0680" y="25909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tlantic Ocean is ~5000 km 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360" y="5257800"/>
            <a:ext cx="8044560" cy="459720"/>
          </a:xfrm>
          <a:prstGeom prst="rect">
            <a:avLst/>
          </a:prstGeom>
          <a:noFill/>
          <a:ln w="9360">
            <a:solidFill>
              <a:srgbClr val="6f3f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f3f50"/>
                </a:solidFill>
                <a:latin typeface="Chalkboard"/>
              </a:rPr>
              <a:t>for comparison: fingernail grows at 1 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4720" y="1523880"/>
            <a:ext cx="9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mountains grow at ~1 meter per 5000 yrs 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0.2 mm/y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5800" y="190512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3000 m x 5000 yr/m = 15,000,000 (yrs necess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840" y="3048120"/>
            <a:ext cx="9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today, seafloor spreading in Atlantic is ~4 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45000" y="350532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6000 km = 6000 km x 1000 m/km x 100 cm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= 600,000,00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" y="43434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600,000,000 cm / 4 cm/yr = 150,000,000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the key to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547560" y="5791320"/>
            <a:ext cx="100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udy of timing of geologic events and processes is </a:t>
            </a:r>
            <a:r>
              <a:rPr b="1" lang="en-US" sz="2000" spc="-1" strike="noStrike">
                <a:solidFill>
                  <a:srgbClr val="ff0000"/>
                </a:solidFill>
                <a:latin typeface="Chalkboard"/>
              </a:rPr>
              <a:t>geochro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440" y="8380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relative time vs. absolu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60" y="1676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  <a:ea typeface="Times New Roman"/>
              </a:rPr>
              <a:t>relativ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47480" y="2193840"/>
            <a:ext cx="100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order of events or objects from first (oldest) to last (young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  <a:ea typeface="Times New Roman"/>
              </a:rPr>
              <a:t>she is older than he is; she was born first and he was born la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60" y="4114800"/>
            <a:ext cx="71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age of events or objects expressed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  <a:ea typeface="Times New Roman"/>
              </a:rPr>
              <a:t>she is twenty-one and he is nineteen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60" y="36576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  <a:ea typeface="Times New Roman"/>
              </a:rPr>
              <a:t>absolut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relative time and relativ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560" y="11430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apply simple concepts to determi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400" y="20192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original horizon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6560" y="2514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9760" y="300996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lateral 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0680" y="35053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cross-cutting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7440" y="4000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i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9160" y="44956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unconform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 dating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852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original horizon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432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beds originally deposited in water formed in horizontal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4192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93760" y="3352680"/>
            <a:ext cx="338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sediments will se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to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and blan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the sea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 dating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219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752480"/>
            <a:ext cx="4495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in a sequence of undisturb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dimentary or volcanic rock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ldest rocks are at the bot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youngest at the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.young upwar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82960" y="1066680"/>
            <a:ext cx="425628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23760" y="4724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</a:rPr>
              <a:t>old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06320" y="1371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</a:rPr>
              <a:t>young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95680" y="1752480"/>
            <a:ext cx="0" cy="2895840"/>
          </a:xfrm>
          <a:prstGeom prst="line">
            <a:avLst/>
          </a:prstGeom>
          <a:ln w="57240">
            <a:solidFill>
              <a:srgbClr val="6f3f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662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lateral contin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1814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iginal sedimentary layers ext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terally until they thin at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248520" y="5866920"/>
            <a:ext cx="2590560" cy="838440"/>
          </a:xfrm>
          <a:prstGeom prst="line">
            <a:avLst/>
          </a:prstGeom>
          <a:ln w="57240">
            <a:solidFill>
              <a:srgbClr val="094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800240" y="5715000"/>
            <a:ext cx="1143000" cy="914400"/>
          </a:xfrm>
          <a:prstGeom prst="line">
            <a:avLst/>
          </a:prstGeom>
          <a:ln w="57240">
            <a:solidFill>
              <a:srgbClr val="094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3616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94300"/>
                </a:solidFill>
                <a:latin typeface="Chalkboard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976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94300"/>
                </a:solidFill>
                <a:latin typeface="Chalkboard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15238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halkboard"/>
              </a:rPr>
              <a:t>faunal succession (correlation by foss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: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928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halkboard"/>
              </a:rPr>
              <a:t>how is this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36680" y="3371760"/>
            <a:ext cx="3335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00"/>
                </a:solidFill>
                <a:latin typeface="Chalkboard"/>
              </a:rPr>
              <a:t>index fossil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hort-lived organis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ints to narrow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f geologic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5410080" cy="4651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3880" y="2057400"/>
            <a:ext cx="3505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8040" y="2041560"/>
            <a:ext cx="841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ssil species succeed one another through the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 a </a:t>
            </a:r>
            <a:r>
              <a:rPr b="1" i="1" lang="en-US" sz="2000" spc="-1" strike="noStrike">
                <a:solidFill>
                  <a:srgbClr val="990033"/>
                </a:solidFill>
                <a:latin typeface="Chalkboard"/>
              </a:rPr>
              <a:t>predictabl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3640" y="5048280"/>
            <a:ext cx="2649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00"/>
                </a:solidFill>
                <a:latin typeface="Chalkboard"/>
              </a:rPr>
              <a:t>fossil assemblage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roup of foss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ssoc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7696080" cy="6568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00200" y="76320"/>
            <a:ext cx="5181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14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ms</cp:lastModifiedBy>
  <dcterms:modified xsi:type="dcterms:W3CDTF">2009-11-30T16:50:28Z</dcterms:modified>
  <cp:revision>14</cp:revision>
  <dc:subject/>
  <dc:title>PowerPoint Presentation</dc:title>
</cp:coreProperties>
</file>