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115B-6995-483D-93A3-C75306504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96AA-F903-43E7-9722-B74BF216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40CC5-4190-4C64-9BF5-E8DE95415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601A6-50D0-499D-BCE3-9E6C4CC66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72D7A-03FB-41C7-810E-F56D2AF3F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C9FD7-626A-46D5-8B04-8DF7A6318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327AA-A1A6-4793-BFCB-01A85C0F9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5DAA2-0CBE-45E8-8482-56E0EF573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24B03-936A-4E4B-8E8B-DC7A7F103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E16B4-B0F9-4295-A1CC-E7A18834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E465-D2FD-4C4A-87D0-630C89FC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AFA41-4CFF-4475-993E-7C801DA61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2E218-CFA3-41B2-81FC-06F428018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3B960-DE12-471F-9B3A-AAE575E13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51EE6-990B-46E6-9FDB-0E2F5ABD4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797AB-19BC-4BC8-BD4A-55DBD4142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2B3DE-0382-4438-B352-14EA24FEA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195A-6200-4C4A-B66B-521D7E89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990D-16F6-471E-B368-EEB9626E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FC42-EFBD-49CD-A70E-65A2FDF2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B44C-2E28-4056-9F9B-0148807E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7A7B-A231-4A5E-98C3-9F7535084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2243-32C5-4FF1-ABF5-61CFC662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3A6A-1773-4555-B9EF-B16B92D18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9000"/>
          </a:bodyPr>
          <a:p>
            <a:pPr marL="305280" indent="-3052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660960" indent="-2541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01700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4241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AB1E-5E96-49DD-8C58-995ED73C8B55}"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6199-ED4D-4F23-8EB7-83D8EFD287F5}"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25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8000"/>
                </a:solidFill>
                <a:latin typeface="Tahoma"/>
              </a:rPr>
              <a:t>Predictable Motion</a:t>
            </a:r>
            <a:br>
              <a:rPr sz="6000"/>
            </a:br>
            <a:r>
              <a:rPr b="0" lang="en-GB" sz="6000" spc="-1" strike="noStrike">
                <a:solidFill>
                  <a:srgbClr val="ff8000"/>
                </a:solidFill>
                <a:latin typeface="Tahoma"/>
              </a:rPr>
              <a:t>in the Solar System</a:t>
            </a:r>
            <a:endParaRPr b="0" lang="en-US" sz="60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unar Eclipse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A lunar eclipse is an eclipse which occurs whenever the moon passes behind the earth such that the earth blocks the sun’s rays from striking the moon.</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ccur only when the Sun, Earth, and Moon are aligned exactly</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re is always a full moon the night of a lunar eclips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4760"/>
          </a:xfrm>
          <a:prstGeom prst="rect">
            <a:avLst/>
          </a:prstGeom>
          <a:ln w="0">
            <a:noFill/>
          </a:ln>
        </p:spPr>
      </p:pic>
      <p:sp>
        <p:nvSpPr>
          <p:cNvPr id="100" name=""/>
          <p:cNvSpPr/>
          <p:nvPr/>
        </p:nvSpPr>
        <p:spPr>
          <a:xfrm>
            <a:off x="1424160" y="324000"/>
            <a:ext cx="6368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8000"/>
                </a:solidFill>
                <a:latin typeface="Arial"/>
              </a:rPr>
              <a:t>Lunar Eclipses</a:t>
            </a:r>
            <a:endParaRPr b="0" lang="en-US" sz="5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174680" y="0"/>
            <a:ext cx="6943680" cy="69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6652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eclip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earning Target:</a:t>
            </a:r>
            <a:endParaRPr b="0" lang="en-US" sz="4400" spc="-1" strike="noStrike">
              <a:solidFill>
                <a:srgbClr val="ff8000"/>
              </a:solidFill>
              <a:latin typeface="Tahoma"/>
            </a:endParaRPr>
          </a:p>
        </p:txBody>
      </p:sp>
      <p:sp>
        <p:nvSpPr>
          <p:cNvPr id="84" name="PlaceHolder 2"/>
          <p:cNvSpPr>
            <a:spLocks noGrp="1"/>
          </p:cNvSpPr>
          <p:nvPr>
            <p:ph/>
          </p:nvPr>
        </p:nvSpPr>
        <p:spPr>
          <a:xfrm>
            <a:off x="436320" y="1868400"/>
            <a:ext cx="6954840" cy="43531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4000"/>
          </a:bodyPr>
          <a:p>
            <a:pPr marL="288000" indent="-288000">
              <a:lnSpc>
                <a:spcPct val="90000"/>
              </a:lnSpc>
              <a:spcBef>
                <a:spcPts val="11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st objects in the solar system are in regular and predictable motion.  These motions explain such phenomena as the day, the year, phases of the moon and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pic>
        <p:nvPicPr>
          <p:cNvPr id="86" name="" descr=""/>
          <p:cNvPicPr/>
          <p:nvPr/>
        </p:nvPicPr>
        <p:blipFill>
          <a:blip r:embed="rId2"/>
          <a:stretch/>
        </p:blipFill>
        <p:spPr>
          <a:xfrm>
            <a:off x="1339920" y="1521000"/>
            <a:ext cx="6665760" cy="499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The Causes of Moon Phases</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volving around the Earth</a:t>
            </a:r>
            <a:endParaRPr b="0" lang="en-US" sz="2800" spc="-1" strike="noStrike">
              <a:solidFill>
                <a:srgbClr val="ff8000"/>
              </a:solidFill>
              <a:latin typeface="Tahoma"/>
            </a:endParaRPr>
          </a:p>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flecting sunlight towards the Earth.  Half of the Moon is always lit, not just the portion we see:  however, sometimes we only see a profile of the lit portion of the Moon.  Certain phases of the Moon result depending on its orbit, and the Moon's orbit is responsible for the phase changes we se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The phase of the moon (new, half, full, etc) is a function of how much of its lit surface we can see from the earth. Half the moon is always sunlit, half is dark, but as the moon orbits the earth, more or less of the lit face is pointed towards us here on earth.</a:t>
            </a:r>
            <a:endParaRPr b="0" lang="en-US" sz="3200" spc="-1" strike="noStrike">
              <a:solidFill>
                <a:srgbClr val="ff8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460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moon pha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
        <p:nvSpPr>
          <p:cNvPr id="93"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7000"/>
          </a:bodyPr>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occurs when the moon passes between the Sun and the Earth so that the Sun is fully or partially covered.</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nly happen during a new moon</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tal solar eclipses are nevertheless rare at any location because during each eclipse totality exists only along a narrow corridor in the relatively tiny area of the Moon's umbra.</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27000"/>
            <a:ext cx="9144000" cy="700236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dc:language>en-US</dc:language>
  <cp:lastModifiedBy>hms</cp:lastModifiedBy>
  <dcterms:modified xsi:type="dcterms:W3CDTF">2009-11-04T00:19:34Z</dcterms:modified>
  <cp:revision>11</cp:revision>
  <dc:subject/>
  <dc:title>Moon PowerPoint Template</dc:title>
</cp:coreProperties>
</file>