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462-FDB1-4413-B932-1C2A8FBE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92C-38FF-4336-8AC0-C406A865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A4B-20C3-46A3-8086-F9CD3C58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054-4827-40E2-8249-60028B02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6D60-4C3E-4D72-9210-55B3165D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27E1-5F51-4210-A7E6-D2D66943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F781-FA1D-43A1-A7F8-798DAE10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B317-BDE1-4484-9517-A7EA4168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C9DB-F719-49CF-B371-0BE9D2EC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2600-2CA8-473F-947D-396FFB19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B7D0-97FD-4EC3-9CAC-2D9A141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40D-5D4A-4F3A-9487-345A8A5D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2ACB-B8D7-40B4-BB94-D88B7469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AA8C-43DB-4D76-919E-3A665C5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ECC9-9BA6-424E-87BF-F3F6BF84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E228-15CC-4B70-976E-83295142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1A60-B63E-43C6-9891-46BAE685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930-C655-4977-8688-8C3DF9A3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FF3-EA1F-4766-A0FE-D3637686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016-3D2B-4E84-81A3-B5B81943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044-D693-48BD-82CA-BA6B3AF6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C86-7545-4622-931B-92F14FCA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C8A-8CB3-45D5-81F2-E658CD4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31D-C184-4506-8382-94AE8195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632-4C0D-4D5A-A301-0D4B1794C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3416-E8BB-4053-9C5F-334C51796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sk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use beans to represent gases in the atmosphere in Venus, Earth a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draw conclusions based on the Goldilocks principle that Earth’s unique atmosphere is suitable fo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lace is too hot!!” sh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7386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i-Earth decided to take a walk to the position of the fourth planet from the Sun,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lace is too cold!!” Goldi-Earth exclai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62320" y="2957400"/>
            <a:ext cx="42289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he decided to take the position of the third planet,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hh, this temperature is just right,” she said happily, and decided to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722680" y="2438280"/>
            <a:ext cx="2535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is position is just right, it is just right to support life, and all living organisms lived happily ever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9040" y="3462480"/>
            <a:ext cx="35308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is have to do with atmosp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’s atmosphere is composed of g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just the righ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just the right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arm the Earth to temperatures suitable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Goldilocks Connection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 of the atmosphere to trap heat is the Greenhous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952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eighbors, Venus and 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Arial"/>
              </a:rPr>
              <a:t>Venu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tmosphere gases are too dense, and trap too much heat making it uninhabi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(too much greenhouse 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ars has almost no atmosphere, and does not trap enough heat making it too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(too little greenhouse 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our two closest neighbors, Venus and Mars, have very different atmospheres than Earth does in pressure and chemical com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“goldilocks principle” and understand that Earth’s moderate temperature is due to it’s uniqu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Earth is JUST RIGH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atmosphere is much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les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Venus and 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tmospheric pressure is between Venus a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is just right in terms of distance from the Sun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533520" y="609480"/>
          <a:ext cx="8001000" cy="4873680"/>
        </p:xfrm>
        <a:graphic>
          <a:graphicData uri="http://schemas.openxmlformats.org/drawingml/2006/table">
            <a:tbl>
              <a:tblPr/>
              <a:tblGrid>
                <a:gridCol w="2133360"/>
                <a:gridCol w="1866960"/>
                <a:gridCol w="2000160"/>
                <a:gridCol w="2000520"/>
              </a:tblGrid>
              <a:tr h="14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Pinto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White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Red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Black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934320" y="1066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Goldilocks Zon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actured Fairy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i-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upon a time, there was a ro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 named Goldi-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ent for a walk in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b800"/>
                </a:solidFill>
                <a:latin typeface="Arial"/>
              </a:rPr>
              <a:t>She knocked on the door of the Solar System, and when no one answered, she walked right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olar System, there were three positions to choose from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planet position, the third planet position and the fourth planet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i-Earth was cold.  She decided to take the second planet position, closer to the Sun, usually held by the planet, Ven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8:35:45Z</dcterms:created>
  <dc:creator>hms</dc:creator>
  <dc:description/>
  <dc:language>en-US</dc:language>
  <cp:lastModifiedBy>asd</cp:lastModifiedBy>
  <dcterms:modified xsi:type="dcterms:W3CDTF">2011-02-17T17:29:06Z</dcterms:modified>
  <cp:revision>4</cp:revision>
  <dc:subject/>
  <dc:title>Task:</dc:title>
</cp:coreProperties>
</file>