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1344-7B66-4E15-A7AC-31A8E2096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D5B0-4036-4BC9-B939-411A610A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4201-1A75-44D8-A04A-B735A2954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6047-71EC-420F-A58D-BC9B30802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41BD-2C9F-4F2A-ACDC-AEE057298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DCEF-6788-4B54-85EA-342A6AF0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2CD7-E90F-47E8-99BB-DAD7B99F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8595-668B-4DA4-96DB-461CA503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C82E-2EF5-4DAA-9BDB-88535821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12DC-5742-45DD-9057-8F55F788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5B8E-139E-4695-B7E6-F0E61BF9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6F0D-2828-4546-A830-4C4DC797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787F-E178-44D7-8D83-91BB48E8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4870-7465-478E-8642-E6486796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F433-824C-4B79-A0B7-2B6F8376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048F-8723-46B9-87BE-5B35FA082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3DAC-F8A8-4B64-B343-C7DC2683D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46CC-7615-4DC1-80BA-66150BAC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548C-3C62-4402-AC3F-143DFF4D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49DB-118C-4384-9983-7F097C21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8107-5576-426F-8B31-EC0419E7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AB5A-993E-4B63-9F2D-FFE917EF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D72A-B85F-419F-87FF-0244F6C7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E176-57D6-43CE-B480-46239713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0353-E4A6-4E0F-9A91-06B5233F7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F634-2D1A-4731-B071-102DB5921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ask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use beans to represent gases in the atmosphere in Venus, Earth and M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draw conclusions based on the Goldilocks principle that Earth’s unique atmosphere is suitable for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lace is too hot!!” she sa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666880" y="2514600"/>
            <a:ext cx="373860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i-Earth decided to take a walk to the position of the fourth planet from the Sun, M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28954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lace is too cold!!” Goldi-Earth exclai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362320" y="2957400"/>
            <a:ext cx="422892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she decided to take the position of the third planet,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895480" y="2971800"/>
            <a:ext cx="31244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28600" y="9907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hhh, this temperature is just right,” she said happily, and decided to st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722680" y="2438280"/>
            <a:ext cx="25351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is position is just right, it is just right to support life, and all living organisms lived happily ever af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489040" y="3462480"/>
            <a:ext cx="353088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es this have to do with atmosphere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arth’s atmosphere is composed of g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just the righ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just the right am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warm the Earth to temperatures suitable fo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1760" y="2437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Goldilocks Connection 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reenhouse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ffect of the atmosphere to trap heat is the Greenhouse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133720" y="3048120"/>
            <a:ext cx="49528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Neighbors, Venus and 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800"/>
                </a:solidFill>
                <a:latin typeface="Arial"/>
              </a:rPr>
              <a:t>Venu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tmosphere gases are too dense, and trap too much heat making it uninhabi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b200"/>
                </a:solidFill>
                <a:latin typeface="Arial"/>
              </a:rPr>
              <a:t>(too much greenhouse effe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r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Mars has almost no atmosphere, and does not trap enough heat making it too c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b200"/>
                </a:solidFill>
                <a:latin typeface="Arial"/>
              </a:rPr>
              <a:t>(too little greenhouse effe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ca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pl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our two closest neighbors, Venus and Mars, have very different atmospheres than Earth does in pressure and chemical compos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pl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“goldilocks principle” and understand that Earth’s moderate temperature is due to it’s unique atmosp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t Earth is JUST RIGHT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atmosphere is much differ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h less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 Venus and M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atmospheric pressure is between Venus and M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mperature is just right in terms of distance from the Sun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533520" y="609480"/>
          <a:ext cx="8001000" cy="4873680"/>
        </p:xfrm>
        <a:graphic>
          <a:graphicData uri="http://schemas.openxmlformats.org/drawingml/2006/table">
            <a:tbl>
              <a:tblPr/>
              <a:tblGrid>
                <a:gridCol w="2133360"/>
                <a:gridCol w="1866960"/>
                <a:gridCol w="2000160"/>
                <a:gridCol w="2000520"/>
              </a:tblGrid>
              <a:tr h="14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r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ox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(Pinto Bea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tro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(White Bea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y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(Red Bea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ce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(Black bea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48120" y="10666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029200" y="10666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6934320" y="1066680"/>
            <a:ext cx="8380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Goldilocks Zon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ractured Fairyt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ldi-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upon a time, there was a roc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et named Goldi-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666880" y="29718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went for a walk in the Unive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819520" y="24382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41911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b800"/>
                </a:solidFill>
                <a:latin typeface="Arial"/>
              </a:rPr>
              <a:t>She knocked on the door of the Solar System, and when no one answered, she walked right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Solar System, there were three positions to choose from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ond planet position, the third planet position and the fourth planet pos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i-Earth was cold.  She decided to take the second planet position, closer to the Sun, usually held by the planet, Ven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8:35:45Z</dcterms:created>
  <dc:creator>hms</dc:creator>
  <dc:description/>
  <dc:language>en-US</dc:language>
  <cp:lastModifiedBy>asd</cp:lastModifiedBy>
  <dcterms:modified xsi:type="dcterms:W3CDTF">2011-02-17T17:29:06Z</dcterms:modified>
  <cp:revision>4</cp:revision>
  <dc:subject/>
  <dc:title>Task:</dc:title>
</cp:coreProperties>
</file>