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354D-7ED3-4CEF-BED6-628598BB0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E1D8-3DB4-4838-A41B-553056D7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FE14-E92E-458D-BD2D-A134F2270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440E-9468-4480-8F61-CF185B865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F34F-2626-4E37-A8FD-820194836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B71D-DE36-46A1-8196-A0F5A31A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E11B9-FD08-45BE-8005-FA67E690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764A-4192-4D10-BBAA-4B1FA5CD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A554-EB86-4DAD-8C01-82EF6CB5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8222-D1E2-440D-A22C-D72DD081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24E3-C67C-40E5-AC9F-9F3D5D5F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BF2C-93E0-4790-A4C0-48DCE80B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E5EA-8A22-4FD8-BA48-442AD74B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0A0F-6362-4AD0-BA5E-9B77F5B6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43DE-BA88-4E17-966C-9B83EEC5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2B7C-09B6-438F-AEEB-B89A2EC93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C9C1-6696-477D-9D98-3ACC0CA44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E24F-770C-4434-B2E9-C760836F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CA0A-6006-4F1A-964A-633EF99E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1B14-B06E-494E-8327-C0853F1B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9C16-4F99-433C-9073-96E506FE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B73E-604A-415F-BBBC-6FFC010E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7294-F900-4CCE-B186-D53C4758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17D1-C63B-4B2F-8608-D57F0ED4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7075-EDE0-451A-858E-C5097E345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1510-2117-4B5D-8815-807F814FB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ask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use beans to represent gases in the atmosphere in Venus, Earth and M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draw conclusions based on the Goldilocks principle that Earth’s unique atmosphere is suitable for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lace is too hot!!” she sa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666880" y="2514600"/>
            <a:ext cx="373860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i-Earth decided to take a walk to the position of the fourth planet from the Sun, M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28954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lace is too cold!!” Goldi-Earth exclai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362320" y="2957400"/>
            <a:ext cx="422892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she decided to take the position of the third planet,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895480" y="2971800"/>
            <a:ext cx="31244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28600" y="9907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hhh, this temperature is just right,” she said happily, and decided to st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722680" y="2438280"/>
            <a:ext cx="25351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this position is just right, it is just right to support life, and all living organisms lived happily ever af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489040" y="3462480"/>
            <a:ext cx="353088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es this have to do with atmosphere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arth’s atmosphere is composed of g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just the righ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just the right am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warm the Earth to temperatures suitable for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1760" y="2437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Goldilocks Connection 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reenhouse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ffect of the atmosphere to trap heat is the Greenhouse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133720" y="3048120"/>
            <a:ext cx="49528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Neighbors, Venus and 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800"/>
                </a:solidFill>
                <a:latin typeface="Arial"/>
              </a:rPr>
              <a:t>Venu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tmosphere gases are too dense, and trap too much heat making it uninhabi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b200"/>
                </a:solidFill>
                <a:latin typeface="Arial"/>
              </a:rPr>
              <a:t>(too much greenhouse effe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r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Mars has almost no atmosphere, and does not trap enough heat making it too co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b200"/>
                </a:solidFill>
                <a:latin typeface="Arial"/>
              </a:rPr>
              <a:t>(too little greenhouse effe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ca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pl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our two closest neighbors, Venus and Mars, have very different atmospheres than Earth does in pressure and chemical compos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pl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“goldilocks principle” and understand that Earth’s moderate temperature is due to it’s unique atmosp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t Earth is JUST RIGHT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atmosphere is much differ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h less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 Venus and M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atmospheric pressure is between Venus and M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mperature is just right in terms of distance from the Sun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533520" y="609480"/>
          <a:ext cx="8001000" cy="4873680"/>
        </p:xfrm>
        <a:graphic>
          <a:graphicData uri="http://schemas.openxmlformats.org/drawingml/2006/table">
            <a:tbl>
              <a:tblPr/>
              <a:tblGrid>
                <a:gridCol w="2133360"/>
                <a:gridCol w="1866960"/>
                <a:gridCol w="2000160"/>
                <a:gridCol w="2000520"/>
              </a:tblGrid>
              <a:tr h="14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r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ox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(Pinto Bean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tro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(White Bean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y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(Red Bean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ce el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(Black bean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048120" y="10666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029200" y="10666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6934320" y="1066680"/>
            <a:ext cx="83808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Goldilocks Zon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ractured Fairyt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ldi-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upon a time, there was a roc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et named Goldi-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666880" y="29718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went for a walk in the Unive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819520" y="24382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41911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8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b800"/>
                </a:solidFill>
                <a:latin typeface="Arial"/>
              </a:rPr>
              <a:t>She knocked on the door of the Solar System, and when no one answered, she walked right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Solar System, there were three positions to choose from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cond planet position, the third planet position and the fourth planet pos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i-Earth was cold.  She decided to take the second planet position, closer to the Sun, usually held by the planet, Ven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8:35:45Z</dcterms:created>
  <dc:creator>hms</dc:creator>
  <dc:description/>
  <dc:language>en-US</dc:language>
  <cp:lastModifiedBy>asd</cp:lastModifiedBy>
  <dcterms:modified xsi:type="dcterms:W3CDTF">2011-02-17T17:29:06Z</dcterms:modified>
  <cp:revision>4</cp:revision>
  <dc:subject/>
  <dc:title>Task:</dc:title>
</cp:coreProperties>
</file>