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EC4-FEE2-4C10-A2D2-2A5DAEE3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E51-E9EB-4476-884B-5EF5ECBD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E0F-A497-42B7-B32D-E314BBAF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477-0182-4DBC-B96C-24D7D60F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F636-2B13-4CE9-A178-7CC5C9C8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5E59-6A47-4092-B067-F9B5F54D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8956-B463-42BE-81FE-88E812DD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907E-8B3C-4702-964F-D786ED43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B9B2-8053-4089-B4CF-FAAC5792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21DA-788D-47CD-89FC-1F427FA6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27AE-BEC7-4473-AA8D-B829FCB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010-B449-4EBF-8C15-BD4CB6B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E7A5-C06E-4DC9-8CD6-A2E25BA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88D4-6DA7-4AB0-A8D8-9686EFF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63BF-72AA-4350-91CE-FC4B4073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6E09-6420-4A07-AC86-20169D6A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E72E-E2DF-4CFA-BA76-523BA0EC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8FD-FA35-4DC8-9579-73A13A3F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6F1-38F3-44A4-A527-F502474B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1CF-DACF-453E-BD5B-FE7858E2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F31-9CA4-42B1-9D37-44598FB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82D-6989-41D9-B56E-BDB5326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39D-EADB-4F17-8DC5-AE7B7F3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B0E-4596-4CF2-AC33-20DF697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A212-947F-4B3C-BB68-3C649878D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E0CC-BA48-40A7-8251-A67730FE8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s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use beans to represent gases in the atmosphere in Venus, Earth a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draw conclusions based on the Goldilocks principle that Earth’s unique atmosphere is suitable fo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lace is too hot!!” s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7386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-Earth decided to take a walk to the position of the fourth planet from the Sun,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lace is too cold!!” Goldi-Earth exclai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362320" y="2957400"/>
            <a:ext cx="42289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she decided to take the position of the third planet,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hh, this temperature is just right,” she said happily, and decided to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722680" y="2438280"/>
            <a:ext cx="253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is position is just right, it is just right to support life, and all living organisms lived happily ever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9040" y="3462480"/>
            <a:ext cx="35308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is have to do with atmosp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’s atmosphere is composed of g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ust the righ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just the right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arm the Earth to temperatures suitable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Goldilocks Connection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ffect of the atmosphere to trap heat is the Greenhous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eighbors, Venus and 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Arial"/>
              </a:rPr>
              <a:t>Ven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tmosphere gases are too dense, and trap too much heat making it uninhabi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(too much greenhou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ars has almost no atmosphere, and does not trap enough heat making it too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(too little greenhouse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our two closest neighbors, Venus and Mars, have very different atmospheres than Earth does in pressure and chemical com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“goldilocks principle” and understand that Earth’s moderate temperature is due to it’s uniqu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Earth is JUST RIGH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atmosphere is much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les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Venus and 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tmospheric pressure is between Venus a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is just right in terms of distance from the Sun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33520" y="609480"/>
          <a:ext cx="8001000" cy="4873680"/>
        </p:xfrm>
        <a:graphic>
          <a:graphicData uri="http://schemas.openxmlformats.org/drawingml/2006/table">
            <a:tbl>
              <a:tblPr/>
              <a:tblGrid>
                <a:gridCol w="2133360"/>
                <a:gridCol w="1866960"/>
                <a:gridCol w="2000160"/>
                <a:gridCol w="2000520"/>
              </a:tblGrid>
              <a:tr h="14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Pinto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White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Red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0080"/>
                          </a:solidFill>
                          <a:latin typeface="Arial"/>
                        </a:rPr>
                        <a:t>(Black be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934320" y="1066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Goldilocks Zon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ctured Fairy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i-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upon a time, there was a ro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named Goldi-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ent for a walk in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b800"/>
                </a:solidFill>
                <a:latin typeface="Arial"/>
              </a:rPr>
              <a:t>She knocked on the door of the Solar System, and when no one answered, she walked right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olar System, there were three positions to choose from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planet position, the third planet position and the fourth planet 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i-Earth was cold.  She decided to take the second planet position, closer to the Sun, usually held by the planet, Ve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8:35:45Z</dcterms:created>
  <dc:creator>hms</dc:creator>
  <dc:description/>
  <dc:language>en-US</dc:language>
  <cp:lastModifiedBy>asd</cp:lastModifiedBy>
  <dcterms:modified xsi:type="dcterms:W3CDTF">2011-02-17T17:29:06Z</dcterms:modified>
  <cp:revision>4</cp:revision>
  <dc:subject/>
  <dc:title>Task:</dc:title>
</cp:coreProperties>
</file>