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07D-8C2F-4BB6-A848-438E8249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3D9-7029-4756-9C88-4CB1CFC8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402-DFF8-46E2-893D-72D75E23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8E5-FEBD-47C3-B0C5-FF115BE3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D668-43C4-4F33-8810-710FECE0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855D-BC1B-444C-B449-1B322AF7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750F-80D4-41DE-B011-37390A8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A21F-C754-4E17-8477-459C6E9E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FE8E-FA9D-4A8A-B800-C2AC367E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6CAB-8616-4D58-B8BE-953E5780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176E-15FA-484F-98AA-96ADE99B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0C2-C5AB-4A3F-BF58-043922F4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F5B7-403D-4507-BB5D-CF9E320C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15F8-EDC9-4321-86A0-99A9755D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700C-17A3-4326-A8E5-4D61626B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A7EB-60F1-489A-9CDF-A3C36E82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1501-4C92-4289-8554-7DB94425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128-F50C-4098-B049-F046FB7F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764-D84A-45A0-BF34-21859667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1F1-383E-4B1C-9972-F3592BE6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9E7-25C3-458E-831C-C3E2B5F2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75E-F7F7-4866-B668-CA42E36E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758-0ED3-4A69-92C4-7B0ACDC3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663-6FDE-4DD8-A1AA-472C868F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E91B-ED59-44F8-822E-E2579EF44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AFE9-ED6D-49E5-84E4-275C80645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362320" y="1981080"/>
          <a:ext cx="45720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981080"/>
                    <a:ext cx="4572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1828800"/>
          <a:ext cx="3505320" cy="266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828800"/>
                    <a:ext cx="3505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14600" y="2209680"/>
          <a:ext cx="4038480" cy="30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209680"/>
                    <a:ext cx="4038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90920" y="2209680"/>
          <a:ext cx="4190760" cy="335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09680"/>
                    <a:ext cx="41907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362320" y="1676520"/>
          <a:ext cx="3886200" cy="28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38862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2209680"/>
          <a:ext cx="3429000" cy="36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209680"/>
                    <a:ext cx="3429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90920" y="2057400"/>
          <a:ext cx="3886200" cy="37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057400"/>
                    <a:ext cx="3886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029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2057400"/>
          <a:ext cx="441936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057400"/>
                    <a:ext cx="4419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33720" y="1752480"/>
          <a:ext cx="4572000" cy="266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752480"/>
                    <a:ext cx="4572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905120"/>
          <a:ext cx="3886200" cy="396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05120"/>
                    <a:ext cx="38862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38280" y="1905120"/>
          <a:ext cx="419112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905120"/>
                    <a:ext cx="4191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81080" y="1752480"/>
          <a:ext cx="4572000" cy="25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75248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0" y="1752480"/>
          <a:ext cx="4572000" cy="44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752480"/>
                    <a:ext cx="4572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0" y="1905120"/>
          <a:ext cx="4572000" cy="434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905120"/>
                    <a:ext cx="4572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types of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chanical (physical)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mechan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81080" y="1828800"/>
          <a:ext cx="5181840" cy="236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51818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4320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1828800"/>
          <a:ext cx="4647960" cy="419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28800"/>
                    <a:ext cx="4647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27:11Z</dcterms:created>
  <dc:creator>asd</dc:creator>
  <dc:description/>
  <dc:language>en-US</dc:language>
  <cp:lastModifiedBy>asd</cp:lastModifiedBy>
  <dcterms:modified xsi:type="dcterms:W3CDTF">2010-12-03T18:08:35Z</dcterms:modified>
  <cp:revision>1</cp:revision>
  <dc:subject/>
  <dc:title>Weathering Review</dc:title>
</cp:coreProperties>
</file>