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2CF-1174-4575-8264-03EEA375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079-8DC7-4E7B-93A0-B7EB5ED6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04C-E044-4FB8-91F6-C6417499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1BE-AAFC-4EA9-B292-FEA38B84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AD90-4D63-4126-AC94-A984BE4B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3941-FE85-405E-9257-A0CEE82D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5EB8-3636-4E46-AF57-D0F6A1D1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8A6A-5EA4-498C-B238-0358BA32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783C-4123-464D-9A08-B809F319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E32E-12FE-407F-B5E7-354C6512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DB3B-9AAD-449F-BA92-A2FE96D0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6F6-EA88-4CB3-AAA4-0C99E0F8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72FF-0EDA-4048-936B-F2E49F98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D060-8535-4A9C-90E0-F1E88F13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79C5-39DE-4C7F-B6B0-78008B7D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B016-F5E2-4D71-AA5D-7A70B5D8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84E1-42FD-4C54-B18A-9E32E905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072-8A3B-478C-A36E-ED35AFD9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6E5-CCAD-48A1-9E5F-8C2E0D07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2BF-98A0-421E-935C-B6C469CA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DDA-77EE-41E1-B015-63A0F069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BC0-8AEE-433F-B1A5-BD3C939D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71B-393B-497B-AFDB-DAEA937B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79D-543F-4053-B86C-0C4D219F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7144-32EB-4BCA-970A-FCDCCD4AF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9786-33B5-4FA3-82CA-B31A809B7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362320" y="1981080"/>
          <a:ext cx="457200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981080"/>
                    <a:ext cx="4572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1828800"/>
          <a:ext cx="3505320" cy="266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828800"/>
                    <a:ext cx="35053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14600" y="2209680"/>
          <a:ext cx="4038480" cy="30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2209680"/>
                    <a:ext cx="40384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90920" y="2209680"/>
          <a:ext cx="4190760" cy="335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209680"/>
                    <a:ext cx="419076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362320" y="1676520"/>
          <a:ext cx="3886200" cy="28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388620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95480" y="2209680"/>
          <a:ext cx="3429000" cy="365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209680"/>
                    <a:ext cx="3429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90920" y="2057400"/>
          <a:ext cx="3886200" cy="37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057400"/>
                    <a:ext cx="38862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029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62320" y="2057400"/>
          <a:ext cx="4419360" cy="388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057400"/>
                    <a:ext cx="4419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476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133720" y="1752480"/>
          <a:ext cx="4572000" cy="266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752480"/>
                    <a:ext cx="45720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666880" y="1905120"/>
          <a:ext cx="3886200" cy="396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905120"/>
                    <a:ext cx="38862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438280" y="1905120"/>
          <a:ext cx="4191120" cy="388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905120"/>
                    <a:ext cx="4191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81080" y="1752480"/>
          <a:ext cx="4572000" cy="259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752480"/>
                    <a:ext cx="4572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0" y="1752480"/>
          <a:ext cx="4572000" cy="44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752480"/>
                    <a:ext cx="4572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0" y="1905120"/>
          <a:ext cx="4572000" cy="434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905120"/>
                    <a:ext cx="4572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types of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mechanical (physical)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hem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examples of mechan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examples of chem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81080" y="1828800"/>
          <a:ext cx="5181840" cy="236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828800"/>
                    <a:ext cx="51818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4320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33720" y="1828800"/>
          <a:ext cx="4647960" cy="419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828800"/>
                    <a:ext cx="4647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27:11Z</dcterms:created>
  <dc:creator>asd</dc:creator>
  <dc:description/>
  <dc:language>en-US</dc:language>
  <cp:lastModifiedBy>asd</cp:lastModifiedBy>
  <dcterms:modified xsi:type="dcterms:W3CDTF">2010-12-03T18:08:35Z</dcterms:modified>
  <cp:revision>1</cp:revision>
  <dc:subject/>
  <dc:title>Weathering Review</dc:title>
</cp:coreProperties>
</file>