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147-9630-4654-83F6-5D0F505F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11A-1A48-486B-8A96-5A05362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398-DBF2-4B56-A3A6-A3CED24B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76F-0AED-4585-AAFC-B36E3748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DB3C-088F-4787-8618-1149878B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BFC-E568-4823-B9A0-6E7C0C8D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DD6D-A53D-4038-8A56-55E542BC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A293-F0C9-4FF2-A06A-9D780722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B6F4-FE89-42D6-AA0C-B19E3784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302E-4B5F-4B44-AA67-7F0C3065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31E1-F928-46A7-AD67-47F5A37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47C-0902-42C2-8605-99879345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5D2C-B8F6-440F-8F68-48AABF9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0F91-1681-49D2-9807-A000E19F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9E89-A2D4-4ABE-8863-4D97AACA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1A74-80D3-41D0-8AC8-1AB736B4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83E3-1145-428A-A362-0DAF44DF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355-6994-467E-BD50-7ADB5828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0EF-1649-4581-8E66-9A83B9EE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E7D-B532-4BF7-B9FB-79CD5118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308-C647-4C6A-B289-6A9C08D0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FE7-11F7-4AD4-8D2F-5405056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D6C-3CD0-49EA-91DA-E82C4C5F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E2F-A4A0-4954-9A18-4CBD0FC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7834-97A9-463A-8EDD-2DE242B32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6BB9-6662-45C1-A20D-F2C75C97F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362320" y="1981080"/>
          <a:ext cx="45720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98108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828800"/>
          <a:ext cx="350532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828800"/>
                    <a:ext cx="3505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14600" y="2209680"/>
          <a:ext cx="40384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209680"/>
                    <a:ext cx="4038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90920" y="2209680"/>
          <a:ext cx="4190760" cy="335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09680"/>
                    <a:ext cx="41907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62320" y="1676520"/>
          <a:ext cx="388620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3886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2209680"/>
          <a:ext cx="342900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3429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057400"/>
          <a:ext cx="38862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029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2057400"/>
          <a:ext cx="441936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057400"/>
                    <a:ext cx="4419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33720" y="1752480"/>
          <a:ext cx="4572000" cy="266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52480"/>
                    <a:ext cx="4572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905120"/>
          <a:ext cx="3886200" cy="396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05120"/>
                    <a:ext cx="3886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38280" y="1905120"/>
          <a:ext cx="419112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05120"/>
                    <a:ext cx="419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1752480"/>
          <a:ext cx="457200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75248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0" y="1752480"/>
          <a:ext cx="4572000" cy="44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752480"/>
                    <a:ext cx="4572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0" y="1905120"/>
          <a:ext cx="4572000" cy="43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0512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types of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chanical (physical)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mechan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1828800"/>
          <a:ext cx="518184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181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320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828800"/>
          <a:ext cx="464796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28800"/>
                    <a:ext cx="4647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27:11Z</dcterms:created>
  <dc:creator>asd</dc:creator>
  <dc:description/>
  <dc:language>en-US</dc:language>
  <cp:lastModifiedBy>asd</cp:lastModifiedBy>
  <dcterms:modified xsi:type="dcterms:W3CDTF">2010-12-03T18:08:35Z</dcterms:modified>
  <cp:revision>1</cp:revision>
  <dc:subject/>
  <dc:title>Weathering Review</dc:title>
</cp:coreProperties>
</file>