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3E4DF-273C-4A9D-927F-DA350969E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E0A6-487A-4125-97D1-5802ACB93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8E03E-8D62-4A6D-A9A2-C20E1A8E4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ED8DD-10F4-4D60-A29A-EB0D5D3FA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3B5AB-C632-4D6A-B6E7-6387BD97E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D79ED-BFCD-416F-9310-EB845FD21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B7859-C851-4B9E-B370-892C81C0F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CD74A-3040-42FC-92D7-6D71DC84F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99D77-800D-4071-A63A-B8FEF25CE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09E17-F0E2-42AB-885B-2CB6EC454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BA4A1-EF43-4F14-B421-C6D224B03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449FE-3796-4F3F-A532-1A4125E23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B2256-9163-4277-8635-BCE01067A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47F20-123D-46FF-9484-21016D1CE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A313F-85EC-444D-A397-CC0FB2F2B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4E88F-2808-4617-B107-B9896E429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7FD5E-EB42-4DD5-A5A1-D090FD233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0040-3A4C-4805-BDB2-F38E1906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ACFA8-1323-4532-BBB7-B5877FBF6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0EB7C-2D0F-4FD9-8090-E7E1B3482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7C7D9-4069-419D-84A2-83F0B2B2B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F7299-D53C-46F2-9E32-D2BF0800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C3AF-18F7-48E9-9ADD-FBE811C19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939B9-84DF-417B-9549-47C7C66CD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59BA-E878-40B8-B8BD-B41BF4DF37F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7A5D-ACE3-4898-9331-6695F5867AEF}"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1-Introduction to Project Ale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son Lists</a:t>
            </a:r>
            <a:endParaRPr b="0" lang="en-US" sz="4000" spc="-1" strike="noStrike">
              <a:solidFill>
                <a:srgbClr val="ffffff"/>
              </a:solidFill>
              <a:latin typeface="Arial"/>
            </a:endParaRPr>
          </a:p>
        </p:txBody>
      </p:sp>
      <p:sp>
        <p:nvSpPr>
          <p:cNvPr id="23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off by four!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recorder and will make one of the following lists:</a:t>
            </a:r>
            <a:endParaRPr b="0" lang="en-US" sz="28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1- Reasons why people smoke cigarettes</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2- Reasons not to smoke cigarettes</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3-Reasons why people use marijuana </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4-Reasons not to use marijua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are and Video</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er read list.</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we’ll see a video in which older teens talk about reasons why people smoke marijuana and why they do not. See if they come up with any reasons we haven’t.  </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3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 IQ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ome people use drugs and why most people do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cognize the pressures on teenagers to use drug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sist these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Alert focuses on cigarettes, marijuana, inhalants, and alcohol because these are substances that people your age are most likely to come in contact with. We also talk about smokeless tobacco, crack and other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will take us about two week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 will be fun and different.  It will teach you important facts and skills.  It includes videos, skits and games.  You will have 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now at an age when you are making more of your own decisions. </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decisions that you are making n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ision to use drugs is ultimately up to you.  You need to know the health, legal and social risks involved in using drugs so that your decisions can ensure a healthy, safe lifestyle.</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one can make you use drugs if you don’t want to.  We will learn to say “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talk about why some people use cigarettes, marijuana, inhalants, and alcohol, and also the reasons why most people have decided not to use these substanc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nd Rules</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we will be talking about smoking, drinking and the use of other drugs, it is important to have some special rules so that we all feel comfortable shar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rules could we make that would help us all feel comfortable during this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nd Rules for ME </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listen carefully to what you have to say and treat all response with respec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encourage all students to participate in the activiti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keep things I hear in class private unless I learn that a rule, such as getting drunk at school, has been broken.  As a teacher, I am required to report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5:28:38Z</dcterms:created>
  <dc:creator>asd</dc:creator>
  <dc:description/>
  <dc:language>en-US</dc:language>
  <cp:lastModifiedBy>asd</cp:lastModifiedBy>
  <dcterms:modified xsi:type="dcterms:W3CDTF">2011-03-15T05:10:48Z</dcterms:modified>
  <cp:revision>5</cp:revision>
  <dc:subject/>
  <dc:title>Project Alert</dc:title>
</cp:coreProperties>
</file>