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1A8FA-31BC-4A2C-AC3B-52BF9A777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F10E3-93C3-4445-947F-8CB62A86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35126-3E38-47AB-944A-55B41DBBB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439EE-2111-4A32-83F2-08838D1C5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63EF9-02DC-4F2C-A0AE-7A1B59FDB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48613-308E-4ADD-A21F-38DAB0A28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0FD59-225F-4566-AB89-9A9649E5F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12E0B-3198-4135-8C53-4C5803B84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DDC56-E839-4420-ADE2-E1F0DE78D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E39B4-06C7-43D1-89D4-9A96C2BBD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E522-CA46-451F-897B-ABB24B1F3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AD0A-78B7-4A3A-ACD0-5A3EE030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C2833-1579-42B9-8291-5356F5B7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A255-1226-41EE-83C7-11C13E585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B6498-47FA-4AD9-80FC-F9AE918D7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28AF6-EF4B-40A2-87D4-651628A9C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D5EBC-DE81-4C20-B7A3-2AB1A89E2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4A263-2FC4-42CD-8744-FC769E578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C89C-E4F8-44A9-A8C4-E1947D2E0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8619-A1A3-441D-B410-890FB413C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B2780-C3A3-4734-9DEF-BB79B66F6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3246-A571-4587-9165-927877FD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9DFF-4A87-49CF-8621-EE284498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6F32-27B9-4F78-B0A8-FEBD3C44B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E2E8-1229-4925-9ED5-A85285F109C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CDB7-01CF-4C28-A7F4-316E2869C40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Introduction to Project Ale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son Lists</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off by fou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and will make one of the following lists:</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 Reasons why people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2- Reasons not to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3-Reasons why people use marijuana </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4-Reasons not to use mariju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e and Video</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 read list.</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e’ll see a video in which older teens talk about reasons why people smoke marijuana and why they do not. See if they come up with any reasons we haven’t.  </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 IQ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me people use drugs and why most people do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cognize the pressures on teenager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sist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lert focuses on cigarettes, marijuana, inhalants, and alcohol because these are substances that people your age are most likely to come in contact with. We also talk about smokeless tobacco, crack and other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will take us about two week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 will be fun and different.  It will teach you important facts and skills.  It includes videos, skits and games.  You will have 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w at an age when you are making more of your own decisions. </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decisions that you are making n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 to use drugs is ultimately up to you.  You need to know the health, legal and social risks involved in using drugs so that your decisions can ensure a healthy, safe lifestyle.</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ne can make you use drugs if you don’t want to.  We will learn to say “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talk about why some people use cigarettes, marijuana, inhalants, and alcohol, and also the reasons why most people have decided not to use these substan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we will be talking about smoking, drinking and the use of other drugs, it is important to have some special rules so that we all feel comfortable shar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ules could we make that would help us all feel comfortable during this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 for ME </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listen carefully to what you have to say and treat all response with respec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encourage all students to participate in the activiti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eep things I hear in class private unless I learn that a rule, such as getting drunk at school, has been broken.  As a teacher, I am required to report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5:28:38Z</dcterms:created>
  <dc:creator>asd</dc:creator>
  <dc:description/>
  <dc:language>en-US</dc:language>
  <cp:lastModifiedBy>asd</cp:lastModifiedBy>
  <dcterms:modified xsi:type="dcterms:W3CDTF">2011-03-15T05:10:48Z</dcterms:modified>
  <cp:revision>5</cp:revision>
  <dc:subject/>
  <dc:title>Project Alert</dc:title>
</cp:coreProperties>
</file>