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C92-71CA-49A0-9EA0-71B3835D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D34-605F-4667-A373-8FF25B4A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61B-C8CB-4B1A-8824-2CC0999D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16F-6C6D-4414-B17A-1DF9A1EC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BCC-13BB-46CE-A299-5B8111B6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016-2883-4925-8CC0-249AA172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F8C-ABEA-4979-B1D2-95F90F50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8D9-C624-471C-ADF1-3BD768E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711-05F6-484F-901B-6F118E9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F4C-61B5-41E3-8C98-A7E9045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15C-3355-4BA7-AECA-CF46312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622-B36C-4E70-B2B2-A15E422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EEA-4EAE-457C-A5DA-0D4427CE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dy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6002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24382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2767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1148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9528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7913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5815080"/>
            <a:ext cx="1523880" cy="73800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44590" h="21600">
                <a:moveTo>
                  <a:pt x="0" y="0"/>
                </a:moveTo>
                <a:lnTo>
                  <a:pt x="44590" y="0"/>
                </a:lnTo>
                <a:lnTo>
                  <a:pt x="44590" y="21600"/>
                </a:lnTo>
                <a:lnTo>
                  <a:pt x="0" y="21600"/>
                </a:lnTo>
                <a:close/>
              </a:path>
              <a:path fill="lightenLess" w="44590" h="21600">
                <a:moveTo>
                  <a:pt x="0" y="0"/>
                </a:moveTo>
                <a:lnTo>
                  <a:pt x="44590" y="0"/>
                </a:lnTo>
                <a:lnTo>
                  <a:pt x="43190" y="1400"/>
                </a:lnTo>
                <a:lnTo>
                  <a:pt x="1400" y="1400"/>
                </a:lnTo>
                <a:close/>
              </a:path>
              <a:path fill="darken" w="44590" h="21600">
                <a:moveTo>
                  <a:pt x="44590" y="0"/>
                </a:moveTo>
                <a:lnTo>
                  <a:pt x="44590" y="21600"/>
                </a:lnTo>
                <a:lnTo>
                  <a:pt x="43190" y="20200"/>
                </a:lnTo>
                <a:lnTo>
                  <a:pt x="43190" y="1400"/>
                </a:lnTo>
                <a:close/>
              </a:path>
              <a:path fill="darkenLess" w="44590" h="21600">
                <a:moveTo>
                  <a:pt x="44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0" y="20200"/>
                </a:lnTo>
                <a:close/>
              </a:path>
              <a:path fill="lighten" w="44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09480" y="2438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0948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09480" y="4114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609480" y="4952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609480" y="579132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657600" y="23623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65760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3657600" y="41148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3657600" y="4952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657600" y="581508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438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200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41148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9528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581508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lveoli conta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Your alveoli do contain capill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part of the digestive system: small intestine, stomach, esophagus, or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rachea is not part of the digestiv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your small intestine were placed before your stom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rom the esophagus would be too large to be digested if your small intestine were placed before your stom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e energy your cells need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73392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your cells need come from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digestive system do wastes leave your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3886200" y="3352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leave your body through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 sacs inside your lung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9880" y="3352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gas that your body makes and then gets ri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is a gas your body makes and then gets rid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087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lood cells help you fight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lood cells help you fight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lood vessels that carry blood back to your hear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essels called veins carry blood back to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2813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nects arteries to v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onnect arteries and ve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2809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ulatory system brings nutrients to your cells and takes waste from you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The circulatory system does all of that 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280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acs inside your lungs are called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circulatory system and the digestive system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arry nutrients from the digestive system to all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Heal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Harcourt Brace &amp; Company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861840" cy="873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18669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you breathe in mov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39625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Air you breathe always pass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i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.  Oxygen is not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 group of organs working together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98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organs working together are called a body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16:57Z</dcterms:created>
  <dc:creator>Lab User</dc:creator>
  <dc:description/>
  <dc:language>en-US</dc:language>
  <cp:lastModifiedBy>asd</cp:lastModifiedBy>
  <dcterms:modified xsi:type="dcterms:W3CDTF">2010-05-03T21:44:53Z</dcterms:modified>
  <cp:revision>34</cp:revision>
  <dc:subject/>
  <dc:title>The Human Body</dc:title>
</cp:coreProperties>
</file>