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5BF-3661-4F6E-B871-B3D5A2C9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856-5C01-4311-9C3B-25F66DC8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5AF-9394-466A-8BAD-11D3CBD3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08F-47EE-4A7F-8539-1D839135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AD4-37A2-44FF-9D13-CE6DAC2E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AF1-39C3-4820-A85C-A9B4B0F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3A4-AC28-4BFD-BDD9-AF3901D8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AD5-25F3-4220-B829-7D54C5CA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86B-75D4-459F-85EF-BF69BD4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9EA-A2C7-491E-9D38-DE0A74A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3E2-95B8-4CC0-BA2B-D5A498F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06A-B2BD-40A4-9D4A-8789A70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6299-60E3-477A-9677-D87B86DB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dy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16002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24382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32767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1148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9528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7913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28600" y="5815080"/>
            <a:ext cx="1523880" cy="738000"/>
          </a:xfrm>
          <a:custGeom>
            <a:avLst/>
            <a:gdLst>
              <a:gd name="textAreaLeft" fmla="*/ 47520 w 1523880"/>
              <a:gd name="textAreaRight" fmla="*/ 1476360 w 152388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44590" h="21600">
                <a:moveTo>
                  <a:pt x="0" y="0"/>
                </a:moveTo>
                <a:lnTo>
                  <a:pt x="44590" y="0"/>
                </a:lnTo>
                <a:lnTo>
                  <a:pt x="44590" y="21600"/>
                </a:lnTo>
                <a:lnTo>
                  <a:pt x="0" y="21600"/>
                </a:lnTo>
                <a:close/>
              </a:path>
              <a:path fill="lightenLess" w="44590" h="21600">
                <a:moveTo>
                  <a:pt x="0" y="0"/>
                </a:moveTo>
                <a:lnTo>
                  <a:pt x="44590" y="0"/>
                </a:lnTo>
                <a:lnTo>
                  <a:pt x="43190" y="1400"/>
                </a:lnTo>
                <a:lnTo>
                  <a:pt x="1400" y="1400"/>
                </a:lnTo>
                <a:close/>
              </a:path>
              <a:path fill="darken" w="44590" h="21600">
                <a:moveTo>
                  <a:pt x="44590" y="0"/>
                </a:moveTo>
                <a:lnTo>
                  <a:pt x="44590" y="21600"/>
                </a:lnTo>
                <a:lnTo>
                  <a:pt x="43190" y="20200"/>
                </a:lnTo>
                <a:lnTo>
                  <a:pt x="43190" y="1400"/>
                </a:lnTo>
                <a:close/>
              </a:path>
              <a:path fill="darkenLess" w="44590" h="21600">
                <a:moveTo>
                  <a:pt x="44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90" y="20200"/>
                </a:lnTo>
                <a:close/>
              </a:path>
              <a:path fill="lighten" w="44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09480" y="2438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0948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609480" y="4114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609480" y="49528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609480" y="579132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3657600" y="23623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365760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3657600" y="41148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3657600" y="4952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657600" y="581508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438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200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41148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9528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5815080"/>
            <a:ext cx="1371600" cy="66204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4738" h="21600">
                <a:moveTo>
                  <a:pt x="0" y="0"/>
                </a:moveTo>
                <a:lnTo>
                  <a:pt x="44738" y="0"/>
                </a:lnTo>
                <a:lnTo>
                  <a:pt x="44738" y="21600"/>
                </a:lnTo>
                <a:lnTo>
                  <a:pt x="0" y="21600"/>
                </a:lnTo>
                <a:close/>
              </a:path>
              <a:path fill="lightenLess" w="44738" h="21600">
                <a:moveTo>
                  <a:pt x="0" y="0"/>
                </a:moveTo>
                <a:lnTo>
                  <a:pt x="44738" y="0"/>
                </a:lnTo>
                <a:lnTo>
                  <a:pt x="43338" y="1400"/>
                </a:lnTo>
                <a:lnTo>
                  <a:pt x="1400" y="1400"/>
                </a:lnTo>
                <a:close/>
              </a:path>
              <a:path fill="darken" w="44738" h="21600">
                <a:moveTo>
                  <a:pt x="44738" y="0"/>
                </a:moveTo>
                <a:lnTo>
                  <a:pt x="44738" y="21600"/>
                </a:lnTo>
                <a:lnTo>
                  <a:pt x="43338" y="20200"/>
                </a:lnTo>
                <a:lnTo>
                  <a:pt x="43338" y="1400"/>
                </a:lnTo>
                <a:close/>
              </a:path>
              <a:path fill="darkenLess" w="44738" h="21600">
                <a:moveTo>
                  <a:pt x="44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38" y="20200"/>
                </a:lnTo>
                <a:close/>
              </a:path>
              <a:path fill="lighten" w="44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lveoli conta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Your alveoli do contain capilla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part of the digestive system: small intestine, stomach, esophagus, or trach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rachea is not part of the digestive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your small intestine were placed before your stom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rom the esophagus would be too large to be digested if your small intestine were placed before your stom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2087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the energy your cells need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733920" y="3200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your cells need come from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 of the digestive system do wastes leave your 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3886200" y="3352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leave your body through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 sacs inside your lung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809880" y="3352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gas that your body makes and then gets rid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is a gas your body makes and then gets rid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087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blood cells help you fight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lood cells help you fight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lood vessels that carry blood back to your hear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vessels called veins carry blood back to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2813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nects arteries to v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onnect arteries and ve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2809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ulatory system brings nutrients to your cells and takes waste from you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809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The circulatory system does all of that 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2809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sacs inside your lungs are called alve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circulatory system and the digestive system conn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arry nutrients from the digestive system to all cel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Heal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Harcourt Brace &amp; Company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861840" cy="873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18669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you breathe in mov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39625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Air you breathe always pass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is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.  Oxygen is not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 group of organs working together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809880" y="3733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organs working together are called a body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3:16:57Z</dcterms:created>
  <dc:creator>Lab User</dc:creator>
  <dc:description/>
  <dc:language>en-US</dc:language>
  <cp:lastModifiedBy>asd</cp:lastModifiedBy>
  <dcterms:modified xsi:type="dcterms:W3CDTF">2010-05-03T21:44:53Z</dcterms:modified>
  <cp:revision>34</cp:revision>
  <dc:subject/>
  <dc:title>The Human Body</dc:title>
</cp:coreProperties>
</file>