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C43-E39B-44EB-B893-B256DED9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393-4BA0-4E1A-B86D-7239B647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518-EB09-42D6-B7CA-D3847B70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E26-F591-4068-917C-7B5B42D1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E22-3856-42A3-8D18-D557DF45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F93E-96C8-4B3E-BAE4-D83BA833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E96-9224-410B-8991-F8AC5086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F8C-B003-488B-8159-CB870907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0D27-C9FE-42E6-8D5C-E310FFCB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826-39CB-4CE0-9EF4-5ECB91E5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2B39-6ADA-42A8-A9DF-BBDC613B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A3F1-4F80-4A57-93F1-11B58AF3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8607-172B-4CD9-9A99-B38EC25C0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" Target="slide16.xml"/><Relationship Id="rId10" Type="http://schemas.openxmlformats.org/officeDocument/2006/relationships/slide" Target="slide18.xml"/><Relationship Id="rId11" Type="http://schemas.openxmlformats.org/officeDocument/2006/relationships/slide" Target="slide20.xml"/><Relationship Id="rId1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Body 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60020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160020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es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160020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l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43828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243828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34320" y="243828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327672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327672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34320" y="327672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1480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411480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411480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495288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495288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495288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79132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579132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579132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228600" y="5815080"/>
            <a:ext cx="1523880" cy="738000"/>
          </a:xfrm>
          <a:custGeom>
            <a:avLst/>
            <a:gdLst>
              <a:gd name="textAreaLeft" fmla="*/ 47520 w 1523880"/>
              <a:gd name="textAreaRight" fmla="*/ 1476360 w 152388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44590" h="21600">
                <a:moveTo>
                  <a:pt x="0" y="0"/>
                </a:moveTo>
                <a:lnTo>
                  <a:pt x="44590" y="0"/>
                </a:lnTo>
                <a:lnTo>
                  <a:pt x="44590" y="21600"/>
                </a:lnTo>
                <a:lnTo>
                  <a:pt x="0" y="21600"/>
                </a:lnTo>
                <a:close/>
              </a:path>
              <a:path fill="lightenLess" w="44590" h="21600">
                <a:moveTo>
                  <a:pt x="0" y="0"/>
                </a:moveTo>
                <a:lnTo>
                  <a:pt x="44590" y="0"/>
                </a:lnTo>
                <a:lnTo>
                  <a:pt x="43190" y="1400"/>
                </a:lnTo>
                <a:lnTo>
                  <a:pt x="1400" y="1400"/>
                </a:lnTo>
                <a:close/>
              </a:path>
              <a:path fill="darken" w="44590" h="21600">
                <a:moveTo>
                  <a:pt x="44590" y="0"/>
                </a:moveTo>
                <a:lnTo>
                  <a:pt x="44590" y="21600"/>
                </a:lnTo>
                <a:lnTo>
                  <a:pt x="43190" y="20200"/>
                </a:lnTo>
                <a:lnTo>
                  <a:pt x="43190" y="1400"/>
                </a:lnTo>
                <a:close/>
              </a:path>
              <a:path fill="darkenLess" w="44590" h="21600">
                <a:moveTo>
                  <a:pt x="44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190" y="20200"/>
                </a:lnTo>
                <a:close/>
              </a:path>
              <a:path fill="lighten" w="44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609480" y="2438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609480" y="3276720"/>
            <a:ext cx="1447920" cy="76176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1047" h="21600">
                <a:moveTo>
                  <a:pt x="0" y="0"/>
                </a:moveTo>
                <a:lnTo>
                  <a:pt x="41047" y="0"/>
                </a:lnTo>
                <a:lnTo>
                  <a:pt x="41047" y="21600"/>
                </a:lnTo>
                <a:lnTo>
                  <a:pt x="0" y="21600"/>
                </a:lnTo>
                <a:close/>
              </a:path>
              <a:path fill="lightenLess" w="41047" h="21600">
                <a:moveTo>
                  <a:pt x="0" y="0"/>
                </a:moveTo>
                <a:lnTo>
                  <a:pt x="41047" y="0"/>
                </a:lnTo>
                <a:lnTo>
                  <a:pt x="39647" y="1400"/>
                </a:lnTo>
                <a:lnTo>
                  <a:pt x="1400" y="1400"/>
                </a:lnTo>
                <a:close/>
              </a:path>
              <a:path fill="darken" w="41047" h="21600">
                <a:moveTo>
                  <a:pt x="41047" y="0"/>
                </a:moveTo>
                <a:lnTo>
                  <a:pt x="41047" y="21600"/>
                </a:lnTo>
                <a:lnTo>
                  <a:pt x="39647" y="20200"/>
                </a:lnTo>
                <a:lnTo>
                  <a:pt x="39647" y="1400"/>
                </a:lnTo>
                <a:close/>
              </a:path>
              <a:path fill="darkenLess" w="41047" h="21600">
                <a:moveTo>
                  <a:pt x="41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47" y="20200"/>
                </a:lnTo>
                <a:close/>
              </a:path>
              <a:path fill="lighten" w="41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609480" y="41148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609480" y="49528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609480" y="5791320"/>
            <a:ext cx="1447920" cy="662040"/>
          </a:xfrm>
          <a:custGeom>
            <a:avLst/>
            <a:gdLst>
              <a:gd name="textAreaLeft" fmla="*/ 42840 w 1447920"/>
              <a:gd name="textAreaRight" fmla="*/ 1405080 w 1447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47227" h="21600">
                <a:moveTo>
                  <a:pt x="0" y="0"/>
                </a:moveTo>
                <a:lnTo>
                  <a:pt x="47227" y="0"/>
                </a:lnTo>
                <a:lnTo>
                  <a:pt x="47227" y="21600"/>
                </a:lnTo>
                <a:lnTo>
                  <a:pt x="0" y="21600"/>
                </a:lnTo>
                <a:close/>
              </a:path>
              <a:path fill="lightenLess" w="47227" h="21600">
                <a:moveTo>
                  <a:pt x="0" y="0"/>
                </a:moveTo>
                <a:lnTo>
                  <a:pt x="47227" y="0"/>
                </a:lnTo>
                <a:lnTo>
                  <a:pt x="45827" y="1400"/>
                </a:lnTo>
                <a:lnTo>
                  <a:pt x="1400" y="1400"/>
                </a:lnTo>
                <a:close/>
              </a:path>
              <a:path fill="darken" w="47227" h="21600">
                <a:moveTo>
                  <a:pt x="47227" y="0"/>
                </a:moveTo>
                <a:lnTo>
                  <a:pt x="47227" y="21600"/>
                </a:lnTo>
                <a:lnTo>
                  <a:pt x="45827" y="20200"/>
                </a:lnTo>
                <a:lnTo>
                  <a:pt x="45827" y="1400"/>
                </a:lnTo>
                <a:close/>
              </a:path>
              <a:path fill="darkenLess" w="47227" h="21600">
                <a:moveTo>
                  <a:pt x="47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827" y="20200"/>
                </a:lnTo>
                <a:close/>
              </a:path>
              <a:path fill="lighten" w="47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7" action="ppaction://hlinksldjump"/>
          </p:cNvPr>
          <p:cNvSpPr/>
          <p:nvPr/>
        </p:nvSpPr>
        <p:spPr>
          <a:xfrm>
            <a:off x="3657600" y="2362320"/>
            <a:ext cx="1447920" cy="76176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1047" h="21600">
                <a:moveTo>
                  <a:pt x="0" y="0"/>
                </a:moveTo>
                <a:lnTo>
                  <a:pt x="41047" y="0"/>
                </a:lnTo>
                <a:lnTo>
                  <a:pt x="41047" y="21600"/>
                </a:lnTo>
                <a:lnTo>
                  <a:pt x="0" y="21600"/>
                </a:lnTo>
                <a:close/>
              </a:path>
              <a:path fill="lightenLess" w="41047" h="21600">
                <a:moveTo>
                  <a:pt x="0" y="0"/>
                </a:moveTo>
                <a:lnTo>
                  <a:pt x="41047" y="0"/>
                </a:lnTo>
                <a:lnTo>
                  <a:pt x="39647" y="1400"/>
                </a:lnTo>
                <a:lnTo>
                  <a:pt x="1400" y="1400"/>
                </a:lnTo>
                <a:close/>
              </a:path>
              <a:path fill="darken" w="41047" h="21600">
                <a:moveTo>
                  <a:pt x="41047" y="0"/>
                </a:moveTo>
                <a:lnTo>
                  <a:pt x="41047" y="21600"/>
                </a:lnTo>
                <a:lnTo>
                  <a:pt x="39647" y="20200"/>
                </a:lnTo>
                <a:lnTo>
                  <a:pt x="39647" y="1400"/>
                </a:lnTo>
                <a:close/>
              </a:path>
              <a:path fill="darkenLess" w="41047" h="21600">
                <a:moveTo>
                  <a:pt x="41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47" y="20200"/>
                </a:lnTo>
                <a:close/>
              </a:path>
              <a:path fill="lighten" w="41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8" action="ppaction://hlinksldjump"/>
          </p:cNvPr>
          <p:cNvSpPr/>
          <p:nvPr/>
        </p:nvSpPr>
        <p:spPr>
          <a:xfrm>
            <a:off x="3657600" y="3276720"/>
            <a:ext cx="1447920" cy="76176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1047" h="21600">
                <a:moveTo>
                  <a:pt x="0" y="0"/>
                </a:moveTo>
                <a:lnTo>
                  <a:pt x="41047" y="0"/>
                </a:lnTo>
                <a:lnTo>
                  <a:pt x="41047" y="21600"/>
                </a:lnTo>
                <a:lnTo>
                  <a:pt x="0" y="21600"/>
                </a:lnTo>
                <a:close/>
              </a:path>
              <a:path fill="lightenLess" w="41047" h="21600">
                <a:moveTo>
                  <a:pt x="0" y="0"/>
                </a:moveTo>
                <a:lnTo>
                  <a:pt x="41047" y="0"/>
                </a:lnTo>
                <a:lnTo>
                  <a:pt x="39647" y="1400"/>
                </a:lnTo>
                <a:lnTo>
                  <a:pt x="1400" y="1400"/>
                </a:lnTo>
                <a:close/>
              </a:path>
              <a:path fill="darken" w="41047" h="21600">
                <a:moveTo>
                  <a:pt x="41047" y="0"/>
                </a:moveTo>
                <a:lnTo>
                  <a:pt x="41047" y="21600"/>
                </a:lnTo>
                <a:lnTo>
                  <a:pt x="39647" y="20200"/>
                </a:lnTo>
                <a:lnTo>
                  <a:pt x="39647" y="1400"/>
                </a:lnTo>
                <a:close/>
              </a:path>
              <a:path fill="darkenLess" w="41047" h="21600">
                <a:moveTo>
                  <a:pt x="41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47" y="20200"/>
                </a:lnTo>
                <a:close/>
              </a:path>
              <a:path fill="lighten" w="41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9" action="ppaction://hlinksldjump"/>
          </p:cNvPr>
          <p:cNvSpPr/>
          <p:nvPr/>
        </p:nvSpPr>
        <p:spPr>
          <a:xfrm>
            <a:off x="3657600" y="411480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0" action="ppaction://hlinksldjump"/>
          </p:cNvPr>
          <p:cNvSpPr/>
          <p:nvPr/>
        </p:nvSpPr>
        <p:spPr>
          <a:xfrm>
            <a:off x="3657600" y="49528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1" action="ppaction://hlinksldjump"/>
          </p:cNvPr>
          <p:cNvSpPr/>
          <p:nvPr/>
        </p:nvSpPr>
        <p:spPr>
          <a:xfrm>
            <a:off x="3657600" y="5815080"/>
            <a:ext cx="1447920" cy="662040"/>
          </a:xfrm>
          <a:custGeom>
            <a:avLst/>
            <a:gdLst>
              <a:gd name="textAreaLeft" fmla="*/ 42840 w 1447920"/>
              <a:gd name="textAreaRight" fmla="*/ 1405080 w 1447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47227" h="21600">
                <a:moveTo>
                  <a:pt x="0" y="0"/>
                </a:moveTo>
                <a:lnTo>
                  <a:pt x="47227" y="0"/>
                </a:lnTo>
                <a:lnTo>
                  <a:pt x="47227" y="21600"/>
                </a:lnTo>
                <a:lnTo>
                  <a:pt x="0" y="21600"/>
                </a:lnTo>
                <a:close/>
              </a:path>
              <a:path fill="lightenLess" w="47227" h="21600">
                <a:moveTo>
                  <a:pt x="0" y="0"/>
                </a:moveTo>
                <a:lnTo>
                  <a:pt x="47227" y="0"/>
                </a:lnTo>
                <a:lnTo>
                  <a:pt x="45827" y="1400"/>
                </a:lnTo>
                <a:lnTo>
                  <a:pt x="1400" y="1400"/>
                </a:lnTo>
                <a:close/>
              </a:path>
              <a:path fill="darken" w="47227" h="21600">
                <a:moveTo>
                  <a:pt x="47227" y="0"/>
                </a:moveTo>
                <a:lnTo>
                  <a:pt x="47227" y="21600"/>
                </a:lnTo>
                <a:lnTo>
                  <a:pt x="45827" y="20200"/>
                </a:lnTo>
                <a:lnTo>
                  <a:pt x="45827" y="1400"/>
                </a:lnTo>
                <a:close/>
              </a:path>
              <a:path fill="darkenLess" w="47227" h="21600">
                <a:moveTo>
                  <a:pt x="47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827" y="20200"/>
                </a:lnTo>
                <a:close/>
              </a:path>
              <a:path fill="lighten" w="47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2438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34320" y="32004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34320" y="4114800"/>
            <a:ext cx="1295280" cy="685800"/>
          </a:xfrm>
          <a:custGeom>
            <a:avLst/>
            <a:gdLst>
              <a:gd name="textAreaLeft" fmla="*/ 44280 w 1295280"/>
              <a:gd name="textAreaRight" fmla="*/ 1251000 w 1295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9386" y="1400"/>
                </a:lnTo>
                <a:lnTo>
                  <a:pt x="1400" y="140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9386" y="20200"/>
                </a:lnTo>
                <a:lnTo>
                  <a:pt x="39386" y="140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6" y="2020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34320" y="49528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5815080"/>
            <a:ext cx="1371600" cy="662040"/>
          </a:xfrm>
          <a:custGeom>
            <a:avLst/>
            <a:gdLst>
              <a:gd name="textAreaLeft" fmla="*/ 42840 w 1371600"/>
              <a:gd name="textAreaRight" fmla="*/ 1328760 w 13716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44738" h="21600">
                <a:moveTo>
                  <a:pt x="0" y="0"/>
                </a:moveTo>
                <a:lnTo>
                  <a:pt x="44738" y="0"/>
                </a:lnTo>
                <a:lnTo>
                  <a:pt x="44738" y="21600"/>
                </a:lnTo>
                <a:lnTo>
                  <a:pt x="0" y="21600"/>
                </a:lnTo>
                <a:close/>
              </a:path>
              <a:path fill="lightenLess" w="44738" h="21600">
                <a:moveTo>
                  <a:pt x="0" y="0"/>
                </a:moveTo>
                <a:lnTo>
                  <a:pt x="44738" y="0"/>
                </a:lnTo>
                <a:lnTo>
                  <a:pt x="43338" y="1400"/>
                </a:lnTo>
                <a:lnTo>
                  <a:pt x="1400" y="1400"/>
                </a:lnTo>
                <a:close/>
              </a:path>
              <a:path fill="darken" w="44738" h="21600">
                <a:moveTo>
                  <a:pt x="44738" y="0"/>
                </a:moveTo>
                <a:lnTo>
                  <a:pt x="44738" y="21600"/>
                </a:lnTo>
                <a:lnTo>
                  <a:pt x="43338" y="20200"/>
                </a:lnTo>
                <a:lnTo>
                  <a:pt x="43338" y="1400"/>
                </a:lnTo>
                <a:close/>
              </a:path>
              <a:path fill="darkenLess" w="44738" h="21600">
                <a:moveTo>
                  <a:pt x="44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38" y="20200"/>
                </a:lnTo>
                <a:close/>
              </a:path>
              <a:path fill="lighten" w="44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lveoli contain capill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3733920" y="3657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! Your alveoli do contain capilla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296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not part of the digestive system: small intestine, stomach, esophagus, or trach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3733920" y="3733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rachea is not part of the digestive syst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2087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happen if your small intestine were placed before your stom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3809880" y="342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7" h="21600">
                <a:moveTo>
                  <a:pt x="11909" y="14281"/>
                </a:moveTo>
                <a:lnTo>
                  <a:pt x="11909" y="12323"/>
                </a:lnTo>
                <a:cubicBezTo>
                  <a:pt x="11909" y="11496"/>
                  <a:pt x="12240" y="10800"/>
                  <a:pt x="12840" y="10800"/>
                </a:cubicBezTo>
                <a:cubicBezTo>
                  <a:pt x="13972" y="10800"/>
                  <a:pt x="14868" y="9434"/>
                  <a:pt x="14868" y="7849"/>
                </a:cubicBezTo>
                <a:cubicBezTo>
                  <a:pt x="14868" y="5534"/>
                  <a:pt x="13014" y="3794"/>
                  <a:pt x="10804" y="3794"/>
                </a:cubicBezTo>
                <a:cubicBezTo>
                  <a:pt x="8593" y="3794"/>
                  <a:pt x="6922" y="5534"/>
                  <a:pt x="6922" y="7849"/>
                </a:cubicBezTo>
                <a:lnTo>
                  <a:pt x="8776" y="7849"/>
                </a:lnTo>
                <a:cubicBezTo>
                  <a:pt x="8776" y="6709"/>
                  <a:pt x="9698" y="5821"/>
                  <a:pt x="10804" y="5821"/>
                </a:cubicBezTo>
                <a:cubicBezTo>
                  <a:pt x="11909" y="5821"/>
                  <a:pt x="12840" y="6709"/>
                  <a:pt x="12840" y="7849"/>
                </a:cubicBezTo>
                <a:cubicBezTo>
                  <a:pt x="12840" y="8589"/>
                  <a:pt x="12370" y="9320"/>
                  <a:pt x="11909" y="9320"/>
                </a:cubicBezTo>
                <a:cubicBezTo>
                  <a:pt x="10804" y="9320"/>
                  <a:pt x="9698" y="10800"/>
                  <a:pt x="9698" y="12323"/>
                </a:cubicBezTo>
                <a:lnTo>
                  <a:pt x="9698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from the esophagus would be too large to be digested if your small intestine were placed before your stoma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29000" y="3048120"/>
            <a:ext cx="20876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es the energy your cells need come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3733920" y="3200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your cells need come from nutr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2087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art of the digestive system do wastes leave your bo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3886200" y="3352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148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7">
                <a:moveTo>
                  <a:pt x="11905" y="14285"/>
                </a:moveTo>
                <a:lnTo>
                  <a:pt x="11905" y="12327"/>
                </a:lnTo>
                <a:cubicBezTo>
                  <a:pt x="11905" y="11500"/>
                  <a:pt x="12236" y="10804"/>
                  <a:pt x="12837" y="10804"/>
                </a:cubicBezTo>
                <a:cubicBezTo>
                  <a:pt x="13968" y="10804"/>
                  <a:pt x="14865" y="9437"/>
                  <a:pt x="14865" y="7853"/>
                </a:cubicBezTo>
                <a:cubicBezTo>
                  <a:pt x="14865" y="5538"/>
                  <a:pt x="13011" y="3797"/>
                  <a:pt x="10800" y="3797"/>
                </a:cubicBezTo>
                <a:cubicBezTo>
                  <a:pt x="8589" y="3797"/>
                  <a:pt x="6918" y="5538"/>
                  <a:pt x="6918" y="7853"/>
                </a:cubicBezTo>
                <a:lnTo>
                  <a:pt x="8772" y="7853"/>
                </a:lnTo>
                <a:cubicBezTo>
                  <a:pt x="8772" y="6713"/>
                  <a:pt x="9695" y="5825"/>
                  <a:pt x="10800" y="5825"/>
                </a:cubicBezTo>
                <a:cubicBezTo>
                  <a:pt x="11905" y="5825"/>
                  <a:pt x="12837" y="6713"/>
                  <a:pt x="12837" y="7853"/>
                </a:cubicBezTo>
                <a:cubicBezTo>
                  <a:pt x="12837" y="8593"/>
                  <a:pt x="12367" y="9324"/>
                  <a:pt x="11905" y="9324"/>
                </a:cubicBezTo>
                <a:cubicBezTo>
                  <a:pt x="10800" y="9324"/>
                  <a:pt x="9695" y="10804"/>
                  <a:pt x="9695" y="12327"/>
                </a:cubicBezTo>
                <a:lnTo>
                  <a:pt x="9695" y="142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s leave your body through the large intest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2087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ir sacs inside your lungs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3809880" y="3352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gas that your body makes and then gets rid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4267080" y="3581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Dioxide is a gas your body makes and then gets rid 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20876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blood cells help you fight ill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342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7" h="21600">
                <a:moveTo>
                  <a:pt x="11909" y="14281"/>
                </a:moveTo>
                <a:lnTo>
                  <a:pt x="11909" y="12323"/>
                </a:lnTo>
                <a:cubicBezTo>
                  <a:pt x="11909" y="11496"/>
                  <a:pt x="12240" y="10800"/>
                  <a:pt x="12840" y="10800"/>
                </a:cubicBezTo>
                <a:cubicBezTo>
                  <a:pt x="13972" y="10800"/>
                  <a:pt x="14868" y="9434"/>
                  <a:pt x="14868" y="7849"/>
                </a:cubicBezTo>
                <a:cubicBezTo>
                  <a:pt x="14868" y="5534"/>
                  <a:pt x="13014" y="3794"/>
                  <a:pt x="10804" y="3794"/>
                </a:cubicBezTo>
                <a:cubicBezTo>
                  <a:pt x="8593" y="3794"/>
                  <a:pt x="6922" y="5534"/>
                  <a:pt x="6922" y="7849"/>
                </a:cubicBezTo>
                <a:lnTo>
                  <a:pt x="8776" y="7849"/>
                </a:lnTo>
                <a:cubicBezTo>
                  <a:pt x="8776" y="6709"/>
                  <a:pt x="9698" y="5821"/>
                  <a:pt x="10804" y="5821"/>
                </a:cubicBezTo>
                <a:cubicBezTo>
                  <a:pt x="11909" y="5821"/>
                  <a:pt x="12840" y="6709"/>
                  <a:pt x="12840" y="7849"/>
                </a:cubicBezTo>
                <a:cubicBezTo>
                  <a:pt x="12840" y="8589"/>
                  <a:pt x="12370" y="9320"/>
                  <a:pt x="11909" y="9320"/>
                </a:cubicBezTo>
                <a:cubicBezTo>
                  <a:pt x="10804" y="9320"/>
                  <a:pt x="9698" y="10800"/>
                  <a:pt x="9698" y="12323"/>
                </a:cubicBezTo>
                <a:lnTo>
                  <a:pt x="9698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blood cells help you fight il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22813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blood vessels that carry blood back to your heart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342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7" h="21600">
                <a:moveTo>
                  <a:pt x="11909" y="14281"/>
                </a:moveTo>
                <a:lnTo>
                  <a:pt x="11909" y="12323"/>
                </a:lnTo>
                <a:cubicBezTo>
                  <a:pt x="11909" y="11496"/>
                  <a:pt x="12240" y="10800"/>
                  <a:pt x="12840" y="10800"/>
                </a:cubicBezTo>
                <a:cubicBezTo>
                  <a:pt x="13972" y="10800"/>
                  <a:pt x="14868" y="9434"/>
                  <a:pt x="14868" y="7849"/>
                </a:cubicBezTo>
                <a:cubicBezTo>
                  <a:pt x="14868" y="5534"/>
                  <a:pt x="13014" y="3794"/>
                  <a:pt x="10804" y="3794"/>
                </a:cubicBezTo>
                <a:cubicBezTo>
                  <a:pt x="8593" y="3794"/>
                  <a:pt x="6922" y="5534"/>
                  <a:pt x="6922" y="7849"/>
                </a:cubicBezTo>
                <a:lnTo>
                  <a:pt x="8776" y="7849"/>
                </a:lnTo>
                <a:cubicBezTo>
                  <a:pt x="8776" y="6709"/>
                  <a:pt x="9698" y="5821"/>
                  <a:pt x="10804" y="5821"/>
                </a:cubicBezTo>
                <a:cubicBezTo>
                  <a:pt x="11909" y="5821"/>
                  <a:pt x="12840" y="6709"/>
                  <a:pt x="12840" y="7849"/>
                </a:cubicBezTo>
                <a:cubicBezTo>
                  <a:pt x="12840" y="8589"/>
                  <a:pt x="12370" y="9320"/>
                  <a:pt x="11909" y="9320"/>
                </a:cubicBezTo>
                <a:cubicBezTo>
                  <a:pt x="10804" y="9320"/>
                  <a:pt x="9698" y="10800"/>
                  <a:pt x="9698" y="12323"/>
                </a:cubicBezTo>
                <a:lnTo>
                  <a:pt x="9698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vessels called veins carry blood back to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228132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nects arteries to v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3581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llaries connect arteries and vei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228096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rculatory system brings nutrients to your cells and takes waste from you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809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148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7">
                <a:moveTo>
                  <a:pt x="11905" y="14285"/>
                </a:moveTo>
                <a:lnTo>
                  <a:pt x="11905" y="12327"/>
                </a:lnTo>
                <a:cubicBezTo>
                  <a:pt x="11905" y="11500"/>
                  <a:pt x="12236" y="10804"/>
                  <a:pt x="12837" y="10804"/>
                </a:cubicBezTo>
                <a:cubicBezTo>
                  <a:pt x="13968" y="10804"/>
                  <a:pt x="14865" y="9437"/>
                  <a:pt x="14865" y="7853"/>
                </a:cubicBezTo>
                <a:cubicBezTo>
                  <a:pt x="14865" y="5538"/>
                  <a:pt x="13011" y="3797"/>
                  <a:pt x="10800" y="3797"/>
                </a:cubicBezTo>
                <a:cubicBezTo>
                  <a:pt x="8589" y="3797"/>
                  <a:pt x="6918" y="5538"/>
                  <a:pt x="6918" y="7853"/>
                </a:cubicBezTo>
                <a:lnTo>
                  <a:pt x="8772" y="7853"/>
                </a:lnTo>
                <a:cubicBezTo>
                  <a:pt x="8772" y="6713"/>
                  <a:pt x="9695" y="5825"/>
                  <a:pt x="10800" y="5825"/>
                </a:cubicBezTo>
                <a:cubicBezTo>
                  <a:pt x="11905" y="5825"/>
                  <a:pt x="12837" y="6713"/>
                  <a:pt x="12837" y="7853"/>
                </a:cubicBezTo>
                <a:cubicBezTo>
                  <a:pt x="12837" y="8593"/>
                  <a:pt x="12367" y="9324"/>
                  <a:pt x="11905" y="9324"/>
                </a:cubicBezTo>
                <a:cubicBezTo>
                  <a:pt x="10800" y="9324"/>
                  <a:pt x="9695" y="10804"/>
                  <a:pt x="9695" y="12327"/>
                </a:cubicBezTo>
                <a:lnTo>
                  <a:pt x="9695" y="142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! The circulatory system does all of that and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76720" y="2819520"/>
            <a:ext cx="22809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sacs inside your lungs are called alveo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296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e circulatory system and the digestive system conne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3733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llaries carry nutrients from the digestive system to all cell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29000" y="2819520"/>
            <a:ext cx="22813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ing Healt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Harcourt Brace &amp; Company, 19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ce Clip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861840" cy="873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429000" y="3809880"/>
            <a:ext cx="186696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you breathe in moves through the trach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3962520" y="3657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! Air you breathe always passes through the trach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19520" y="2819520"/>
            <a:ext cx="2965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is a waste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3733920" y="3657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.  Oxygen is not a waste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2965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 group of organs working together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3809880" y="3733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7" h="21600">
                <a:moveTo>
                  <a:pt x="11909" y="14281"/>
                </a:moveTo>
                <a:lnTo>
                  <a:pt x="11909" y="12323"/>
                </a:lnTo>
                <a:cubicBezTo>
                  <a:pt x="11909" y="11496"/>
                  <a:pt x="12240" y="10800"/>
                  <a:pt x="12840" y="10800"/>
                </a:cubicBezTo>
                <a:cubicBezTo>
                  <a:pt x="13972" y="10800"/>
                  <a:pt x="14868" y="9434"/>
                  <a:pt x="14868" y="7849"/>
                </a:cubicBezTo>
                <a:cubicBezTo>
                  <a:pt x="14868" y="5534"/>
                  <a:pt x="13014" y="3794"/>
                  <a:pt x="10804" y="3794"/>
                </a:cubicBezTo>
                <a:cubicBezTo>
                  <a:pt x="8593" y="3794"/>
                  <a:pt x="6922" y="5534"/>
                  <a:pt x="6922" y="7849"/>
                </a:cubicBezTo>
                <a:lnTo>
                  <a:pt x="8776" y="7849"/>
                </a:lnTo>
                <a:cubicBezTo>
                  <a:pt x="8776" y="6709"/>
                  <a:pt x="9698" y="5821"/>
                  <a:pt x="10804" y="5821"/>
                </a:cubicBezTo>
                <a:cubicBezTo>
                  <a:pt x="11909" y="5821"/>
                  <a:pt x="12840" y="6709"/>
                  <a:pt x="12840" y="7849"/>
                </a:cubicBezTo>
                <a:cubicBezTo>
                  <a:pt x="12840" y="8589"/>
                  <a:pt x="12370" y="9320"/>
                  <a:pt x="11909" y="9320"/>
                </a:cubicBezTo>
                <a:cubicBezTo>
                  <a:pt x="10804" y="9320"/>
                  <a:pt x="9698" y="10800"/>
                  <a:pt x="9698" y="12323"/>
                </a:cubicBezTo>
                <a:lnTo>
                  <a:pt x="9698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organs working together are called a body syst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2965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3:16:57Z</dcterms:created>
  <dc:creator>Lab User</dc:creator>
  <dc:description/>
  <dc:language>en-US</dc:language>
  <cp:lastModifiedBy>asd</cp:lastModifiedBy>
  <dcterms:modified xsi:type="dcterms:W3CDTF">2010-05-03T21:44:53Z</dcterms:modified>
  <cp:revision>34</cp:revision>
  <dc:subject/>
  <dc:title>The Human Body</dc:title>
</cp:coreProperties>
</file>