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9D5-DDFF-45A5-9255-8957809D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26F-BC4F-4AAF-BCE6-CD42BE8F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7B2-5EF4-48C3-9BA0-EC70292A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28D-61B9-4463-8ACD-4DB608E0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732-AA5D-430B-8717-6A6E986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C84-D1A3-4166-A6B4-AAECF833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EC2-A921-4F85-878F-43399F7B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5C9-1035-4216-8C62-CDD49A93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82B-47B0-4542-87DC-CFE7665C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630-DF63-4BBD-8173-54D412E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FD2-D4D8-421F-AB2C-418487E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058-4A8B-4E59-8056-115C867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FC16-CB6B-4EAA-BCF7-055CE5FD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Body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16002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16002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4382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24382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2767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32767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11480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11480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95288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95288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79132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791320"/>
            <a:ext cx="13716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5815080"/>
            <a:ext cx="1523880" cy="73800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44590" h="21600">
                <a:moveTo>
                  <a:pt x="0" y="0"/>
                </a:moveTo>
                <a:lnTo>
                  <a:pt x="44590" y="0"/>
                </a:lnTo>
                <a:lnTo>
                  <a:pt x="44590" y="21600"/>
                </a:lnTo>
                <a:lnTo>
                  <a:pt x="0" y="21600"/>
                </a:lnTo>
                <a:close/>
              </a:path>
              <a:path fill="lightenLess" w="44590" h="21600">
                <a:moveTo>
                  <a:pt x="0" y="0"/>
                </a:moveTo>
                <a:lnTo>
                  <a:pt x="44590" y="0"/>
                </a:lnTo>
                <a:lnTo>
                  <a:pt x="43190" y="1400"/>
                </a:lnTo>
                <a:lnTo>
                  <a:pt x="1400" y="1400"/>
                </a:lnTo>
                <a:close/>
              </a:path>
              <a:path fill="darken" w="44590" h="21600">
                <a:moveTo>
                  <a:pt x="44590" y="0"/>
                </a:moveTo>
                <a:lnTo>
                  <a:pt x="44590" y="21600"/>
                </a:lnTo>
                <a:lnTo>
                  <a:pt x="43190" y="20200"/>
                </a:lnTo>
                <a:lnTo>
                  <a:pt x="43190" y="1400"/>
                </a:lnTo>
                <a:close/>
              </a:path>
              <a:path fill="darkenLess" w="44590" h="21600">
                <a:moveTo>
                  <a:pt x="44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90" y="20200"/>
                </a:lnTo>
                <a:close/>
              </a:path>
              <a:path fill="lighten" w="44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09480" y="2438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0948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609480" y="4114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609480" y="4952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609480" y="579132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7" action="ppaction://hlinksldjump"/>
          </p:cNvPr>
          <p:cNvSpPr/>
          <p:nvPr/>
        </p:nvSpPr>
        <p:spPr>
          <a:xfrm>
            <a:off x="3657600" y="23623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8" action="ppaction://hlinksldjump"/>
          </p:cNvPr>
          <p:cNvSpPr/>
          <p:nvPr/>
        </p:nvSpPr>
        <p:spPr>
          <a:xfrm>
            <a:off x="3657600" y="3276720"/>
            <a:ext cx="1447920" cy="76176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9647" y="1400"/>
                </a:lnTo>
                <a:lnTo>
                  <a:pt x="1400" y="140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9647" y="20200"/>
                </a:lnTo>
                <a:lnTo>
                  <a:pt x="39647" y="140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47" y="2020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9" action="ppaction://hlinksldjump"/>
          </p:cNvPr>
          <p:cNvSpPr/>
          <p:nvPr/>
        </p:nvSpPr>
        <p:spPr>
          <a:xfrm>
            <a:off x="3657600" y="411480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0" action="ppaction://hlinksldjump"/>
          </p:cNvPr>
          <p:cNvSpPr/>
          <p:nvPr/>
        </p:nvSpPr>
        <p:spPr>
          <a:xfrm>
            <a:off x="3657600" y="4952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1" action="ppaction://hlinksldjump"/>
          </p:cNvPr>
          <p:cNvSpPr/>
          <p:nvPr/>
        </p:nvSpPr>
        <p:spPr>
          <a:xfrm>
            <a:off x="3657600" y="5815080"/>
            <a:ext cx="1447920" cy="662040"/>
          </a:xfrm>
          <a:custGeom>
            <a:avLst/>
            <a:gdLst>
              <a:gd name="textAreaLeft" fmla="*/ 42840 w 1447920"/>
              <a:gd name="textAreaRight" fmla="*/ 1405080 w 1447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7227" h="21600">
                <a:moveTo>
                  <a:pt x="0" y="0"/>
                </a:moveTo>
                <a:lnTo>
                  <a:pt x="47227" y="0"/>
                </a:lnTo>
                <a:lnTo>
                  <a:pt x="47227" y="21600"/>
                </a:lnTo>
                <a:lnTo>
                  <a:pt x="0" y="21600"/>
                </a:lnTo>
                <a:close/>
              </a:path>
              <a:path fill="lightenLess" w="47227" h="21600">
                <a:moveTo>
                  <a:pt x="0" y="0"/>
                </a:moveTo>
                <a:lnTo>
                  <a:pt x="47227" y="0"/>
                </a:lnTo>
                <a:lnTo>
                  <a:pt x="45827" y="1400"/>
                </a:lnTo>
                <a:lnTo>
                  <a:pt x="1400" y="1400"/>
                </a:lnTo>
                <a:close/>
              </a:path>
              <a:path fill="darken" w="47227" h="21600">
                <a:moveTo>
                  <a:pt x="47227" y="0"/>
                </a:moveTo>
                <a:lnTo>
                  <a:pt x="47227" y="21600"/>
                </a:lnTo>
                <a:lnTo>
                  <a:pt x="45827" y="20200"/>
                </a:lnTo>
                <a:lnTo>
                  <a:pt x="45827" y="1400"/>
                </a:lnTo>
                <a:close/>
              </a:path>
              <a:path fill="darkenLess" w="47227" h="21600">
                <a:moveTo>
                  <a:pt x="47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27" y="20200"/>
                </a:lnTo>
                <a:close/>
              </a:path>
              <a:path fill="lighten" w="47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4382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2004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41148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495288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581508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lveoli conta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Your alveoli do contain capilla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part of the digestive system: small intestine, stomach, esophagus, or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37339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rachea is not part of the digestive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your small intestine were placed before your stom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rom the esophagus would be too large to be digested if your small intestine were placed before your stom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e energy your cells need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3733920" y="3200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your cells need come from nutr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digestive system do wastes leave your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3886200" y="3352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leave your body through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87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 sacs inside your lungs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3809880" y="3352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gas that your body makes and then gets rid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Dioxide is a gas your body makes and then gets rid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087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lood cells help you fight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lood cells help you fight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lood vessels that carry blood back to your hear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42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vessels called veins carry blood back to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2813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nects arteries to v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onnect arteries and ve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2809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rculatory system brings nutrients to your cells and takes waste from you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The circulatory system does all of that 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28096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acs inside your lungs are called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296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tory 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 circulatory system and the digestive system conn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carry nutrients from the digestive system to all cel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81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ing Heal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Harcourt Brace &amp; Company, 1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861840" cy="873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186696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you breathe in mov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39625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 Air you breathe always passes through the trac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i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3733920" y="3657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.  Oxygen is not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 group of organs working together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3809880" y="3733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7" h="21600">
                <a:moveTo>
                  <a:pt x="11909" y="14281"/>
                </a:moveTo>
                <a:lnTo>
                  <a:pt x="11909" y="12323"/>
                </a:lnTo>
                <a:cubicBezTo>
                  <a:pt x="11909" y="11496"/>
                  <a:pt x="12240" y="10800"/>
                  <a:pt x="12840" y="10800"/>
                </a:cubicBezTo>
                <a:cubicBezTo>
                  <a:pt x="13972" y="10800"/>
                  <a:pt x="14868" y="9434"/>
                  <a:pt x="14868" y="7849"/>
                </a:cubicBezTo>
                <a:cubicBezTo>
                  <a:pt x="14868" y="5534"/>
                  <a:pt x="13014" y="3794"/>
                  <a:pt x="10804" y="3794"/>
                </a:cubicBezTo>
                <a:cubicBezTo>
                  <a:pt x="8593" y="3794"/>
                  <a:pt x="6922" y="5534"/>
                  <a:pt x="6922" y="7849"/>
                </a:cubicBezTo>
                <a:lnTo>
                  <a:pt x="8776" y="7849"/>
                </a:lnTo>
                <a:cubicBezTo>
                  <a:pt x="8776" y="6709"/>
                  <a:pt x="9698" y="5821"/>
                  <a:pt x="10804" y="5821"/>
                </a:cubicBezTo>
                <a:cubicBezTo>
                  <a:pt x="11909" y="5821"/>
                  <a:pt x="12840" y="6709"/>
                  <a:pt x="12840" y="7849"/>
                </a:cubicBezTo>
                <a:cubicBezTo>
                  <a:pt x="12840" y="8589"/>
                  <a:pt x="12370" y="9320"/>
                  <a:pt x="11909" y="9320"/>
                </a:cubicBezTo>
                <a:cubicBezTo>
                  <a:pt x="10804" y="9320"/>
                  <a:pt x="9698" y="10800"/>
                  <a:pt x="9698" y="12323"/>
                </a:cubicBezTo>
                <a:lnTo>
                  <a:pt x="9698" y="1428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Poi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organs working together are called a body syst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3:16:57Z</dcterms:created>
  <dc:creator>Lab User</dc:creator>
  <dc:description/>
  <dc:language>en-US</dc:language>
  <cp:lastModifiedBy>asd</cp:lastModifiedBy>
  <dcterms:modified xsi:type="dcterms:W3CDTF">2010-05-03T21:44:53Z</dcterms:modified>
  <cp:revision>34</cp:revision>
  <dc:subject/>
  <dc:title>The Human Body</dc:title>
</cp:coreProperties>
</file>