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9388475" cy="7102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388800" cy="71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68720" cy="355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5318280" y="0"/>
            <a:ext cx="4068720" cy="355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2918880" y="533160"/>
            <a:ext cx="3549960" cy="266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37800" y="3373560"/>
            <a:ext cx="7512120" cy="31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6746760"/>
            <a:ext cx="4068720" cy="35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5318280" y="6746760"/>
            <a:ext cx="4068720" cy="35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56FA-A1E0-4078-99DC-005357A72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919240" y="533520"/>
            <a:ext cx="3549960" cy="2662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7800" y="3373560"/>
            <a:ext cx="75121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5318280" y="6746760"/>
            <a:ext cx="40687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7C13-6C65-444C-AE2F-CC25F139BB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86D-E3D3-4F25-BECB-73E77CCC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D66-1F80-440A-B06B-80B637B5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916-F499-4A85-B055-AA60E10D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E41-68DA-445B-913E-72045294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13AC-0A4E-45CC-A22B-4D492B07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2E74-924D-4D7C-9350-822BF01C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CD15-D3BE-4B9D-B30C-98155E1F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FCEB-65C9-42C7-A33C-E2AB4216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F9C-4B75-4678-A7BC-95402FC5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00F8-4837-4547-9D88-2DA04050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23F8-01B5-430B-8D99-06CB7EBA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DFB-B3E9-4AC0-B5CD-C2296B30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CCE0-2B1D-4CEC-AE72-0327A085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3EF7-3354-421A-967E-DB63EB62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55B9-2C95-4EEA-9070-E9ED2E14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BD09-1551-4E0F-AA94-3AB5D045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1931-7CBB-4E5E-BC63-40FBD45D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2C4C-2334-4BE7-8A56-80054CAE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74F9-A22C-412C-A095-9AB06312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4644F-5734-497C-9B7D-24366F6E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D9A1-9EA1-4875-A810-487D365B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2136-07FF-4508-B176-616B1D9A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55F-1DB1-4211-AE36-3CC44E31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945C3-F49C-4E20-B037-724B43C5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88DD3-C588-4010-A300-D4B523B7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C460-7CC6-459A-9C44-27554C4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B3EF-00E7-47A3-9CCE-544C8A9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200D-D217-4A0C-BDBA-DD517496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51E4-3A66-45E3-A143-CE5662ED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41BE-AFE7-4A4C-9539-EDF09688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42CBD-5AE8-4317-8022-FB89F027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C8C0-18A0-415E-802E-92A30C8E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72EA2-ADE2-476A-9434-E35D6EF4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920-72B2-48E1-BC72-97D1DB69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4DF26-728F-4CE8-86DC-02F95C65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5432A-C31D-4923-B24C-F3DB44D8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B4039-85F3-4302-BE62-04D5ED8B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295F4-AD71-448D-9623-5DA62EEE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2E7E-F885-4594-BAAA-F55FC945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D29BA-FF29-4A09-9C95-961E4347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FDF3D-1F71-434A-8C07-AD721BF5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8AC9-36F9-4DC9-9920-3893E3C3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6CB21-6654-4A43-9071-2FF8C502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5CC-6B17-41E6-A403-784CCBE1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1C4-4000-4830-A1A4-AD975ABB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17F-C815-42FC-9E4A-E1D0DDF3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F7A-68A3-49CD-A417-979CD74E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11D-D5BF-481B-974D-D5DB77E7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CD4C-CC6B-491B-B3A3-9494A22C568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AFA7-7A26-4A90-9892-B08EAB7D594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8971-3B8E-4B99-9D43-CF026C0F6D8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584E-BEB5-4355-BCF1-92578B9FD83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14400" y="304920"/>
            <a:ext cx="777240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Alien Classificatio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84" name="Picture 2" descr="C:\Users\Liz\AppData\Local\Microsoft\Windows\Temporary Internet Files\Content.IE5\1ME2ZQVV\MCj00835690000[1].wmf"/>
          <p:cNvPicPr/>
          <p:nvPr/>
        </p:nvPicPr>
        <p:blipFill>
          <a:blip r:embed="rId1"/>
          <a:stretch/>
        </p:blipFill>
        <p:spPr>
          <a:xfrm>
            <a:off x="2590920" y="2182680"/>
            <a:ext cx="3809880" cy="3456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5760" y="101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cide as a Grou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fter you have completed your two groups, split each group into two new group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oose </a:t>
            </a:r>
            <a:r>
              <a:rPr b="0" lang="en-US" sz="2200" spc="-1" strike="noStrike">
                <a:solidFill>
                  <a:srgbClr val="b2e389"/>
                </a:solidFill>
                <a:latin typeface="Corbel"/>
              </a:rPr>
              <a:t>one characteristic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to separate the first group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oose </a:t>
            </a:r>
            <a:r>
              <a:rPr b="0" lang="en-US" sz="2200" spc="-1" strike="noStrike">
                <a:solidFill>
                  <a:srgbClr val="b2e389"/>
                </a:solidFill>
                <a:latin typeface="Corbel"/>
              </a:rPr>
              <a:t>one characteristic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 separate the second group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You should have 4 groups when completed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ntinue splitting each group until you can no longer split them into new categories anymore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736560" y="1795320"/>
            <a:ext cx="34956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Oh NO! I forgot about these aliens!  Where do they go?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886720" cy="40068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457200" y="5943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eeff"/>
                </a:solidFill>
                <a:latin typeface="Consolas"/>
              </a:rPr>
              <a:t>Can you tell me where you would put them in your classification scheme? Start from the beginning of your ch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04920" y="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Discuss classification for a few minutes and ask students for example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sk students for ways to tell the aliens apart, introduce the word characteristic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nd out the alien card set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you have talked about what their challenge will b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ve the students do their first sort and walk around the classroom and check on each table.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ke sure that the categories they have are very clear and specific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en they are ready, ask for what categories they used.  Each group may have something different and that’s OK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actice  writing the data into the chart, make sure they understand what they have to do with their information and the alien card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Let the students continue to classify their aliens and monitor each group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en they are done, ask students for some sample categorie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hoose one of the aliens randomly from the set and ask each group how they classified that alien from start to finish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troduce the aliens you “forgot” and give them a few minutes to figure out how to classify them.  Did they fit? Any problems? Etc…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ve each group clean up by placing the aliens back into the baggies and then thank them  for a great class!  The kids really were engaged in this lesson plan, it was great!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58752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f a new planet was discovered that had life on it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you be able to figure out what known creatures these alien life forms might be related to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uld you look for to compare? How would you organize these different living thing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87520"/>
            <a:ext cx="800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ientists who study living things organize them into categories based on their relationship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classification systems were based simply on how things look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scientists focus on genetics, cellular make-up and other more specific things when they classify creat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0"/>
            <a:ext cx="4876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it's the year 2525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t similar to Earth has recently been found in a newly identified solar system in another galax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sent a space probe with a molecular transport beam to this planet to beam back a variety of different living creatur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1960" y="2057400"/>
            <a:ext cx="3060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7520"/>
            <a:ext cx="8001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sts examine the structure of each of these creatures and realize that they need to create a classification scheme to help them compare the alien life forms to each other and discover how they might be rel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ad scientist sends you illustrations of the organisms and asks you to help develop this classification 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role is to study the illustrations and come up with a possible classification scheme based on the information provided about each organis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639720" y="1328760"/>
            <a:ext cx="3865680" cy="4962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754520" y="1328760"/>
            <a:ext cx="3895920" cy="50785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914400" y="6094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can we tell these aliens apa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Georgia"/>
              </a:rPr>
              <a:t>We can classify the aliens by their characteristics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199" name="Content Placeholder 5" descr=""/>
          <p:cNvPicPr/>
          <p:nvPr/>
        </p:nvPicPr>
        <p:blipFill>
          <a:blip r:embed="rId1"/>
          <a:stretch/>
        </p:blipFill>
        <p:spPr>
          <a:xfrm>
            <a:off x="4651200" y="1682640"/>
            <a:ext cx="4048200" cy="4632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930240" y="2014560"/>
            <a:ext cx="3108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Your Challe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Your group will be given 20 aliens to classify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hoose </a:t>
            </a:r>
            <a:r>
              <a:rPr b="0" lang="en-US" sz="2600" spc="-1" strike="noStrike">
                <a:solidFill>
                  <a:srgbClr val="b2e389"/>
                </a:solidFill>
                <a:latin typeface="Corbel"/>
              </a:rPr>
              <a:t>one general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haracteristic to categorize your aliens into two large groups. Ex: has ‘abc’ and does not have ‘abc’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roups do </a:t>
            </a:r>
            <a:r>
              <a:rPr b="1" lang="en-US" sz="2600" spc="-1" strike="noStrike">
                <a:solidFill>
                  <a:srgbClr val="b2e389"/>
                </a:solidFill>
                <a:latin typeface="Corbel"/>
              </a:rPr>
              <a:t>not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ave to have the same number of aliens in each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cord your info on the chart provid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572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4"/>
          <p:cNvGraphicFramePr/>
          <p:nvPr/>
        </p:nvGraphicFramePr>
        <p:xfrm>
          <a:off x="800280" y="514440"/>
          <a:ext cx="7543800" cy="58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514440"/>
                    <a:ext cx="75438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8:47:50Z</dcterms:created>
  <dc:creator>Liz</dc:creator>
  <dc:description/>
  <dc:language>en-US</dc:language>
  <cp:lastModifiedBy>hms</cp:lastModifiedBy>
  <dcterms:modified xsi:type="dcterms:W3CDTF">2010-03-17T03:25:10Z</dcterms:modified>
  <cp:revision>35</cp:revision>
  <dc:subject/>
  <dc:title>Slide 1</dc:title>
</cp:coreProperties>
</file>