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9388475" cy="7102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388800" cy="71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68720" cy="355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5318280" y="0"/>
            <a:ext cx="4068720" cy="355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2918880" y="533160"/>
            <a:ext cx="3549960" cy="266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37800" y="3373560"/>
            <a:ext cx="7512120" cy="3195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6746760"/>
            <a:ext cx="4068720" cy="35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5318280" y="6746760"/>
            <a:ext cx="4068720" cy="35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A999-45E9-48DB-9C85-6E579B094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919240" y="533520"/>
            <a:ext cx="3549960" cy="2662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7800" y="3373560"/>
            <a:ext cx="75121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5318280" y="6746760"/>
            <a:ext cx="40687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0A9E-F386-4295-BC1D-72DD3E94B9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70C-FA1F-4771-AB7E-75BDBF41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AB2-455F-4582-A64B-F7BD8B3D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DF9-185C-419F-9499-E8F25112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2B9-57DB-4340-991A-78025228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CC2F-82CE-42E0-AAA5-31AAC9A6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B32E-8016-42A2-B506-12C6D532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B83E-67B8-46F5-B970-3083B57F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AB6D-2893-4D11-9573-AAAC8540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4BC7-54A4-4789-A326-A82FCFB2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F019-560D-4C2D-9930-659EF02C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2802-A593-49B2-882F-7D3E9A21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A6A-B5E9-48F0-BE33-7DB4D712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6457-B4A5-47C9-840B-1A161492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95CB-534A-4556-924E-CC4D496A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EEC1-D620-4216-A647-D05AA31D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B918-D434-41C9-91AA-B2F4A04B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0AB9-B0FB-4B06-9610-7C36017D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5A12-2092-41EA-9D0C-F0A13E5E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EE7D5-E48B-4204-92CF-E756CF49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C9DFD-0A38-4B32-A7D1-04E33147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A02EE-99AF-4BC7-87A1-301CD16D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E97C-26B4-4C6F-B006-5AD1BFC9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50E-ADA8-4346-B133-0B042E73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91D68-8643-4A2E-9C1A-0E9EBDAC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B742E-BACD-4369-916C-2BF5E86F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78BB0-F102-4DD9-B154-8AB06210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71E43-E1C5-4636-85DA-539BA471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93AF2-78B7-47C1-BF0D-31BBE2A4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37A8-4DEC-4059-AF24-8FAF3CBE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AA63-3879-4B74-A0E3-2A632E36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359F1-6F17-4B60-B711-BEC8103F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34A8A-A298-4713-AAB2-0C35C1A9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84023-3729-4D64-BDD5-CFC36F29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583-373F-418B-B147-1A7CED62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DFB1E-80BA-4867-A47D-94840E00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DDCF9-C49B-4C54-836B-479715A5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C4C88-EBA2-444A-8BD9-7CC7A256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EC2DA-EAA8-4D15-9BAB-DC1D4BCD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C28A3-2B91-49EC-BA6A-9265C1D9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E1DCE-9185-4450-B6E0-91C095CD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D6DC5-62A4-4712-90C9-11E62479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0267F-4586-4708-A45C-07D2668E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DF164-E474-4070-822D-5385FB88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512-F647-4D28-BF3E-8480A81C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0F3-D191-4C7D-B283-54D9BDEF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ABF-40A6-4DD2-A847-C9FAC05A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886-E3B1-4E2A-902E-A47485A7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10E-6E04-45F1-833E-FBD5250F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E5D6-A89A-4E6A-8A19-FCA70C85C6C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0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04A4-7E77-4A84-94BA-5CB00A705E6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9B46-68FB-4ABC-A870-88335A3D7FD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4B1C-AA34-4D9A-B032-4A156A8CFD3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14400" y="304920"/>
            <a:ext cx="777240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Alien Classification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84" name="Picture 2" descr="C:\Users\Liz\AppData\Local\Microsoft\Windows\Temporary Internet Files\Content.IE5\1ME2ZQVV\MCj00835690000[1].wmf"/>
          <p:cNvPicPr/>
          <p:nvPr/>
        </p:nvPicPr>
        <p:blipFill>
          <a:blip r:embed="rId1"/>
          <a:stretch/>
        </p:blipFill>
        <p:spPr>
          <a:xfrm>
            <a:off x="2590920" y="2182680"/>
            <a:ext cx="3809880" cy="3456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85760" y="101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cide as a Grou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fter you have completed your two groups, split each group into two new group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oose </a:t>
            </a:r>
            <a:r>
              <a:rPr b="0" lang="en-US" sz="2200" spc="-1" strike="noStrike">
                <a:solidFill>
                  <a:srgbClr val="b2e389"/>
                </a:solidFill>
                <a:latin typeface="Corbel"/>
              </a:rPr>
              <a:t>one characteristic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to separate the first group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oose </a:t>
            </a:r>
            <a:r>
              <a:rPr b="0" lang="en-US" sz="2200" spc="-1" strike="noStrike">
                <a:solidFill>
                  <a:srgbClr val="b2e389"/>
                </a:solidFill>
                <a:latin typeface="Corbel"/>
              </a:rPr>
              <a:t>one characteristic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o separate the second group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You should have 4 groups when completed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ontinue splitting each group until you can no longer split them into new categories anymore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736560" y="1795320"/>
            <a:ext cx="34956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Oh NO! I forgot about these aliens!  Where do they go?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886720" cy="40068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7"/>
          <p:cNvSpPr/>
          <p:nvPr/>
        </p:nvSpPr>
        <p:spPr>
          <a:xfrm>
            <a:off x="457200" y="59436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eeff"/>
                </a:solidFill>
                <a:latin typeface="Consolas"/>
              </a:rPr>
              <a:t>Can you tell me where you would put them in your classification scheme? Start from the beginning of your ch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04920" y="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Discuss classification for a few minutes and ask students for example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sk students for ways to tell the aliens apart, introduce the word characteristic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nd out the alien card set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you have talked about what their challenge will be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ve the students do their first sort and walk around the classroom and check on each table.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ake sure that the categories they have are very clear and specific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hen they are ready, ask for what categories they used.  Each group may have something different and that’s OK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actice  writing the data into the chart, make sure they understand what they have to do with their information and the alien card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Let the students continue to classify their aliens and monitor each group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hen they are done, ask students for some sample categorie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hoose one of the aliens randomly from the set and ask each group how they classified that alien from start to finish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ntroduce the aliens you “forgot” and give them a few minutes to figure out how to classify them.  Did they fit? Any problems? Etc…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ve each group clean up by placing the aliens back into the baggies and then thank them  for a great class!  The kids really were engaged in this lesson plan, it was great!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460600" y="250812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58752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f a new planet was discovered that had life on it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uld you be able to figure out what known creatures these alien life forms might be related to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uld you look for to compare? How would you organize these different living things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460600" y="250812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87520"/>
            <a:ext cx="8001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ientists who study living things organize them into categories based on their relationship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ly classification systems were based simply on how things look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scientists focus on genetics, cellular make-up and other more specific things when they classify creat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60600" y="250812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0"/>
            <a:ext cx="4876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it's the year 2525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et similar to Earth has recently been found in a newly identified solar system in another galax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sent a space probe with a molecular transport beam to this planet to beam back a variety of different living creatur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91960" y="2057400"/>
            <a:ext cx="3060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460600" y="250812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7520"/>
            <a:ext cx="8001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sts examine the structure of each of these creatures and realize that they need to create a classification scheme to help them compare the alien life forms to each other and discover how they might be rel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ad scientist sends you illustrations of the organisms and asks you to help develop this classification syst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role is to study the illustrations and come up with a possible classification scheme based on the information provided about each organis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639720" y="1328760"/>
            <a:ext cx="3865680" cy="4962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4754520" y="1328760"/>
            <a:ext cx="3895920" cy="50785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6"/>
          <p:cNvSpPr/>
          <p:nvPr/>
        </p:nvSpPr>
        <p:spPr>
          <a:xfrm>
            <a:off x="914400" y="6094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ow can we tell these aliens apa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Georgia"/>
              </a:rPr>
              <a:t>We can classify the aliens by their characteristics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199" name="Content Placeholder 5" descr=""/>
          <p:cNvPicPr/>
          <p:nvPr/>
        </p:nvPicPr>
        <p:blipFill>
          <a:blip r:embed="rId1"/>
          <a:stretch/>
        </p:blipFill>
        <p:spPr>
          <a:xfrm>
            <a:off x="4651200" y="1682640"/>
            <a:ext cx="4048200" cy="4632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930240" y="2014560"/>
            <a:ext cx="3108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Your Challen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Your group will be given 20 aliens to classify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hoose </a:t>
            </a:r>
            <a:r>
              <a:rPr b="0" lang="en-US" sz="2600" spc="-1" strike="noStrike">
                <a:solidFill>
                  <a:srgbClr val="b2e389"/>
                </a:solidFill>
                <a:latin typeface="Corbel"/>
              </a:rPr>
              <a:t>one general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haracteristic to categorize your aliens into two large groups. Ex: has ‘abc’ and does not have ‘abc’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roups do </a:t>
            </a:r>
            <a:r>
              <a:rPr b="1" lang="en-US" sz="2600" spc="-1" strike="noStrike">
                <a:solidFill>
                  <a:srgbClr val="b2e389"/>
                </a:solidFill>
                <a:latin typeface="Corbel"/>
              </a:rPr>
              <a:t>not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ave to have the same number of aliens in each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cord your info on the chart provid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2572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4"/>
          <p:cNvGraphicFramePr/>
          <p:nvPr/>
        </p:nvGraphicFramePr>
        <p:xfrm>
          <a:off x="800280" y="514440"/>
          <a:ext cx="7543800" cy="58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514440"/>
                    <a:ext cx="754380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8:47:50Z</dcterms:created>
  <dc:creator>Liz</dc:creator>
  <dc:description/>
  <dc:language>en-US</dc:language>
  <cp:lastModifiedBy>hms</cp:lastModifiedBy>
  <dcterms:modified xsi:type="dcterms:W3CDTF">2010-03-17T03:25:10Z</dcterms:modified>
  <cp:revision>35</cp:revision>
  <dc:subject/>
  <dc:title>Slide 1</dc:title>
</cp:coreProperties>
</file>