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9388475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388800" cy="71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68720" cy="355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5318280" y="0"/>
            <a:ext cx="4068720" cy="355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2918880" y="533160"/>
            <a:ext cx="3549960" cy="266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37800" y="3373560"/>
            <a:ext cx="7512120" cy="3195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531828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8012-0798-4723-A5D5-5E0B01574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919240" y="533520"/>
            <a:ext cx="3549960" cy="2662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7800" y="3373560"/>
            <a:ext cx="75121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318280" y="6746760"/>
            <a:ext cx="40687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5C05-DBC8-467A-8821-EC24F72DCE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D9D-3996-4493-8541-C94B4DAC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D47-8DDF-4C62-808A-2CFD73FB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35F-98BF-488C-A529-99BF8AF0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C28-612C-4EA0-90CA-A6888033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F522-D218-4F03-9734-29F6CC04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C51-7A38-40C8-9044-2D5CDBD5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CAE8-4C21-401D-80B6-A389EFAC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2D4F-9B07-41F4-8755-5A6E61B6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DEEC-DA14-4547-9FE0-EB7E9A27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4553-2566-4DD5-BC1D-BFC5219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090A-9C27-4F53-9A9A-57E0972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C4A-8EDE-418B-A0D0-959A9D1B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0AD4-E243-448E-8DC7-F7000B94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DD39-C80E-47F6-B9D4-BCE645F1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4535-C469-4AB1-8CF0-B499B416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BF7C-AAD7-4F58-B7B9-D95682F1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E841-1848-441C-8563-5C766B00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9393-0546-495A-9FA4-7EA0F9EA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B1DC-2F38-43C5-8EA7-1436AAEC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A409-9E34-4815-ADA2-A5F946CB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10320-138C-4291-9CCE-F8A0132D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BB3F-DAD6-49CF-A2DB-92B35B29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92C-82EE-4A57-A383-3F1CEAD4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71A4-FCB1-4BA5-B17D-66421C39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583E-7D1D-4362-AB9A-22C82BAC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5A19-634F-408D-8498-51EE67F6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4115-796B-4297-AD0A-FEBD7330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2292-77CC-4693-B5EE-7E5BEF47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B46D-AA2B-4507-B25E-B47B3F2D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AE0D-DA66-4C8E-AAC0-49A5716C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4571-667D-4F4C-A15F-7640B2E4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9B7B7-81D5-4E11-B801-52B67DC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83AB3-2A15-4887-996C-3A27FB58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047-BBC6-4EE6-B8EF-D92D541A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440B-EF8E-4A23-8BA8-A44742BA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00375-6DAB-4156-B7A9-135120FB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4E05-D3A4-4A43-9C7C-D807AAA8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008D-3CB2-432F-90D1-C9C7EE5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FF01-5CF4-47E8-8BA6-618A1323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C42C1-1869-41E2-8A99-A9E09F56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187F-C15B-4408-ABC1-6715AFB7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231B-731E-4C80-BA17-CDAABD16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AA3B-9284-4881-A687-B16A8869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D1B-CBB3-4220-9583-3B5309C6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28D-5A82-44AF-9006-CF1E777F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F52-3E38-4ED1-BAF5-938A3C75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276-A654-4FA8-AD4F-44E2551F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A7A-06FC-4CF9-A445-AF6197D5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CD83-E92C-4DC6-80E3-AE52ACCE900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9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E83-041A-4184-A8BA-7398BAE94A1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DC41-1D57-419F-8236-07FA0A4807C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FFFF-58C5-41D3-8EA7-05629B18A67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14400" y="304920"/>
            <a:ext cx="777240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Alien Classificat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84" name="Picture 2" descr="C:\Users\Liz\AppData\Local\Microsoft\Windows\Temporary Internet Files\Content.IE5\1ME2ZQVV\MCj00835690000[1].wmf"/>
          <p:cNvPicPr/>
          <p:nvPr/>
        </p:nvPicPr>
        <p:blipFill>
          <a:blip r:embed="rId1"/>
          <a:stretch/>
        </p:blipFill>
        <p:spPr>
          <a:xfrm>
            <a:off x="2590920" y="2182680"/>
            <a:ext cx="380988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5760" y="10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de as a Grou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fter you have completed your two groups, split each group into two new group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200" spc="-1" strike="noStrike">
                <a:solidFill>
                  <a:srgbClr val="b2e389"/>
                </a:solidFill>
                <a:latin typeface="Corbel"/>
              </a:rPr>
              <a:t>one characteristic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to separate the first group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200" spc="-1" strike="noStrike">
                <a:solidFill>
                  <a:srgbClr val="b2e389"/>
                </a:solidFill>
                <a:latin typeface="Corbel"/>
              </a:rPr>
              <a:t>one characteristic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 separate the second group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You should have 4 groups when completed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ntinue splitting each group until you can no longer split them into new categories anymor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736560" y="1795320"/>
            <a:ext cx="34956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Oh NO! I forgot about these aliens!  Where do they go?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886720" cy="40068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"/>
          <p:cNvSpPr/>
          <p:nvPr/>
        </p:nvSpPr>
        <p:spPr>
          <a:xfrm>
            <a:off x="457200" y="5943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eeff"/>
                </a:solidFill>
                <a:latin typeface="Consolas"/>
              </a:rPr>
              <a:t>Can you tell me where you would put them in your classification scheme? Start from the beginning of your ch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04920" y="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iscuss classification for a few minutes and ask students for exampl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sk students for ways to tell the aliens apart, introduce the word characteristic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nd out the alien card set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you have talked about what their challenge will b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ve the students do their first sort and walk around the classroom and check on each table.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ke sure that the categories they have are very clear and specific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en they are ready, ask for what categories they used.  Each group may have something different and that’s OK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actice  writing the data into the chart, make sure they understand what they have to do with their information and the alien card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Let the students continue to classify their aliens and monitor each group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en they are done, ask students for some sample categori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hoose one of the aliens randomly from the set and ask each group how they classified that alien from start to finish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troduce the aliens you “forgot” and give them a few minutes to figure out how to classify them.  Did they fit? Any problems? Etc…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ve each group clean up by placing the aliens back into the baggies and then thank them  for a great class!  The kids really were engaged in this lesson plan, it was great!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24720" indent="-270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58752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f a new planet was discovered that had life on it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you be able to figure out what known creatures these alien life forms might be related to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uld you look for to compare? How would you organize these different living thing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87520"/>
            <a:ext cx="800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ientists who study living things organize them into categories based on their relationship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 classification systems were based simply on how things look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cientists focus on genetics, cellular make-up and other more specific things when they classify creat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0"/>
            <a:ext cx="4876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it's the year 2525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t similar to Earth has recently been found in a newly identified solar system in another galax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sent a space probe with a molecular transport beam to this planet to beam back a variety of different living creatur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1960" y="2057400"/>
            <a:ext cx="3060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60600" y="2508120"/>
            <a:ext cx="424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752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examine the structure of each of these creatures and realize that they need to create a classification scheme to help them compare the alien life forms to each other and discover how they might be re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 scientist sends you illustrations of the organisms and asks you to help develop this classification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role is to study the illustrations and come up with a possible classification scheme based on the information provided about each organis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639720" y="1328760"/>
            <a:ext cx="3865680" cy="4962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754520" y="1328760"/>
            <a:ext cx="3895920" cy="5078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914400" y="6094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can we tell these aliens apa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Georgia"/>
              </a:rPr>
              <a:t>We can classify the aliens by their characteristics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199" name="Content Placeholder 5" descr=""/>
          <p:cNvPicPr/>
          <p:nvPr/>
        </p:nvPicPr>
        <p:blipFill>
          <a:blip r:embed="rId1"/>
          <a:stretch/>
        </p:blipFill>
        <p:spPr>
          <a:xfrm>
            <a:off x="4651200" y="1682640"/>
            <a:ext cx="4048200" cy="4632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930240" y="2014560"/>
            <a:ext cx="3108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Your Challen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our group will be given 20 aliens to classify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hoose </a:t>
            </a:r>
            <a:r>
              <a:rPr b="0" lang="en-US" sz="2600" spc="-1" strike="noStrike">
                <a:solidFill>
                  <a:srgbClr val="b2e389"/>
                </a:solidFill>
                <a:latin typeface="Corbel"/>
              </a:rPr>
              <a:t>one general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haracteristic to categorize your aliens into two large groups. Ex: has ‘abc’ and does not have ‘abc’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roups do </a:t>
            </a:r>
            <a:r>
              <a:rPr b="1" lang="en-US" sz="2600" spc="-1" strike="noStrike">
                <a:solidFill>
                  <a:srgbClr val="b2e389"/>
                </a:solidFill>
                <a:latin typeface="Corbel"/>
              </a:rPr>
              <a:t>not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ave to have the same number of aliens in each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ord your info on the chart provid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572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4"/>
          <p:cNvGraphicFramePr/>
          <p:nvPr/>
        </p:nvGraphicFramePr>
        <p:xfrm>
          <a:off x="800280" y="514440"/>
          <a:ext cx="754380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14440"/>
                    <a:ext cx="75438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8:47:50Z</dcterms:created>
  <dc:creator>Liz</dc:creator>
  <dc:description/>
  <dc:language>en-US</dc:language>
  <cp:lastModifiedBy>hms</cp:lastModifiedBy>
  <dcterms:modified xsi:type="dcterms:W3CDTF">2010-03-17T03:25:10Z</dcterms:modified>
  <cp:revision>35</cp:revision>
  <dc:subject/>
  <dc:title>Slide 1</dc:title>
</cp:coreProperties>
</file>