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9388475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388800" cy="71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68720" cy="355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5318280" y="0"/>
            <a:ext cx="4068720" cy="355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2918880" y="533160"/>
            <a:ext cx="3549960" cy="266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37800" y="3373560"/>
            <a:ext cx="7512120" cy="31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531828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77EB-562A-40C6-BAAD-A4262A3CD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919240" y="5335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7800" y="3373560"/>
            <a:ext cx="75121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31828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46A5-D37B-460F-9A69-737E60348A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0DF-E7C5-4114-B45B-7A5C1DB5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644-011C-41ED-8D61-BE909F1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D5B-291E-4F5A-AF46-539CC005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E72-A453-4758-917A-7555F035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3B97-CB93-4475-9F59-080ADBE7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85F-43CC-4BF6-ACBE-A4A4F65E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5FBC-D661-4B9A-9641-C23B6A08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F83-1EC7-4708-8E7D-C24E981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E5E8-60C1-4466-B5DD-98B992A8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17F6-0F2E-4082-84BE-7B56B79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37AC-71ED-47BE-BC9E-EB8E97F1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5BE-48C5-476A-A4A6-CD7385BD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66E1-5641-41D4-8A06-01460C1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6FD7-9DE2-4CEE-BFF1-2A6B774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A708-0A64-4298-AEDE-A2C97904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676A-A363-478C-B3C1-A2C413E3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A4C5-2A1B-41DB-8D9A-12A3A2FE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BEF5-3CB3-4368-B6BE-3F64FE1C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86B7-5708-4CC2-B08C-39CE46FF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2E94-27FC-4DDC-90B4-D28FBC2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65E7-5403-4B2D-A2F1-93124A9D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86BA-72F7-4130-BBE0-473A5E45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F89-8D8F-493A-AEF9-B7B4EBEF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DA85-EC17-454C-9A40-FFE64DE9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818A-C8B7-4A5B-8A33-31B83FE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8A59-025D-4C51-A990-7E68050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299D-9D81-4664-A2A6-34E0CFB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4AC3-184D-4FEF-A90E-A056B291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8823-483E-4AAD-8B8D-900DE549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6F0A-22C5-4824-A9C2-0F8DDF8B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AC711-F456-4A9E-84B6-707C0A93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8E5AF-F250-4171-B7D0-61CD0868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4676-B4D6-48BC-9835-A7D1CC69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0A6-C8DA-4B1C-A4ED-9CC0904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B2EAB-9DC1-46BB-AEED-06B3DDF7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15C4-85AE-49FC-9766-4991E8D3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C2934-C4BD-498F-812D-B9716BF9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5362-2270-41E7-AABF-40FE782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8931-6178-44A5-8CCD-B90A427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57F7-8630-4BB8-8CFE-AA10D30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EB4E-6E70-4050-8BF8-3EB7E89C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34D7-5678-4AE3-95CD-016B12AA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EA03-B80D-47A1-9E51-C32318A1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4FE-A706-4971-A946-883C9A2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FB3-123B-4E9A-B753-95352627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8DF-3BD5-4384-9FF7-AB453037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292-77E0-46A1-A82D-B2ABCF6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04C-A3BA-4EB9-9483-1430113C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6DA-37F6-4579-80CC-37DA141FDFE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074-30E5-418C-8761-2F94A083E9D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E6CD-5AF2-402F-93B3-5BCC02E1BC3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C09C-DF83-4395-8076-833EB319B0F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14400" y="304920"/>
            <a:ext cx="777240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Alien Classificat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4" name="Picture 2" descr="C:\Users\Liz\AppData\Local\Microsoft\Windows\Temporary Internet Files\Content.IE5\1ME2ZQVV\MCj00835690000[1].wmf"/>
          <p:cNvPicPr/>
          <p:nvPr/>
        </p:nvPicPr>
        <p:blipFill>
          <a:blip r:embed="rId1"/>
          <a:stretch/>
        </p:blipFill>
        <p:spPr>
          <a:xfrm>
            <a:off x="2590920" y="2182680"/>
            <a:ext cx="380988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5760" y="10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de as a Grou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fter you have completed your two groups, split each group into two new group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200" spc="-1" strike="noStrike">
                <a:solidFill>
                  <a:srgbClr val="b2e389"/>
                </a:solidFill>
                <a:latin typeface="Corbel"/>
              </a:rPr>
              <a:t>one characteristic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to separate the first group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200" spc="-1" strike="noStrike">
                <a:solidFill>
                  <a:srgbClr val="b2e389"/>
                </a:solidFill>
                <a:latin typeface="Corbel"/>
              </a:rPr>
              <a:t>one characteristic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 separate the second group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You should have 4 groups when completed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ntinue splitting each group until you can no longer split them into new categories anymor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736560" y="1795320"/>
            <a:ext cx="34956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Oh NO! I forgot about these aliens!  Where do they go?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886720" cy="40068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457200" y="5943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Can you tell me where you would put them in your classification scheme? Start from the beginning of your ch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04920" y="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iscuss classification for a few minutes and ask students for exampl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sk students for ways to tell the aliens apart, introduce the word characteristic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nd out the alien card set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you have talked about what their challenge will b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ve the students do their first sort and walk around the classroom and check on each table.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ke sure that the categories they have are very clear and specific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en they are ready, ask for what categories they used.  Each group may have something different and that’s O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actice  writing the data into the chart, make sure they understand what they have to do with their information and the alien card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Let the students continue to classify their aliens and monitor each group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en they are done, ask students for some sample categori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hoose one of the aliens randomly from the set and ask each group how they classified that alien from start to finish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troduce the aliens you “forgot” and give them a few minutes to figure out how to classify them.  Did they fit? Any problems? Etc…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ve each group clean up by placing the aliens back into the baggies and then thank them  for a great class!  The kids really were engaged in this lesson plan, it was great!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58752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f a new planet was discovered that had life on i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you be able to figure out what known creatures these alien life forms might be related to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uld you look for to compare? How would you organize these different living thing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8752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tists who study living things organize them into categories based on their relationship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classification systems were based simply on how things look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cientists focus on genetics, cellular make-up and other more specific things when they classify creat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0"/>
            <a:ext cx="4876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it's the year 252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t similar to Earth has recently been found in a newly identified solar system in another galax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sent a space probe with a molecular transport beam to this planet to beam back a variety of different living creatur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960" y="2057400"/>
            <a:ext cx="3060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752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examine the structure of each of these creatures and realize that they need to create a classification scheme to help them compare the alien life forms to each other and discover how they might be re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 scientist sends you illustrations of the organisms and asks you to help develop this classification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role is to study the illustrations and come up with a possible classification scheme based on the information provided about each organis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639720" y="1328760"/>
            <a:ext cx="3865680" cy="4962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754520" y="1328760"/>
            <a:ext cx="3895920" cy="5078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914400" y="6094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can we tell these aliens ap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Georgia"/>
              </a:rPr>
              <a:t>We can classify the aliens by their characteristics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199" name="Content Placeholder 5" descr=""/>
          <p:cNvPicPr/>
          <p:nvPr/>
        </p:nvPicPr>
        <p:blipFill>
          <a:blip r:embed="rId1"/>
          <a:stretch/>
        </p:blipFill>
        <p:spPr>
          <a:xfrm>
            <a:off x="4651200" y="1682640"/>
            <a:ext cx="4048200" cy="4632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930240" y="2014560"/>
            <a:ext cx="3108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Your Challe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our group will be given 20 aliens to classif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600" spc="-1" strike="noStrike">
                <a:solidFill>
                  <a:srgbClr val="b2e389"/>
                </a:solidFill>
                <a:latin typeface="Corbel"/>
              </a:rPr>
              <a:t>one general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aracteristic to categorize your aliens into two large groups. Ex: has ‘abc’ and does not have ‘abc’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roups do </a:t>
            </a:r>
            <a:r>
              <a:rPr b="1" lang="en-US" sz="2600" spc="-1" strike="noStrike">
                <a:solidFill>
                  <a:srgbClr val="b2e389"/>
                </a:solidFill>
                <a:latin typeface="Corbel"/>
              </a:rPr>
              <a:t>not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ave to have the same number of aliens in each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ord your info on the chart provid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572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4"/>
          <p:cNvGraphicFramePr/>
          <p:nvPr/>
        </p:nvGraphicFramePr>
        <p:xfrm>
          <a:off x="800280" y="514440"/>
          <a:ext cx="75438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14440"/>
                    <a:ext cx="75438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8:47:50Z</dcterms:created>
  <dc:creator>Liz</dc:creator>
  <dc:description/>
  <dc:language>en-US</dc:language>
  <cp:lastModifiedBy>hms</cp:lastModifiedBy>
  <dcterms:modified xsi:type="dcterms:W3CDTF">2010-03-17T03:25:10Z</dcterms:modified>
  <cp:revision>35</cp:revision>
  <dc:subject/>
  <dc:title>Slide 1</dc:title>
</cp:coreProperties>
</file>