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7A76-B86D-4B5F-845A-C0411825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E38-87D7-479D-AC72-F78A2C64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A7EF-6C30-4874-82D3-40CBCB2E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0024-096E-43FC-B50F-321CFD2E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D642-C574-48F1-8B01-8A1C40A4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CC9-1174-4BD9-AF36-AB936F5F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0376-3252-4603-9685-2DCF5EDB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A904-FE11-4A57-ACB0-C74DD3EA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E606-6DDF-4520-B2FF-6CC2BF54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2A42-0968-40B2-8875-2E7271A3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7D48-A5B1-42C4-9890-DA740956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146E-C4D6-43EA-9CA7-03C0124C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9EFE-7AD8-40F4-9714-35C620FD3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Tissue Im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Epidermal (Skin)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160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98600" y="1828800"/>
            <a:ext cx="61596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Bone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82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16200000">
            <a:off x="3606840" y="786960"/>
            <a:ext cx="388620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Adipose (Fat)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1676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6078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22:33:00Z</dcterms:created>
  <dc:creator>hms</dc:creator>
  <dc:description/>
  <dc:language>en-US</dc:language>
  <cp:lastModifiedBy>hms</cp:lastModifiedBy>
  <dcterms:modified xsi:type="dcterms:W3CDTF">2010-04-22T22:42:12Z</dcterms:modified>
  <cp:revision>1</cp:revision>
  <dc:subject/>
  <dc:title>Extra Tissue Images</dc:title>
</cp:coreProperties>
</file>