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746-7B9B-451D-BCEA-C1487506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560-A803-45E5-8A0B-B3CE1DE1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0172-8DB2-415D-A913-4315A858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D4D-1F71-4E80-AAE0-289A52CD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3DA-C539-40DF-B362-F624EDCA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972-4C1F-4C70-AAE2-1F5FB62A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52C-30D2-400F-B681-80F8722A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2609-2E0C-4BAD-8A85-974700FB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C46-0E77-4B7F-AF0C-3D7C7DCC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50D6-D687-4EDC-A4B3-18B00DB5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106-15DC-462E-9FAA-E03B07A8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4FD2-E3DB-4092-B4B6-D4B7532D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76CA-D93E-431B-82E9-D7EA3E80D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Tissue 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pidermal (Skin)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60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98600" y="1828800"/>
            <a:ext cx="61596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Bone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82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16200000">
            <a:off x="3606840" y="786960"/>
            <a:ext cx="388620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Adipose (Fat)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676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6078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2:33:00Z</dcterms:created>
  <dc:creator>hms</dc:creator>
  <dc:description/>
  <dc:language>en-US</dc:language>
  <cp:lastModifiedBy>hms</cp:lastModifiedBy>
  <dcterms:modified xsi:type="dcterms:W3CDTF">2010-04-22T22:42:12Z</dcterms:modified>
  <cp:revision>1</cp:revision>
  <dc:subject/>
  <dc:title>Extra Tissue Images</dc:title>
</cp:coreProperties>
</file>