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EA1-AAAB-4E24-BC2E-3E134CF6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43C-FD6B-4232-885A-E9BD9438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4A0-FFC4-4349-8EA4-D9F22160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C3F-0C34-4E01-95C6-A19243CE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849-6458-49F5-8511-FE83451C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17C-27EC-48D8-9DC5-0AD8C875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DD13-C4A3-420D-BE0B-7216D678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775-51BF-47AA-89C0-B20FCFE2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86F-C6EE-46B1-9D5F-D8F537BC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1C8-4B2A-4EE8-8748-CADCF7E5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12F4-CCA1-485D-B984-B7DA0C7F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E66-F99B-46C1-B19C-04354FC8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2DDD-AB55-4427-810F-6FC4F0E81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Tissue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pidermal (Skin)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60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98600" y="182880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Bone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6200000">
            <a:off x="3606840" y="786960"/>
            <a:ext cx="388620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Adipose (Fat)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676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6078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2:33:00Z</dcterms:created>
  <dc:creator>hms</dc:creator>
  <dc:description/>
  <dc:language>en-US</dc:language>
  <cp:lastModifiedBy>hms</cp:lastModifiedBy>
  <dcterms:modified xsi:type="dcterms:W3CDTF">2010-04-22T22:42:12Z</dcterms:modified>
  <cp:revision>1</cp:revision>
  <dc:subject/>
  <dc:title>Extra Tissue Images</dc:title>
</cp:coreProperties>
</file>