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278-B546-44C0-AFC2-337725B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7E4-19E5-4105-B6AF-9DDB3035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FEB-7BB8-4770-B24F-C450F22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57D-819E-424A-8881-783488F2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681-73D8-45DF-98F1-A64C5CA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087-BD26-4709-84AB-2ACB99D3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519-9C08-4BA6-8EE3-D96EA0B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557-F669-488D-96EA-E66FE2B0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E13-E0EF-44BA-B02A-AB29D9A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C7D-2982-48F0-8F3F-B2DCCD6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A19-AEAF-4969-9646-C3DD740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6C5-3CBD-4E65-99E3-3473C8A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6182-6A83-47DA-ABE5-F84F7C2B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Tissue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pidermal (Skin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8600" y="182880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6200000">
            <a:off x="3606840" y="786960"/>
            <a:ext cx="38862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dipose (Fat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76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607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2:33:00Z</dcterms:created>
  <dc:creator>hms</dc:creator>
  <dc:description/>
  <dc:language>en-US</dc:language>
  <cp:lastModifiedBy>hms</cp:lastModifiedBy>
  <dcterms:modified xsi:type="dcterms:W3CDTF">2010-04-22T22:42:12Z</dcterms:modified>
  <cp:revision>1</cp:revision>
  <dc:subject/>
  <dc:title>Extra Tissue Images</dc:title>
</cp:coreProperties>
</file>