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766-68AE-4A99-AD68-071C5F0B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0B2-7BD9-461B-9D2B-DC902C9A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780-B950-41AC-BDBF-2058C9BD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000A-CBAA-4557-8E31-780CA431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F9FE-3FBE-4A95-A34F-22A26F4E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7B1B-D56B-4546-A285-E847336A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9060-AB42-4CAF-885B-6CDE08FD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F215-5FA5-4251-AFD1-8E865975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6AAA-EA9B-4B6A-B342-77B66778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9447-EAE8-4525-A916-7246683A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C8C2-7467-4489-A7EE-B4723A69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C0E-CB74-453A-978F-7F1C826C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E148-0F66-40B4-BF36-4764EB5C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E6AC-3E12-4386-A4DF-703CFA6F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136F-292F-494C-9FBC-B871C089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5970-5089-4FB3-B4D4-78D7B182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7B33-18B3-4E44-8CC5-E8925157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92F-48F9-43FE-8444-8272448B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758-9665-4A5D-8D87-7F03B3E0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CC4-4510-4C19-952F-E4EA2F98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D227-C98E-4F20-B0DE-DC7596A0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893-A7F3-4594-B1F7-65D37CB4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2B2-6259-4168-8B53-A6A07C34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1E8-1338-4753-9ECB-0431599C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6582-7A1A-4DD4-A44F-9A89027B3A2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9893-831F-4A17-A055-87ADB17266A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Al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7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ing Resistance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ution 2: Give a rea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Tom and Jeff do to say no in the second solu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anyone notice Carl in the solution?  What did he do?  What did he s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think caused Carl ot refuse the joi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think the older boys felt about Carl when he said n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ution 3:  Stand up to pressure/leave the sce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ed in the third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Tom and Jeff stand up to the press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they feel when they stood up to the press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we’re going to learn more about saying ‘no.’ First, we’ll see a video like Lindsey’s Choice, the video you saw in Lesson 5. This video is called Pot or Not? It’s about two tenth-grade boys, Tom and Jeff, who are forced by some older teens to make a decision. As in Lindsey’s Choice, you will get a chance to act out your own solutions for Tom and Jeff. Then we’ll see what Tom and Jeff do in the vide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we’ll be doing skits call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ne Way Tom and Jeff Can Say ‘No.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 minute we’ll divide into groups to develop the sk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group’s job will be to come up with a skit that shows Tom and Jeff saying ‘no’ to the joint and not feeling uncomfor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different solutions. After we break into groups, each group will choose a Director, who will assign par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175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group also should assign a Recorder, who will write down who plays what parts and your group’s solution on a Skit Preparation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minutes to plan and rehearse your group’s sk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k realistic solutions, ones you would really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2920" indent="-320400">
              <a:lnSpc>
                <a:spcPct val="100000"/>
              </a:lnSpc>
              <a:spcBef>
                <a:spcPts val="64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will divide the class into four or five group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64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Recorder will get a Skit Preparation Sheet and will need to note assignments and the solution on the shee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64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 or two of the groups will pretend that Tom and Jeff are offered a beer instead of marijuana, and have you must resist the offe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64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group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6280" indent="-31896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 Assign par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280" indent="-31896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Try different solu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6280" indent="-31896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. Decide on one solution and rehearse i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st of Character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15998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, a tenth grader with a decision to m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ff, Tom’s friend who supports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e, an older guy who pressures Tom and Je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l, Dave’s fri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ry, Dave’s fri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 the c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or introduces the skit and charac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ence is quiet - no more plan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rector announces the parts, and then the group acts out its solution before the c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e’ll see the solutions on the video and compare them with the ones we came up with and have a discussion about the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ution 1:  Simply Say N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3920" indent="-3135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Tom do?  What did Jeff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anyone create a scene when Tom just passed the joi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think Tom felt about refusing the joi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Jeff feel when he passed the joint on without smoking?  How did Tom’s refusal affect hi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d been one of the older boys, how would you have felt when Tom said n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8:18:37Z</dcterms:created>
  <dc:creator>asd</dc:creator>
  <dc:description/>
  <dc:language>en-US</dc:language>
  <cp:lastModifiedBy>asd</cp:lastModifiedBy>
  <dcterms:modified xsi:type="dcterms:W3CDTF">2011-03-18T22:29:32Z</dcterms:modified>
  <cp:revision>2</cp:revision>
  <dc:subject/>
  <dc:title>Project Alert</dc:title>
</cp:coreProperties>
</file>