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F47B-4F46-4FA9-8FCC-63C7EB49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C63D-1A98-4B59-A1CA-9765D6B3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4690-D820-4899-93AA-53E89096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183D-21AD-4FA6-9551-B570D0B4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EF2C-78F7-40E6-B34F-5B27DCED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29E9-7C7C-4AB7-8011-A8831215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BA25-CD5F-4B97-959A-B62C291F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C663-E385-425E-ABB1-328ED440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8186-C218-48C5-B5CC-5174CCAD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9CB5-DD38-401A-AAC8-823F7AD2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B8F7-5EA0-4D33-B578-28BC7784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9275-A792-442A-9440-370B9040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AE12-170A-4926-9405-0410D924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2F6E-4172-4E1C-B420-0C5D6761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6972-6CE9-439F-A940-92054067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B741-2438-4B24-A72C-7AE5DF21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FB80-2D13-4815-89E9-52170ABD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6A51-6FFD-4530-9F1E-2E117A07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D816-6BD4-4639-96CA-9A6C2493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FA52-4D71-43D2-86EB-5D832419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F615-CF05-4212-8193-A71D0B2E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D4E9-F238-42C5-AD9A-6DEF92D4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E7CF-BE9E-485B-B195-B73ADA42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AB4E-6D70-4CC6-8306-BA3DE116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476B-FA78-4691-B3B5-101572F5E4F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66C7-4A3F-46A6-94F9-710F09B05E3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Ale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7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ing Resistance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lution 2: Give a reas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id Tom and Jeff do to say no in the second solu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anyone notice Carl in the solution?  What did he do?  What did he s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think caused Carl ot refuse the joi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you think the older boys felt about Carl when he said n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lution 3:  Stand up to pressure/leave the sce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happened in the third solu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Tom and Jeff stand up to the press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they feel when they stood up to the press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 we’re going to learn more about saying ‘no.’ First, we’ll see a video like Lindsey’s Choice, the video you saw in Lesson 5. This video is called Pot or Not? It’s about two tenth-grade boys, Tom and Jeff, who are forced by some older teens to make a decision. As in Lindsey’s Choice, you will get a chance to act out your own solutions for Tom and Jeff. Then we’ll see what Tom and Jeff do in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we’ll be doing skits calle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ne Way Tom and Jeff Can Say ‘No.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a minute we’ll divide into groups to develop the sk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group’s job will be to come up with a skit that shows Tom and Jeff saying ‘no’ to the joint and not feeling uncomfor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different solutions. After we break into groups, each group will choose a Director, who will assign par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1752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1752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1752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1752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1752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group also should assign a Recorder, who will write down who plays what parts and your group’s solution on a Skit Preparation 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minutes to plan and rehearse your group’s sk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k realistic solutions, ones you would really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2920" indent="-320400">
              <a:lnSpc>
                <a:spcPct val="100000"/>
              </a:lnSpc>
              <a:spcBef>
                <a:spcPts val="64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 will divide the class into four or five group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2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64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Recorder will get a Skit Preparation Sheet and will need to note assignments and the solution on the shee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2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64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 or two of the groups will pretend that Tom and Jeff are offered a beer instead of marijuana, and have you must resist the offe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2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64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group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6280" indent="-31896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 Assign par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280" indent="-31896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Try different solu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280" indent="-31896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. Decide on one solution and rehearse i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2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st of Character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320" y="15998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m, a tenth grader with a decision to m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ff, Tom’s friend who supports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e, an older guy who pressures Tom and Je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l, Dave’s fri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ry, Dave’s fri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ak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 the cl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or introduces the skit and charac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ence is quiet - no more plan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rector announces the parts, and then the group acts out its solution before the cl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we’ll see the solutions on the video and compare them with the ones we came up with and have a discussion about the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lution 1:  Simply Say N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3920" indent="-3135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id Tom do?  What did Jeff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3920" indent="-3135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anyone create a scene when Tom just passed the joi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3920" indent="-3135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you think Tom felt about refusing the joi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3920" indent="-3135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Jeff feel when he passed the joint on without smoking?  How did Tom’s refusal affect hi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3920" indent="-3135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d been one of the older boys, how would you have felt when Tom said n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8:18:37Z</dcterms:created>
  <dc:creator>asd</dc:creator>
  <dc:description/>
  <dc:language>en-US</dc:language>
  <cp:lastModifiedBy>asd</cp:lastModifiedBy>
  <dcterms:modified xsi:type="dcterms:W3CDTF">2011-03-18T22:29:32Z</dcterms:modified>
  <cp:revision>2</cp:revision>
  <dc:subject/>
  <dc:title>Project Alert</dc:title>
</cp:coreProperties>
</file>