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B83-A0BD-4FB1-A9F3-5CB7A51A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C1B-E0EC-47CC-BA2A-5F1E175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3E4-8182-4AC2-9A56-137D1322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E35-1270-4780-829F-472AE379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CFED-CC30-4F82-B53F-25394F91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DF6B-8290-46A9-818C-E9C800B0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7E6-F086-4320-8E4B-954E2CC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7E34-0074-4EBA-A163-B00691B4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C3D2-8E94-4BBC-BA0F-4BC4778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F149-5821-4726-A098-1E8014F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8C02-1D2B-40D1-AC3D-A9BFD8E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1F7-DB7A-4A49-910E-6A241AB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79A-F739-4D2A-99F5-371F191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13B-178C-4E07-BE64-097EB54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431-A1D1-4E41-85BD-9C6C87B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3F2A-274A-49BB-BEE6-5D8BF4BF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7F8F-A152-4271-8AEE-C2F0F886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B9D-F54D-4885-9B0A-F5CE103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977-3692-4011-A908-D1A84E83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D3-DA67-4A21-B4AB-F89EDA3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9FE-BCAA-48AF-A5C4-6E75BE9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0C1-8B58-4CE3-B0D2-1AC689B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655-8FD0-4620-AFE7-1A3B35F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148-A09B-41AB-9CC0-E4111C64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212F-5B52-42DA-BA12-D9FC3E95159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CB4-2BF1-4F68-8EC4-E29D56B078A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7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Resistanc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2: Give a rea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and Jeff do to say no in the second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notice Carl in the solution?  What did he do?  What did 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caused Carl ot refuse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he older boys felt about Carl when he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3:  Stand up to pressure/leave the sc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 in the third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om and Jeff stan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y feel when they stoo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’re going to learn more about saying ‘no.’ First, we’ll see a video like Lindsey’s Choice, the video you saw in Lesson 5. This video is called Pot or Not? It’s about two tenth-grade boys, Tom and Jeff, who are forced by some older teens to make a decision. As in Lindsey’s Choice, you will get a chance to act out your own solutions for Tom and Jeff. Then we’ll see what Tom and Jeff do in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we’ll be doing skit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Way Tom and Jeff Can Say ‘No.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minute we’ll divide into groups to develop the sk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’s job will be to come up with a skit that shows Tom and Jeff saying ‘no’ to the joint and not feeling uncomfor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different solutions. After we break into groups, each group will choose a Director, who will assign pa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 also should assign a Recorder, who will write down who plays what parts and your group’s solution on a Skit Preparation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inutes to plan and rehearse your group’s sk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realistic solutions, ones you would really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ill divide the class into four or five group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Recorder will get a Skit Preparation Sheet and will need to note assignments and the solution on the she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or two of the groups will pretend that Tom and Jeff are offered a beer instead of marijuana, and have you must resist the off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group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 Assign pa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Try different solu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 Decide on one solution and rehearse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t of Character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, a tenth grader with a decision to m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, Tom’s friend who supports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, an older guy who pressures Tom and Je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ry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 introduces the skit and charac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s quiet - no more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or announces the parts, and then the group acts out its solution befor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’ll see the solutions on the video and compare them with the ones we came up with and have a discussion about the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1:  Simply Say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do?  What did Jeff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create a scene when Tom just passed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om felt about refusing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Jeff feel when he passed the joint on without smoking?  How did Tom’s refusal affect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d been one of the older boys, how would you have felt when Tom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8:37Z</dcterms:created>
  <dc:creator>asd</dc:creator>
  <dc:description/>
  <dc:language>en-US</dc:language>
  <cp:lastModifiedBy>asd</cp:lastModifiedBy>
  <dcterms:modified xsi:type="dcterms:W3CDTF">2011-03-18T22:29:32Z</dcterms:modified>
  <cp:revision>2</cp:revision>
  <dc:subject/>
  <dc:title>Project Alert</dc:title>
</cp:coreProperties>
</file>