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942-3ACB-4CC5-B73E-154984C5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65A-6692-417A-BE6B-51826B04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253-08B8-46C0-8FDC-2F8266DB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D5B-7B26-4A2B-899C-7971F8E4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7F81-C6CD-48B7-A599-3C57DCA0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F999-2B89-494B-B5A3-5136FD48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037C-7547-49EB-8967-DA087B89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5408-6F60-4A84-AF48-806E005C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72D7-6D6E-434B-BD21-16015EAC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ED22-25B8-4DBD-8C8D-7A02DAF6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F339-CB25-4D6F-9639-B5087F16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5E9-9108-40C9-A48F-DB11D484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7E84-4E0F-4776-B5D1-154C3D89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A02-EA21-4318-8597-ED11FBA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FC54-90FD-45A2-981D-8C791305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7169-F1C3-4455-9581-133A84C1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6499-CC5E-4F85-8C45-F8D364A7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2D1-0338-41BE-AA5C-D6EC1206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A4D-BD02-4D50-88FA-B1CD5048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8F3-4C23-475D-B0AF-134459DD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0FD-CC2E-4E63-B78B-522127E5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7BB-88A3-4C4A-82BD-71A04C67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20B-DD60-4325-8BA9-A4C97DD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0C7-6E26-43C5-B447-3DD18AB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D131-DD22-482C-B5E0-5271D535C96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8FF5-258E-4D8A-970F-2DE4C16500C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7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ing Resistanc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2: Give a rea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om and Jeff do to say no in the second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nyone notice Carl in the solution?  What did he do?  What did 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think caused Carl ot refuse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think the older boys felt about Carl when he said n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3:  Stand up to pressure/leave the sce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ed in the third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om and Jeff stand up to the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y feel when they stood up to the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’re going to learn more about saying ‘no.’ First, we’ll see a video like Lindsey’s Choice, the video you saw in Lesson 5. This video is called Pot or Not? It’s about two tenth-grade boys, Tom and Jeff, who are forced by some older teens to make a decision. As in Lindsey’s Choice, you will get a chance to act out your own solutions for Tom and Jeff. Then we’ll see what Tom and Jeff do in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we’ll be doing skits 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e Way Tom and Jeff Can Say ‘No.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 minute we’ll divide into groups to develop the sk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group’s job will be to come up with a skit that shows Tom and Jeff saying ‘no’ to the joint and not feeling uncomfor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different solutions. After we break into groups, each group will choose a Director, who will assign pa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group also should assign a Recorder, who will write down who plays what parts and your group’s solution on a Skit Preparation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minutes to plan and rehearse your group’s sk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realistic solutions, ones you would really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ill divide the class into four or five group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Recorder will get a Skit Preparation Sheet and will need to note assignments and the solution on the shee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or two of the groups will pretend that Tom and Jeff are offered a beer instead of marijuana, and have you must resist the off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group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 Assign par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Try different solu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 Decide on one solution and rehearse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t of Character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, a tenth grader with a decision to m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, Tom’s friend who supports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, an older guy who pressures Tom and Je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l, Dave’s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ry, Dave’s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or introduces the skit and charac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s quiet - no more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rector announces the parts, and then the group acts out its solution before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’ll see the solutions on the video and compare them with the ones we came up with and have a discussion about the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1:  Simply Say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om do?  What did Jeff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nyone create a scene when Tom just passed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think Tom felt about refusing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Jeff feel when he passed the joint on without smoking?  How did Tom’s refusal affect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d been one of the older boys, how would you have felt when Tom said n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18:37Z</dcterms:created>
  <dc:creator>asd</dc:creator>
  <dc:description/>
  <dc:language>en-US</dc:language>
  <cp:lastModifiedBy>asd</cp:lastModifiedBy>
  <dcterms:modified xsi:type="dcterms:W3CDTF">2011-03-18T22:29:32Z</dcterms:modified>
  <cp:revision>2</cp:revision>
  <dc:subject/>
  <dc:title>Project Alert</dc:title>
</cp:coreProperties>
</file>