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E9DC-CE94-4045-ACCE-B742E8463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9FEC-AC9B-462D-BD96-6855CF511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8115-517C-4591-8938-3087507F2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0159-FC44-4E1B-B7CF-6B86BF268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9B34-2C2F-4941-9933-E5EC3AC16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AF33-5154-47F5-AA7A-BA30CE455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CFD2-B004-4DA0-B3DC-CA2D5AE87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1B6A-135F-47BC-8B7C-C0C77C0C2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7ED7-AF20-48A7-BD17-FCF3A7466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F462-1452-4B15-A27A-35FAD4FB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3B68-FFDD-477B-ACB2-83A19737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D280-D26C-45E2-A60D-F93688ED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66"/>
                </a:solidFill>
                <a:latin typeface="Marker Felt"/>
              </a:rPr>
              <a:t>Click to edit the title text format</a:t>
            </a:r>
            <a:endParaRPr b="0" lang="en-US" sz="50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3E487-3539-448F-A1A5-FCACCCDD4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71840" y="1294920"/>
            <a:ext cx="2971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3366"/>
                </a:solidFill>
                <a:latin typeface="Marker Felt"/>
              </a:rPr>
              <a:t>The Milky Way Galaxy</a:t>
            </a:r>
            <a:endParaRPr b="0" lang="en-US" sz="5000" spc="-1" strike="noStrike">
              <a:solidFill>
                <a:srgbClr val="003366"/>
              </a:solidFill>
              <a:latin typeface="Marker Fel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9528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447920" y="609480"/>
            <a:ext cx="45813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122400"/>
            <a:ext cx="77724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66"/>
                </a:solidFill>
                <a:latin typeface="Marker Felt"/>
              </a:rPr>
              <a:t>Radio View of the Milky Way</a:t>
            </a:r>
            <a:endParaRPr b="0" lang="en-US" sz="50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990720"/>
            <a:ext cx="792468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9528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523880" y="617220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Radio map at a wavelength of 21 cm, tracing neutral hydro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00200" y="1295280"/>
            <a:ext cx="6781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nterstellar dust does not absorb radio w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We can observe any direction throughout the Milky Way at radio w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523880" y="3200400"/>
            <a:ext cx="6782040" cy="28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122400"/>
            <a:ext cx="77724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66"/>
                </a:solidFill>
                <a:latin typeface="Marker Felt"/>
              </a:rPr>
              <a:t>Globular Clusters</a:t>
            </a:r>
            <a:endParaRPr b="0" lang="en-US" sz="50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838080"/>
            <a:ext cx="518148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9528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691160" y="1143000"/>
            <a:ext cx="4452840" cy="4572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057400" y="4892760"/>
            <a:ext cx="487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47920" y="1143000"/>
            <a:ext cx="3124080" cy="47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Globular clusters are massive systems containing millions of st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Globular clusters tell us two things about our galax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he Sun is not at the center of the gala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he approx. age of the galaxy is 13 billion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553080" y="52578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lobular Cluster M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8487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3366"/>
                </a:solidFill>
                <a:latin typeface="Marker Felt"/>
              </a:rPr>
              <a:t>A View of Galaxies Similar to Our Milky Way</a:t>
            </a:r>
            <a:endParaRPr b="0" lang="en-US" sz="43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1295280"/>
            <a:ext cx="784872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9528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371600" y="1600200"/>
            <a:ext cx="3352680" cy="24969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4495680" y="3784680"/>
            <a:ext cx="4572000" cy="30430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371600" y="365760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brero Galax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91520" y="64612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GC 2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876920" y="1676520"/>
            <a:ext cx="388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We also see gas and dust absorbing light in other galaxi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257800"/>
            <a:ext cx="3048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nd as dark clouds in the spiral arms when we see a galaxy face-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3733920" y="2895120"/>
            <a:ext cx="1676160" cy="3049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267080" y="5562360"/>
            <a:ext cx="2667240" cy="759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4267080" y="5105520"/>
            <a:ext cx="2133720" cy="4572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86400" y="289548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s dark dust lanes when we see a galaxy edge-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122400"/>
            <a:ext cx="77724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3366"/>
                </a:solidFill>
                <a:latin typeface="Marker Felt"/>
              </a:rPr>
              <a:t>Structure of the Milky Way Revealed</a:t>
            </a:r>
            <a:endParaRPr b="0" lang="en-US" sz="39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838080"/>
            <a:ext cx="762012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9528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371600" y="1371600"/>
            <a:ext cx="3809880" cy="30574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029200" y="2938320"/>
            <a:ext cx="4038480" cy="38433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943600" y="24382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Distribution of d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467480" y="2971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001000" y="6019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05520" y="5943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486400" y="4952880"/>
            <a:ext cx="1523880" cy="10670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467120" y="4952880"/>
            <a:ext cx="762120" cy="10670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7009920" y="5333760"/>
            <a:ext cx="121932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7162560" y="3352680"/>
            <a:ext cx="60948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434340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Distribution of stars and neutral hydr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122400"/>
            <a:ext cx="77724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66"/>
                </a:solidFill>
                <a:latin typeface="Marker Felt"/>
              </a:rPr>
              <a:t>The Nature of Spiral Arms</a:t>
            </a:r>
            <a:endParaRPr b="0" lang="en-US" sz="50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838080"/>
            <a:ext cx="739152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95280" cy="6858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447920" y="1295280"/>
            <a:ext cx="3962160" cy="45259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447920" y="58672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Chance coincidence of small spiral galaxy in front of a large background gala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715000" y="1295280"/>
            <a:ext cx="32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piral arms appear bright (newly formed, massive stars!) against the dark sky backgroun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715000" y="3581280"/>
            <a:ext cx="3429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but dark (gas and dust in dense, star-forming clouds) against the bright background of the large gala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4114440" y="2743200"/>
            <a:ext cx="2057400" cy="152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200400" y="2362320"/>
            <a:ext cx="3200400" cy="17524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3733920" y="3428640"/>
            <a:ext cx="2133360" cy="10666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3123720" y="3429000"/>
            <a:ext cx="2590920" cy="990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122400"/>
            <a:ext cx="77724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66"/>
                </a:solidFill>
                <a:latin typeface="Marker Felt"/>
              </a:rPr>
              <a:t>Grand-Design Spiral Galaxies</a:t>
            </a:r>
            <a:endParaRPr b="0" lang="en-US" sz="50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157" name=""/>
          <p:cNvSpPr/>
          <p:nvPr/>
        </p:nvSpPr>
        <p:spPr>
          <a:xfrm>
            <a:off x="663480" y="838080"/>
            <a:ext cx="84582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95280" cy="68580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447920" y="2819520"/>
            <a:ext cx="3352680" cy="33019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4952880" y="2895480"/>
            <a:ext cx="4038840" cy="31910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600200" y="12952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Grand-Design Spirals have two dominant spiral a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5715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029200" y="990720"/>
            <a:ext cx="3886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Flocculent (woolly) galaxies also have spiral patterns, but no dominant pair of spiral a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467480" y="56386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GC 3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6094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66"/>
                </a:solidFill>
                <a:latin typeface="Marker Felt"/>
              </a:rPr>
              <a:t>Milky Way Arms</a:t>
            </a:r>
            <a:endParaRPr b="0" lang="en-US" sz="5000" spc="-1" strike="noStrike">
              <a:solidFill>
                <a:srgbClr val="003366"/>
              </a:solidFill>
              <a:latin typeface="Marker Felt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4724640" cy="48769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53080" y="1600200"/>
            <a:ext cx="2514600" cy="46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Orion 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Perseus 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ygnus 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entaurus 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agittarius 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9528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219320" y="914400"/>
            <a:ext cx="775008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122400"/>
            <a:ext cx="77724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Marker Felt"/>
              </a:rPr>
              <a:t>Orbital Motion in the Milky Way (2)</a:t>
            </a:r>
            <a:endParaRPr b="0" lang="en-US" sz="40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838080"/>
            <a:ext cx="815328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95280" cy="68580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1447920" y="1295280"/>
            <a:ext cx="4701960" cy="47023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429000" y="274320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05320" y="2438280"/>
            <a:ext cx="152280" cy="152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429000" y="213372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57400" y="13716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erential R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24480" y="1676520"/>
            <a:ext cx="2819520" cy="41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un orbits around Galactic center with 220 km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1 orbit takes approx. 240 million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tars closer to the galactic center orbit f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tars farther out orbit more slow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600" y="122400"/>
            <a:ext cx="77724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Marker Felt"/>
              </a:rPr>
              <a:t>The Mass of the Milky Way (2)</a:t>
            </a:r>
            <a:endParaRPr b="0" lang="en-US" sz="40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180" name=""/>
          <p:cNvSpPr/>
          <p:nvPr/>
        </p:nvSpPr>
        <p:spPr>
          <a:xfrm>
            <a:off x="663480" y="838080"/>
            <a:ext cx="84582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9528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486400" y="1066680"/>
            <a:ext cx="33526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Rounded MT Bold"/>
              </a:rPr>
              <a:t>Total mass in the disk of the Milky Way:</a:t>
            </a:r>
            <a:r>
              <a:rPr b="0" lang="en-US" sz="2400" spc="-1" strike="noStrike">
                <a:solidFill>
                  <a:srgbClr val="ff3300"/>
                </a:solidFill>
                <a:latin typeface="Arial Rounded MT Bol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Rounded MT Bold"/>
                <a:ea typeface="Arial"/>
              </a:rPr>
              <a:t>Approx. 100 billion solar mas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1447920" y="990720"/>
            <a:ext cx="3714480" cy="55623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5486400" y="3200400"/>
            <a:ext cx="33526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Rounded MT Bold"/>
              </a:rPr>
              <a:t>Additional mass in an extended ha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Rounded MT Bold"/>
              </a:rPr>
              <a:t>Total: Approx. 1 trillion solar m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486400" y="5029200"/>
            <a:ext cx="335268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Rounded MT Bold"/>
              </a:rPr>
              <a:t>Most of the mass is not emitting any radi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 Rounded MT Bold"/>
              </a:rPr>
              <a:t>Dark Matt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3580920" y="2514600"/>
            <a:ext cx="2514600" cy="289548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3657240" y="2514600"/>
            <a:ext cx="2438280" cy="6858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3048120" y="4114800"/>
            <a:ext cx="2590560" cy="6858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3733560" y="4114800"/>
            <a:ext cx="1904760" cy="20574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66"/>
                </a:solidFill>
                <a:latin typeface="Marker Felt"/>
              </a:rPr>
              <a:t>Three things to keep in mind about the Milky Way:</a:t>
            </a:r>
            <a:endParaRPr b="0" lang="en-US" sz="50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676160" y="1874520"/>
            <a:ext cx="70102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e Milky Way is an ecosystem for star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e Milky Way is mostly empty space… but is rather dusty.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e Milky Way barely moves at all on the scale of a human lifetime.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9528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219320" y="1600200"/>
            <a:ext cx="75438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66"/>
                </a:solidFill>
                <a:latin typeface="Marker Felt"/>
              </a:rPr>
              <a:t>LEARNING TARGET:</a:t>
            </a:r>
            <a:endParaRPr b="0" lang="en-US" sz="50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8584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Our Sun is one of hundreds of billions of stars in the Milky Way galaxy.  Many of these stars have planets orbiting around them.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 Rounded MT Bold"/>
              </a:rPr>
              <a:t>I can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Arial Rounded MT Bold"/>
              </a:rPr>
              <a:t>identify our location inside of the Milky Way galaxy and I have a understanding of the size of the Universe.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3581640" cy="53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122400"/>
            <a:ext cx="77724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66"/>
                </a:solidFill>
                <a:latin typeface="Marker Felt"/>
              </a:rPr>
              <a:t>The Milky Way</a:t>
            </a:r>
            <a:endParaRPr b="0" lang="en-US" sz="50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838080"/>
            <a:ext cx="449568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9528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428840" y="1066680"/>
            <a:ext cx="3429000" cy="3657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257800" y="1066680"/>
            <a:ext cx="3462480" cy="3657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295280" y="4800600"/>
            <a:ext cx="3657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lmost everything we see in the night sky belongs to the Milky 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5851440"/>
            <a:ext cx="3504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We see most of the Milky Way as a faint band of light across the s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05520" y="4784760"/>
            <a:ext cx="380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From the outside, our Milky Way might look very much like our cosmic neighbor, the Andromeda galax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22400"/>
            <a:ext cx="77724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66"/>
                </a:solidFill>
                <a:latin typeface="Marker Felt"/>
              </a:rPr>
              <a:t>First Studies of the Galaxy</a:t>
            </a:r>
            <a:endParaRPr b="0" lang="en-US" sz="50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838080"/>
            <a:ext cx="762012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9528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447920" y="1066680"/>
            <a:ext cx="7467480" cy="2598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5486400" y="3200400"/>
            <a:ext cx="3657600" cy="14558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219320" y="396252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First attempt to unveil the structure of our Galaxy by William Herschel (1785), based on optical 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47920" y="5715000"/>
            <a:ext cx="662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he shape of the Milky Way was believed to resemble a grindstone, with the sun close to the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4952880" y="2361960"/>
            <a:ext cx="762120" cy="33526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66"/>
                </a:solidFill>
                <a:latin typeface="Marker Felt"/>
              </a:rPr>
              <a:t>Structure of the Milky Way</a:t>
            </a:r>
            <a:endParaRPr b="0" lang="en-US" sz="50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920" y="1599840"/>
            <a:ext cx="7238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We are living in a disk-shaped system of stars about 100,000 light years acros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e Sun is located 2/3rds of the way out to the edge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Gas, dust and star formations are concentrated to the disk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9528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143000" y="1295280"/>
            <a:ext cx="80010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122400"/>
            <a:ext cx="77724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3366"/>
                </a:solidFill>
                <a:latin typeface="Marker Felt"/>
              </a:rPr>
              <a:t>The Structure of the Milky Way (1)</a:t>
            </a:r>
            <a:endParaRPr b="0" lang="en-US" sz="43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838080"/>
            <a:ext cx="80010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9528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523880" y="914400"/>
            <a:ext cx="3865680" cy="57913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867280" y="28954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867280" y="35053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uclear Bul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867280" y="41148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Ha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7400" y="40384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867280" y="55627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Globular Clu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4572000" y="3124080"/>
            <a:ext cx="1295280" cy="76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572000" y="3276720"/>
            <a:ext cx="1447920" cy="2133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3581280" y="2819520"/>
            <a:ext cx="228600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733920" y="3733920"/>
            <a:ext cx="2133360" cy="16761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657600" y="4343400"/>
            <a:ext cx="2209680" cy="4572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572000" y="4343400"/>
            <a:ext cx="1295280" cy="16002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343040" y="5715000"/>
            <a:ext cx="1523880" cy="76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581280" y="5715000"/>
            <a:ext cx="2286000" cy="5335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438280" y="2895120"/>
            <a:ext cx="0" cy="1143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38280" y="4419720"/>
            <a:ext cx="0" cy="990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600" y="122400"/>
            <a:ext cx="77724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3366"/>
                </a:solidFill>
                <a:latin typeface="Marker Felt"/>
              </a:rPr>
              <a:t>The Structure of the Milky Way (2)</a:t>
            </a:r>
            <a:endParaRPr b="0" lang="en-US" sz="43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838080"/>
            <a:ext cx="80010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9528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"/>
          <p:cNvGraphicFramePr/>
          <p:nvPr/>
        </p:nvGraphicFramePr>
        <p:xfrm>
          <a:off x="1905120" y="1219320"/>
          <a:ext cx="6476760" cy="349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1219320"/>
                    <a:ext cx="6476760" cy="34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2438280" y="2438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lactic P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14600" y="2971800"/>
            <a:ext cx="548640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95480" y="3733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lactic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419720" y="3085920"/>
            <a:ext cx="609480" cy="6858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48006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he structure is hard to determine be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69880" y="5181480"/>
            <a:ext cx="310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1) We are in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55627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2) Distance measurements are diffic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47920" y="594360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3) Our view towards the center is obscured by gas and d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3T04:28:17Z</dcterms:created>
  <dc:creator>Markus Boettcher</dc:creator>
  <dc:description/>
  <dc:language>en-US</dc:language>
  <cp:lastModifiedBy>asd</cp:lastModifiedBy>
  <cp:lastPrinted>2009-11-13T23:38:07Z</cp:lastPrinted>
  <dcterms:modified xsi:type="dcterms:W3CDTF">2011-01-31T22:00:40Z</dcterms:modified>
  <cp:revision>222</cp:revision>
  <dc:subject/>
  <dc:title>The Milky Way</dc:title>
</cp:coreProperties>
</file>