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616-D8FA-4518-BC38-0E8A7C7D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EC9-81C2-402F-8105-B8EA46FA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E7E-8FC0-48D5-9303-EB91067C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A18-0145-4EEF-A253-CD4227DA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C23-AC72-473D-84ED-1012356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FBB-3F90-4727-AD0C-4F3147FE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63D-5F50-4DAA-B71D-602099AF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94C-24DC-41A7-BE2A-D38CC0D2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F24-DFE9-49DC-BE51-019E9200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AD9-E9FC-46D2-90C8-6E18250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EB6-D699-4159-9FE0-37450AF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5A1-2D35-4C64-8F28-AA367F4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Click to edit the title text format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01C9-0710-4529-AEE0-085AE83D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71840" y="1294920"/>
            <a:ext cx="2971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66"/>
                </a:solidFill>
                <a:latin typeface="Marker Felt"/>
              </a:rPr>
              <a:t>The Milky Way Galax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609480"/>
            <a:ext cx="4581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Radio View of 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6172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adio map at a wavelength of 21 cm, tracing neutral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295280"/>
            <a:ext cx="6781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stellar dust does not absorb 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e can observe any direction throughout the Milky Way at radio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67820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Globular Cluster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838080"/>
            <a:ext cx="51814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91160" y="1143000"/>
            <a:ext cx="445284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7400" y="4892760"/>
            <a:ext cx="487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143000"/>
            <a:ext cx="312408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obular clusters are massive systems containing millions of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lobular clusters tell us two things about our galax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un is not at the center of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approx. age of the galaxy is 13 billion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5257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ular Cluster M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A View of Galaxies Similar to Our Milky Way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295280"/>
            <a:ext cx="78487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95680" y="3784680"/>
            <a:ext cx="4572000" cy="304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36576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brero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646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2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16765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also see gas and dust absorbing light in other galaxi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25780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nd as dark clouds in the spiral arms when we see a galaxy face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733920" y="2895120"/>
            <a:ext cx="1676160" cy="304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267080" y="5562360"/>
            <a:ext cx="2667240" cy="75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267080" y="5105520"/>
            <a:ext cx="213372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95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s dark dust lanes when we see a galaxy edge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66"/>
                </a:solidFill>
                <a:latin typeface="Marker Felt"/>
              </a:rPr>
              <a:t>Structure of the Milky Way Revealed</a:t>
            </a:r>
            <a:endParaRPr b="0" lang="en-US" sz="39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838080"/>
            <a:ext cx="7620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029200" y="2938320"/>
            <a:ext cx="4038480" cy="38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94360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stribution of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4952880"/>
            <a:ext cx="152388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467120" y="4952880"/>
            <a:ext cx="76212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009920" y="5333760"/>
            <a:ext cx="12193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62560" y="3352680"/>
            <a:ext cx="6094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343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stribution of stars and neutral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e Nature of Spiral Arm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838080"/>
            <a:ext cx="7391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396216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479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hance coincidence of small spiral galaxy in front of a large background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12952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piral arms appear bright (newly formed, massive stars!) against the dark sky backgrou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35812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ut dark (gas and dust in dense, star-forming clouds) against the bright background of the larg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114440" y="2743200"/>
            <a:ext cx="205740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362320"/>
            <a:ext cx="3200400" cy="175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733920" y="3428640"/>
            <a:ext cx="213336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123720" y="3429000"/>
            <a:ext cx="259092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Grand-Design Spiral Galaxie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57" name=""/>
          <p:cNvSpPr/>
          <p:nvPr/>
        </p:nvSpPr>
        <p:spPr>
          <a:xfrm>
            <a:off x="663480" y="838080"/>
            <a:ext cx="8458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3352680" cy="3301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4038840" cy="3191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0200" y="1295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nd-Design Spirals have two dominant spiral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9907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locculent (woolly) galaxies also have spiral patterns, but no dominant pair of spiral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638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6094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Milky Way Arms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4724640" cy="487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53080" y="1600200"/>
            <a:ext cx="25146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rion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erse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ygn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ntaur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agittarius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19320" y="914400"/>
            <a:ext cx="77500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Marker Felt"/>
              </a:rPr>
              <a:t>Orbital Motion in the Milky Way (2)</a:t>
            </a:r>
            <a:endParaRPr b="0" lang="en-US" sz="4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838080"/>
            <a:ext cx="81532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4701960" cy="4702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2438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133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676520"/>
            <a:ext cx="281952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un orbits around Galactic center with 220 k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 orbit takes approx. 240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ars closer to the galactic center orbit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tars farther out orbit more slow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Marker Felt"/>
              </a:rPr>
              <a:t>The Mass of the Milky Way (2)</a:t>
            </a:r>
            <a:endParaRPr b="0" lang="en-US" sz="4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80" name=""/>
          <p:cNvSpPr/>
          <p:nvPr/>
        </p:nvSpPr>
        <p:spPr>
          <a:xfrm>
            <a:off x="663480" y="838080"/>
            <a:ext cx="84582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486400" y="106668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Total mass in the disk of the Milky Way: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Approx. 100 billion solar ma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3714480" cy="5562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86400" y="320040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Additional mass in an extended ha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Total: Approx. 1 trillion solar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5029200"/>
            <a:ext cx="33526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Rounded MT Bold"/>
              </a:rPr>
              <a:t>Most of the mass is not emitting any ra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Dark Mat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80920" y="2514600"/>
            <a:ext cx="2514600" cy="28954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657240" y="2514600"/>
            <a:ext cx="243828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048120" y="4114800"/>
            <a:ext cx="259056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733560" y="4114800"/>
            <a:ext cx="1904760" cy="20574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ree things to keep in mind about the Milky Way: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874520"/>
            <a:ext cx="7010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is an ecosystem for star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is mostly empty space… but is rather dusty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Milky Way barely moves at all on the scale of a human lifetime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219320" y="1600200"/>
            <a:ext cx="75438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LEARNING TARGET: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ur Sun is one of hundreds of billions of stars in the Milky Way galaxy.  Many of these stars have planets orbiting around them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I ca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 Rounded MT Bold"/>
              </a:rPr>
              <a:t>identify our location inside of the Milky Way galaxy and I have a understanding of the size of the Universe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58164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838080"/>
            <a:ext cx="44956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28840" y="1066680"/>
            <a:ext cx="3429000" cy="3657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257800" y="1066680"/>
            <a:ext cx="346248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95280" y="4800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lmost everything we see in the night sky belongs to the Milky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85144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We see most of the Milky Way as a faint band of light across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7847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rom the outside, our Milky Way might look very much like our cosmic neighbor, the Andromeda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First Studies of the Galax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76201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7467480" cy="2598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657600" cy="1455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3962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rst attempt to unveil the structure of our Galaxy by William Herschel (1785), based on optic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7150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The shape of the Milky Way was believed to resemble a grindstone, with the sun close to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52880" y="2361960"/>
            <a:ext cx="762120" cy="3352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Marker Felt"/>
              </a:rPr>
              <a:t>Structure of the Milky Way</a:t>
            </a: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are living in a disk-shaped system of stars about 100,000 light years acros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e Sun is located 2/3rds of the way out to the edg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as, dust and star formations are concentrated to the disk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2952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The Structure of the Milky Way (1)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3880" y="914400"/>
            <a:ext cx="3865680" cy="579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867280" y="2895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3505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uclear Bul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1148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a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5562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lobular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572000" y="3124080"/>
            <a:ext cx="129528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572000" y="3276720"/>
            <a:ext cx="1447920" cy="213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581280" y="2819520"/>
            <a:ext cx="22860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733920" y="3733920"/>
            <a:ext cx="2133360" cy="1676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57600" y="4343400"/>
            <a:ext cx="220968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72000" y="4343400"/>
            <a:ext cx="1295280" cy="1600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343040" y="5715000"/>
            <a:ext cx="1523880" cy="76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81280" y="5715000"/>
            <a:ext cx="22860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38280" y="28951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4419720"/>
            <a:ext cx="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Marker Felt"/>
              </a:rPr>
              <a:t>The Structure of the Milky Way (2)</a:t>
            </a:r>
            <a:endParaRPr b="0" lang="en-US" sz="43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905120" y="1219320"/>
          <a:ext cx="6476760" cy="34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219320"/>
                    <a:ext cx="6476760" cy="34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38280" y="2438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ic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2971800"/>
            <a:ext cx="54864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actic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19720" y="3085920"/>
            <a:ext cx="609480" cy="6858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800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structure is hard to determine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69880" y="518148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) We are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562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) Distance measurements a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5943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3) Our view towards the center is obscured by gas and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66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4:28:17Z</dcterms:created>
  <dc:creator>Markus Boettcher</dc:creator>
  <dc:description/>
  <dc:language>en-US</dc:language>
  <cp:lastModifiedBy>asd</cp:lastModifiedBy>
  <cp:lastPrinted>2009-11-13T23:38:07Z</cp:lastPrinted>
  <dcterms:modified xsi:type="dcterms:W3CDTF">2011-01-31T22:00:40Z</dcterms:modified>
  <cp:revision>222</cp:revision>
  <dc:subject/>
  <dc:title>The Milky Way</dc:title>
</cp:coreProperties>
</file>