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C77-69A5-48F5-B92D-5077891B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FB5-CE65-4B17-88B8-01EB9A3C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F24-1DEB-4C47-8E4E-A1041125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070-889B-44AA-BEB7-694D5B16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EFD0-427C-40E4-82DA-ACE4C5C7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0CA-14FF-43A5-B4BA-8FE11D2E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E2F-3D58-4D08-88C2-C7006416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CED-AD00-4F7A-88EF-DC08F6EF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FF6-C21B-4133-8EE7-02537377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A26-A1C7-49DA-8BE7-FDAF795C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C243-2CC5-4C0F-9EE6-8F691F2B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357-0C8E-414E-B857-C9DCE114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Click to edit the title text format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5E1F-A957-4BA5-A49E-B7F8821D8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71840" y="1294920"/>
            <a:ext cx="2971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66"/>
                </a:solidFill>
                <a:latin typeface="Marker Felt"/>
              </a:rPr>
              <a:t>The Milky Way Galax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7920" y="609480"/>
            <a:ext cx="4581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Radio View of the Milky Wa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3880" y="61722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adio map at a wavelength of 21 cm, tracing neutral 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1295280"/>
            <a:ext cx="6781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erstellar dust does not absorb radio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We can observe any direction throughout the Milky Way at radio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67820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Globular Clusters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838080"/>
            <a:ext cx="5181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91160" y="1143000"/>
            <a:ext cx="445284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57400" y="4892760"/>
            <a:ext cx="487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143000"/>
            <a:ext cx="312408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lobular clusters are massive systems containing millions of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lobular clusters tell us two things about our galax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Sun is not at the center of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approx. age of the galaxy is 13 billion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52578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ular Cluster M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Marker Felt"/>
              </a:rPr>
              <a:t>A View of Galaxies Similar to Our Milky Way</a:t>
            </a:r>
            <a:endParaRPr b="0" lang="en-US" sz="43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295280"/>
            <a:ext cx="78487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3352680" cy="2496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495680" y="3784680"/>
            <a:ext cx="4572000" cy="3043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71600" y="3657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brero Gala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1520" y="6461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2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16765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e also see gas and dust absorbing light in other galaxi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25780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as dark clouds in the spiral arms when we see a galaxy face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733920" y="2895120"/>
            <a:ext cx="1676160" cy="304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267080" y="5562360"/>
            <a:ext cx="2667240" cy="75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267080" y="5105520"/>
            <a:ext cx="2133720" cy="457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28954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s dark dust lanes when we see a galaxy edge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3366"/>
                </a:solidFill>
                <a:latin typeface="Marker Felt"/>
              </a:rPr>
              <a:t>Structure of the Milky Way Revealed</a:t>
            </a:r>
            <a:endParaRPr b="0" lang="en-US" sz="39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838080"/>
            <a:ext cx="76201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029200" y="2938320"/>
            <a:ext cx="4038480" cy="384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943600" y="2438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stribution of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297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6019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4952880"/>
            <a:ext cx="152388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467120" y="4952880"/>
            <a:ext cx="76212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7009920" y="533376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62560" y="3352680"/>
            <a:ext cx="6094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4343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stribution of stars and neutral 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The Nature of Spiral Arms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838080"/>
            <a:ext cx="7391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396216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4479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hance coincidence of small spiral galaxy in front of a large background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129528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piral arms appear bright (newly formed, massive stars!) against the dark sky backgrou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358128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ut dark (gas and dust in dense, star-forming clouds) against the bright background of the larg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114440" y="2743200"/>
            <a:ext cx="2057400" cy="152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362320"/>
            <a:ext cx="3200400" cy="1752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733920" y="3428640"/>
            <a:ext cx="213336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123720" y="3429000"/>
            <a:ext cx="259092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Grand-Design Spiral Galaxies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57" name=""/>
          <p:cNvSpPr/>
          <p:nvPr/>
        </p:nvSpPr>
        <p:spPr>
          <a:xfrm>
            <a:off x="663480" y="838080"/>
            <a:ext cx="84582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3352680" cy="3301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952880" y="2895480"/>
            <a:ext cx="4038840" cy="3191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00200" y="12952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and-Design Spirals have two dominant spiral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99072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locculent (woolly) galaxies also have spiral patterns, but no dominant pair of spiral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5638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6094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Milky Way Arms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4724640" cy="4876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53080" y="1600200"/>
            <a:ext cx="25146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rion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erseus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ygnus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ntaurus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agittarius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219320" y="914400"/>
            <a:ext cx="77500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Marker Felt"/>
              </a:rPr>
              <a:t>Orbital Motion in the Milky Way (2)</a:t>
            </a:r>
            <a:endParaRPr b="0" lang="en-US" sz="4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838080"/>
            <a:ext cx="81532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4701960" cy="4702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29000" y="2743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24382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2133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ial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1676520"/>
            <a:ext cx="281952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un orbits around Galactic center with 220 k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1 orbit takes approx. 240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tars closer to the galactic center orbit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tars farther out orbit more slow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Marker Felt"/>
              </a:rPr>
              <a:t>The Mass of the Milky Way (2)</a:t>
            </a:r>
            <a:endParaRPr b="0" lang="en-US" sz="4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80" name=""/>
          <p:cNvSpPr/>
          <p:nvPr/>
        </p:nvSpPr>
        <p:spPr>
          <a:xfrm>
            <a:off x="663480" y="838080"/>
            <a:ext cx="84582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486400" y="1066680"/>
            <a:ext cx="3352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Rounded MT Bold"/>
              </a:rPr>
              <a:t>Total mass in the disk of the Milky Way: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Approx. 100 billion solar ma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447920" y="990720"/>
            <a:ext cx="3714480" cy="5562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486400" y="3200400"/>
            <a:ext cx="3352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Rounded MT Bold"/>
              </a:rPr>
              <a:t>Additional mass in an extended ha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Total: Approx. 1 trillion solar m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5029200"/>
            <a:ext cx="335268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Rounded MT Bold"/>
              </a:rPr>
              <a:t>Most of the mass is not emitting any rad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Rounded MT Bold"/>
              </a:rPr>
              <a:t>Dark Mat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580920" y="2514600"/>
            <a:ext cx="2514600" cy="28954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657240" y="2514600"/>
            <a:ext cx="2438280" cy="6858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048120" y="4114800"/>
            <a:ext cx="2590560" cy="6858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733560" y="4114800"/>
            <a:ext cx="1904760" cy="20574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Three things to keep in mind about the Milky Way: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874520"/>
            <a:ext cx="7010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Milky Way is an ecosystem for star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Milky Way is mostly empty space… but is rather dusty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Milky Way barely moves at all on the scale of a human lifetime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219320" y="1600200"/>
            <a:ext cx="75438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LEARNING TARGET: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ur Sun is one of hundreds of billions of stars in the Milky Way galaxy.  Many of these stars have planets orbiting around them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I ca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 Rounded MT Bold"/>
              </a:rPr>
              <a:t>identify our location inside of the Milky Way galaxy and I have a understanding of the size of the Universe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58164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The Milky Wa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838080"/>
            <a:ext cx="44956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28840" y="1066680"/>
            <a:ext cx="342900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257800" y="1066680"/>
            <a:ext cx="346248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95280" y="48006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lmost everything we see in the night sky belongs to the Milky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85144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e see most of the Milky Way as a faint band of light across th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478476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rom the outside, our Milky Way might look very much like our cosmic neighbor, the Andromeda gala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First Studies of the Galax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838080"/>
            <a:ext cx="76201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7467480" cy="2598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486400" y="3200400"/>
            <a:ext cx="3657600" cy="1455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396252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rst attempt to unveil the structure of our Galaxy by William Herschel (1785), based on optical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57150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shape of the Milky Way was believed to resemble a grindstone, with the sun close to th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952880" y="2361960"/>
            <a:ext cx="762120" cy="3352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Structure of the Milky Wa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are living in a disk-shaped system of stars about 100,000 light years acros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Sun is located 2/3rds of the way out to the edg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as, dust and star formations are concentrated to the disk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43000" y="1295280"/>
            <a:ext cx="80010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Marker Felt"/>
              </a:rPr>
              <a:t>The Structure of the Milky Way (1)</a:t>
            </a:r>
            <a:endParaRPr b="0" lang="en-US" sz="43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3880" y="914400"/>
            <a:ext cx="3865680" cy="5791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867280" y="2895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3505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uclear Bul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1148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a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5562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lobular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572000" y="3124080"/>
            <a:ext cx="129528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572000" y="3276720"/>
            <a:ext cx="1447920" cy="21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581280" y="2819520"/>
            <a:ext cx="22860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733920" y="3733920"/>
            <a:ext cx="2133360" cy="1676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657600" y="4343400"/>
            <a:ext cx="220968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572000" y="4343400"/>
            <a:ext cx="1295280" cy="1600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343040" y="5715000"/>
            <a:ext cx="152388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81280" y="5715000"/>
            <a:ext cx="22860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438280" y="289512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44197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Marker Felt"/>
              </a:rPr>
              <a:t>The Structure of the Milky Way (2)</a:t>
            </a:r>
            <a:endParaRPr b="0" lang="en-US" sz="43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905120" y="1219320"/>
          <a:ext cx="6476760" cy="349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219320"/>
                    <a:ext cx="6476760" cy="34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43828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actic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2971800"/>
            <a:ext cx="54864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actic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19720" y="3085920"/>
            <a:ext cx="609480" cy="6858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800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structure is hard to determine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69880" y="518148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) We are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5562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) Distance measurements are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59436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3) Our view towards the center is obscured by gas and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4:28:17Z</dcterms:created>
  <dc:creator>Markus Boettcher</dc:creator>
  <dc:description/>
  <dc:language>en-US</dc:language>
  <cp:lastModifiedBy>asd</cp:lastModifiedBy>
  <cp:lastPrinted>2009-11-13T23:38:07Z</cp:lastPrinted>
  <dcterms:modified xsi:type="dcterms:W3CDTF">2011-01-31T22:00:40Z</dcterms:modified>
  <cp:revision>222</cp:revision>
  <dc:subject/>
  <dc:title>The Milky Way</dc:title>
</cp:coreProperties>
</file>