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500-3DBB-4D9B-A33A-68AAE50C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E80-7A9C-4C20-8911-7E4F8A2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A96-1707-4934-BD9A-882F0EF7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466-D38D-41BE-8F57-43D11E3C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9E56-7E92-4C20-84A6-B871EEF1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A48-97F8-4091-A97C-483E8175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33AA-06DB-423C-AF29-20134A8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C591-D679-459B-9704-C89778E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D1D6-206F-4E0C-8CA8-085962B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62E-5DD9-43F9-B7A3-07155911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F376-B95F-430F-A008-8528930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FCD-7F3E-40B4-AFDB-AECAF36D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86C4-54C0-43BF-8EC2-58F9A4F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D64-3CAF-4FE2-A591-1DA1E21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AF2-458D-425B-9130-DACC034F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98E-2164-4D29-81EF-6D259CD8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B5C-EACA-4EFA-A773-B555DD94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91C-303D-4451-A865-48DDEFD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506-F3EA-409E-94C8-5487F30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E69-2349-4CC3-9666-0CBEDFA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23A-2F29-4417-BEB1-E0D7EA6D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8A7-1AA1-4558-BEFE-87F5D37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B77-9A23-462C-8666-59F0BCDF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A42-7624-4044-AB8A-7B1323BA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BC9-188D-4F33-A36E-E92FF26A3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56204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254-B2CD-4110-AC94-09F6CA40D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92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e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4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e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e4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4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5880" y="685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7913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419720"/>
            <a:ext cx="83055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pperplate"/>
              </a:rPr>
              <a:t>May the Force be with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is diagram, there are normal (applied) and gravitational forces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720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egg is free-falling from a nest in a tree. Neglect air resistance. Draw a free-body diagram showing the forces involved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is the only force acting on the egg as it fall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029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lying squirrel is gliding (no wing flaps) from a tree to the ground at constant velocity. Consider air resistance. A free body diagram for this situation looks like…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pulls down on the squirrel while air resistance keeps the squirrel in the air for a while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6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ootball is moving upwards toward its peak after having been booted by the punter. Draw a free-body diagra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e force of gravity is the only force described. It is not a windy day (no air resistance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w let’s take a look at what happens when unbalanced forces do not become completely balanced (or cancelled) by other individual forces.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unbalanced forces exists when the vertical and horizontal forces do not cancel each other ou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tice the upward force of 1200 Newtons (N) is more than gravity (800 N). The net force is 400 N up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55412" b="45671"/>
          <a:stretch/>
        </p:blipFill>
        <p:spPr>
          <a:xfrm>
            <a:off x="4572000" y="1752480"/>
            <a:ext cx="3995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nother way to look at balances and unbalanced forc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1290600"/>
            <a:ext cx="57880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I Can….. demonstrate an understanding of motion and force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Motion and forces understand I will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lete #1 on your force diagram workshee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are your answer to your neighbor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0 Newtons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No force because this is balanced.  No movement occurs!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Complete the remainder of the force diagram worksheet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A good job do you will!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91000" y="23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A push or pull will cause object to speed up, slow down, or change direction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Basically, objects just keep on doing whatever they are doing unless they are acted upon by an unbalanced force.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mon Examp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Ketchup stays in the bottom (at rest) until you bang (outside force) on the end of the botto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headrest in a car prevents whiplash injuries during a rear-end collision ( your head goes forward and then jerks backward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agine your sister falls d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e real world, many forces may act on a object at the same time. 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tugs at your sist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Wind pushes against h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But only an unbalanced force coming from a particular direction will cause her to fall down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You can think of forces as arrows whose length indicates the amount and the arrow head points in the direction in which the force is acting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added together to get a larg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subtracted from each other to make a small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 motion results from the action of balanced forces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book is at rest on a table top. Diagram the forces acting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9:05:58Z</dcterms:created>
  <dc:creator>Linda S Hodges</dc:creator>
  <dc:description/>
  <dc:language>en-US</dc:language>
  <cp:lastModifiedBy>hms</cp:lastModifiedBy>
  <dcterms:modified xsi:type="dcterms:W3CDTF">2010-02-09T16:33:08Z</dcterms:modified>
  <cp:revision>31</cp:revision>
  <dc:subject/>
  <dc:title>Slide 1</dc:title>
</cp:coreProperties>
</file>