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036-BDEE-48B2-B3C4-014EF167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8FF-9E7F-4864-84DD-173756B3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E31-527D-4312-B67E-161CCB3A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D16-2D2A-45EB-AA6E-2F5ED8E1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997F-A479-4601-880B-EF30BBC3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27BB-F397-47D3-B0AD-1A981C56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406B-19CB-4260-9826-0F37951D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568A-50DB-488A-82E1-455FC477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704C-CEAC-450E-A56A-E6C5E0CE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CD7C-740C-48D4-9ACA-63187BB0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D8B7-1180-409D-9024-0804D001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A2B-C6E6-46EE-9DEC-90833D42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1F34-0EC2-4655-B665-339E190E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C611-09E0-44ED-BAAE-4EB9EFBB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DD01-47AF-4267-9D79-19C252AF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EBE0-B983-4D58-AC54-750ACF50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300B-E053-448E-90DC-E184454C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031-7182-4A36-8717-A561EBB1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405-63AC-41E5-88AD-EE9C4E3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BB9-5B94-45C8-B22A-3A01C1D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5FF-05C4-43E8-BB3E-023C875E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903-F107-4F09-BAF8-D057254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AD7-231A-4566-9DD2-DD3D5A5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4B6-E8A3-4C1A-8531-4180FC0F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3032-8932-435E-8507-2C3F88607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56204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8483-0D1B-4AC3-B958-024805C9A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92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e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47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e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e47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47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5880" y="685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7913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419720"/>
            <a:ext cx="83055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Copperplate"/>
              </a:rPr>
              <a:t>May the Force be with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In this diagram, there are normal (applied) and gravitational forces on the book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1720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n egg is free-falling from a nest in a tree. Neglect air resistance. Draw a free-body diagram showing the forces involved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is the only force acting on the egg as it falls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029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flying squirrel is gliding (no wing flaps) from a tree to the ground at constant velocity. Consider air resistance. A free body diagram for this situation looks like…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pulls down on the squirrel while air resistance keeps the squirrel in the air for a while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66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football is moving upwards toward its peak after having been booted by the punter. Draw a free-body diagram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The force of gravity is the only force described. It is not a windy day (no air resistance)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w let’s take a look at what happens when unbalanced forces do not become completely balanced (or cancelled) by other individual forces. 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n unbalanced forces exists when the vertical and horizontal forces do not cancel each other out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tice the upward force of 1200 Newtons (N) is more than gravity (800 N). The net force is 400 N up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55412" b="45671"/>
          <a:stretch/>
        </p:blipFill>
        <p:spPr>
          <a:xfrm>
            <a:off x="4572000" y="1752480"/>
            <a:ext cx="3995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nother way to look at balances and unbalanced forc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14600" y="1290600"/>
            <a:ext cx="57880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e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9e47d"/>
                </a:solidFill>
                <a:latin typeface="Arial"/>
              </a:rPr>
              <a:t>I Can….. demonstrate an understanding of motion and forces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Motion and forces understand I will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-Yoda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your 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omplete #1 on your force diagram worksheet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ompare your answer to your neighbor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0 Newtons</a:t>
            </a:r>
            <a:endParaRPr b="0" lang="en-US" sz="54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No force because this is balanced.  No movement occurs!</a:t>
            </a:r>
            <a:endParaRPr b="0" lang="en-US" sz="54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your 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Complete the remainder of the force diagram worksheet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pperplate"/>
              </a:rPr>
              <a:t>A good job do you will!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pperplate"/>
              </a:rPr>
              <a:t>-Yoda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91000" y="23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A push or pull will cause object to speed up, slow down, or change direction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e9e47d"/>
                </a:solidFill>
                <a:latin typeface="Arial"/>
              </a:rPr>
              <a:t>Basically, objects just keep on doing whatever they are doing unless they are acted upon by an unbalanced force.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mmon Examp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Ketchup stays in the bottom (at rest) until you bang (outside force) on the end of the bottom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headrest in a car prevents whiplash injuries during a rear-end collision ( your head goes forward and then jerks backward)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agine your sister falls d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In the real world, many forces may act on a object at the same time.  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tugs at your sister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Wind pushes against her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But only an unbalanced force coming from a particular direction will cause her to fall down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You can think of forces as arrows whose length indicates the amount and the arrow head points in the direction in which the force is acting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rces can be added together to get a larger force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rces can be subtracted from each other to make a smaller force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 motion results from the action of balanced forces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book is at rest on a table top. Diagram the forces acting on the book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9:05:58Z</dcterms:created>
  <dc:creator>Linda S Hodges</dc:creator>
  <dc:description/>
  <dc:language>en-US</dc:language>
  <cp:lastModifiedBy>hms</cp:lastModifiedBy>
  <dcterms:modified xsi:type="dcterms:W3CDTF">2010-02-09T16:33:08Z</dcterms:modified>
  <cp:revision>31</cp:revision>
  <dc:subject/>
  <dc:title>Slide 1</dc:title>
</cp:coreProperties>
</file>