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C59-74F0-4F8D-9F5B-EA2DC13A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1EA-B8A0-4F8E-8732-3EC236F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1A1-EE8D-48CB-9717-78D4F509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00E-B9C7-4C64-B329-73B0E131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DE2-BC64-4E16-BE04-2AB530CD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F134-4AA8-4724-B8FD-49E1500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DC7B-9ADA-4973-A830-3F26659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9766-2824-4BA6-8FD1-61095364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F5EC-988B-4685-B652-444632A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203-DD64-4437-8798-C2C633F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D99-45C6-458B-AB0E-35164C2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D2B-BC6C-4ED0-B6AC-8B3E439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F56-6521-42B7-B279-C943C1C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F10E-D71E-4D43-9B44-F999840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BC19-600E-4C52-9228-181518E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3D22-5023-4DD9-BEC0-3CE9F5C1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E32-43A3-4D2F-8982-AFBCDB2E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1A8-36AD-4EF2-A36F-4705266D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BC1-644F-400D-91FF-7EF32BA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89E-6A4F-49BD-8A0E-4AE9B99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33E-C350-4D19-A706-25C65C2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232-D0EA-40AA-A874-757FF97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0E2-1365-4B7E-B310-7644AC3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0B9-E081-4AA0-B987-3F65B59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B6E1-24EF-431B-91DA-E59254460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56204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54A-D2A5-414F-A9F2-901B02F08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e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e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e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5880" y="685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7913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419720"/>
            <a:ext cx="83055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pperplate"/>
              </a:rPr>
              <a:t>May the Force be with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is diagram, there are normal (applied) and gravitational forces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egg is free-falling from a nest in a tree. Neglect air resistance. Draw a free-body diagram showing the forces involved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is the only force acting on the egg as it fall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029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lying squirrel is gliding (no wing flaps) from a tree to the ground at constant velocity. Consider air resistance. A free body diagram for this situation looks like…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pulls down on the squirrel while air resistance keeps the squirrel in the air for a while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6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ootball is moving upwards toward its peak after having been booted by the punter. Draw a free-body diagra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e force of gravity is the only force described. It is not a windy day (no air resistance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w let’s take a look at what happens when unbalanced forces do not become completely balanced (or cancelled) by other individual forces.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unbalanced forces exists when the vertical and horizontal forces do not cancel each other ou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tice the upward force of 1200 Newtons (N) is more than gravity (800 N). The net force is 400 N up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55412" b="45671"/>
          <a:stretch/>
        </p:blipFill>
        <p:spPr>
          <a:xfrm>
            <a:off x="4572000" y="1752480"/>
            <a:ext cx="3995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nother way to look at balances and unbalanced forc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1290600"/>
            <a:ext cx="57880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I Can….. demonstrate an understanding of motion and force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Motion and forces understand I will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lete #1 on your force diagram workshee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are your answer to your neighbor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0 Newtons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No force because this is balanced.  No movement occurs!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Complete the remainder of the force diagram worksheet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A good job do you will!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91000" y="23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A push or pull will cause object to speed up, slow down, or change direction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Basically, objects just keep on doing whatever they are doing unless they are acted upon by an unbalanced force.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on Examp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Ketchup stays in the bottom (at rest) until you bang (outside force) on the end of the botto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headrest in a car prevents whiplash injuries during a rear-end collision ( your head goes forward and then jerks backward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agine your sister falls d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e real world, many forces may act on a object at the same time. 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tugs at your sist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Wind pushes against h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But only an unbalanced force coming from a particular direction will cause her to fall down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You can think of forces as arrows whose length indicates the amount and the arrow head points in the direction in which the force is acting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added together to get a larg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subtracted from each other to make a small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 motion results from the action of balanced forces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book is at rest on a table top. Diagram the forces acting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9:05:58Z</dcterms:created>
  <dc:creator>Linda S Hodges</dc:creator>
  <dc:description/>
  <dc:language>en-US</dc:language>
  <cp:lastModifiedBy>hms</cp:lastModifiedBy>
  <dcterms:modified xsi:type="dcterms:W3CDTF">2010-02-09T16:33:08Z</dcterms:modified>
  <cp:revision>31</cp:revision>
  <dc:subject/>
  <dc:title>Slide 1</dc:title>
</cp:coreProperties>
</file>