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3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D6D0-8AD5-4529-A007-D8AAE8AA8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7789-51B7-4F39-A047-B5A0FC4B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B739-829A-43B6-9C09-BD50B598C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4852-C953-45A7-8E23-82E7E00F9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B292-0131-47B5-830B-45D9AF646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1BCB-5896-4F85-A649-B6978D40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1F65-2C4C-4B1C-A664-8C0C3CFB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7C84-3EFB-48F0-8EC4-9793DE3E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CB76-094E-4BA3-B60C-8C44C16D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828800" y="30456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1454-748A-4A61-B694-51277BD3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1082-0AA8-42E7-BDCB-CC977A05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D5BE-88F4-4381-9D11-DBA87AEB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8F69-3FCE-4637-B3A5-7DF6E4AA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783C-C4AD-479F-949D-60DEA06E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4752-D6B4-4F00-AAE3-6806C673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472E-03A9-433E-A2EB-995870CA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E463-EA7A-4C83-8076-4D7E6A5F1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6E33-69AB-40BE-8B4D-9FEC7BA9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9501-B74C-45C5-BC08-9DA7BDF3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08F2-FB12-42A7-88A1-D4B1C0D5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8800" y="30456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B62A-8CD5-4BF0-9273-72A3D6DC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0E11-B398-41BD-B6ED-1B18121E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FC61-7FDC-4511-BD76-BB929798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E6D2-1209-414D-9C1F-A53F52FF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9e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9e4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4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1920-4B2C-43A0-82C5-5AF16B142C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1562040" cy="128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8D48-49C8-4426-9D94-9F350C7712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292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e47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9e47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9e47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e47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9e47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9e47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e47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9e47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9e47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e47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9e47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e47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9e47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e47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5880" y="6858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5791320"/>
            <a:ext cx="7620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4419720"/>
            <a:ext cx="830556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cc00"/>
                </a:solidFill>
                <a:latin typeface="Copperplate"/>
              </a:rPr>
              <a:t>May the Force be with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blem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In this diagram, there are normal (applied) and gravitational forces on the book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417204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blem 2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An egg is free-falling from a nest in a tree. Neglect air resistance. Draw a free-body diagram showing the forces involved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Gravity is the only force acting on the egg as it falls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809880" y="1600200"/>
            <a:ext cx="502920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blem 3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A flying squirrel is gliding (no wing flaps) from a tree to the ground at constant velocity. Consider air resistance. A free body diagram for this situation looks like…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Gravity pulls down on the squirrel while air resistance keeps the squirrel in the air for a while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3668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blem 5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A football is moving upwards toward its peak after having been booted by the punter. Draw a free-body diagram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The force of gravity is the only force described. It is not a windy day (no air resistance)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48320" y="1447920"/>
            <a:ext cx="411480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et For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Now let’s take a look at what happens when unbalanced forces do not become completely balanced (or cancelled) by other individual forces. 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An unbalanced forces exists when the vertical and horizontal forces do not cancel each other out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xample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Notice the upward force of 1200 Newtons (N) is more than gravity (800 N). The net force is 400 N up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55412" b="45671"/>
          <a:stretch/>
        </p:blipFill>
        <p:spPr>
          <a:xfrm>
            <a:off x="4572000" y="1752480"/>
            <a:ext cx="39956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nother way to look at balances and unbalanced forc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14600" y="1290600"/>
            <a:ext cx="578808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e47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9e47d"/>
                </a:solidFill>
                <a:latin typeface="Arial"/>
              </a:rPr>
              <a:t>I Can….. demonstrate an understanding of motion and forces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Copperplate"/>
              </a:rPr>
              <a:t>Motion and forces understand I will.</a:t>
            </a:r>
            <a:endParaRPr b="0" lang="en-US" sz="4000" spc="-1" strike="noStrike">
              <a:solidFill>
                <a:srgbClr val="e9e47d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Copperplate"/>
              </a:rPr>
              <a:t>	</a:t>
            </a:r>
            <a:r>
              <a:rPr b="1" lang="en-US" sz="4000" spc="-1" strike="noStrike">
                <a:solidFill>
                  <a:srgbClr val="99cc00"/>
                </a:solidFill>
                <a:latin typeface="Copperplate"/>
              </a:rPr>
              <a:t>	</a:t>
            </a:r>
            <a:r>
              <a:rPr b="1" lang="en-US" sz="4000" spc="-1" strike="noStrike">
                <a:solidFill>
                  <a:srgbClr val="99cc00"/>
                </a:solidFill>
                <a:latin typeface="Copperplate"/>
              </a:rPr>
              <a:t>	</a:t>
            </a:r>
            <a:r>
              <a:rPr b="1" lang="en-US" sz="4000" spc="-1" strike="noStrike">
                <a:solidFill>
                  <a:srgbClr val="99cc00"/>
                </a:solidFill>
                <a:latin typeface="Copperplate"/>
              </a:rPr>
              <a:t>	</a:t>
            </a:r>
            <a:r>
              <a:rPr b="1" lang="en-US" sz="4000" spc="-1" strike="noStrike">
                <a:solidFill>
                  <a:srgbClr val="99cc00"/>
                </a:solidFill>
                <a:latin typeface="Copperplate"/>
              </a:rPr>
              <a:t>-Yoda</a:t>
            </a:r>
            <a:endParaRPr b="0" lang="en-US" sz="40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n your own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Complete #1 on your force diagram worksheet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Compare your answer to your neighbor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nswer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0 Newtons</a:t>
            </a:r>
            <a:endParaRPr b="0" lang="en-US" sz="5400" spc="-1" strike="noStrike">
              <a:solidFill>
                <a:srgbClr val="e9e47d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No force because this is balanced.  No movement occurs!</a:t>
            </a:r>
            <a:endParaRPr b="0" lang="en-US" sz="54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n your own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47d"/>
                </a:solidFill>
                <a:latin typeface="Arial"/>
              </a:rPr>
              <a:t>Complete the remainder of the force diagram worksheet.</a:t>
            </a:r>
            <a:endParaRPr b="0" lang="en-US" sz="4000" spc="-1" strike="noStrike">
              <a:solidFill>
                <a:srgbClr val="e9e47d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47d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Copperplate"/>
              </a:rPr>
              <a:t>A good job do you will!</a:t>
            </a:r>
            <a:endParaRPr b="0" lang="en-US" sz="4800" spc="-1" strike="noStrike">
              <a:solidFill>
                <a:srgbClr val="e9e47d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Copperplate"/>
              </a:rPr>
              <a:t>-Yoda</a:t>
            </a:r>
            <a:endParaRPr b="0" lang="en-US" sz="4800" spc="-1" strike="noStrike">
              <a:solidFill>
                <a:srgbClr val="e9e47d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91000" y="2390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47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e9e47d"/>
                </a:solidFill>
                <a:latin typeface="Arial"/>
              </a:rPr>
              <a:t>A push or pull will cause object to speed up, slow down, or change direction.</a:t>
            </a:r>
            <a:endParaRPr b="0" lang="en-US" sz="40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914400" y="2514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9e47d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e9e47d"/>
                </a:solidFill>
                <a:latin typeface="Arial"/>
              </a:rPr>
              <a:t>Basically, objects just keep on doing whatever they are doing unless they are acted upon by an unbalanced force.</a:t>
            </a:r>
            <a:endParaRPr b="0" lang="en-US" sz="48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ommon Exampl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9e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Ketchup stays in the bottom (at rest) until you bang (outside force) on the end of the bottom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9e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A headrest in a car prevents whiplash injuries during a rear-end collision ( your head goes forward and then jerks backward)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magine your sister falls down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In the real world, many forces may act on a object at the same time.  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Gravity tugs at your sister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Wind pushes against her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But only an unbalanced force coming from a particular direction will cause her to fall down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You can think of forces as arrows whose length indicates the amount and the arrow head points in the direction in which the force is acting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Forces can be added together to get a larger force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e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Forces can be subtracted from each other to make a smaller force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e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No motion results from the action of balanced forces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blem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47d"/>
                </a:solidFill>
                <a:latin typeface="Arial"/>
              </a:rPr>
              <a:t>A book is at rest on a table top. Diagram the forces acting on the book.</a:t>
            </a:r>
            <a:endParaRPr b="0" lang="en-US" sz="3200" spc="-1" strike="noStrike">
              <a:solidFill>
                <a:srgbClr val="e9e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7T19:05:58Z</dcterms:created>
  <dc:creator>Linda S Hodges</dc:creator>
  <dc:description/>
  <dc:language>en-US</dc:language>
  <cp:lastModifiedBy>hms</cp:lastModifiedBy>
  <dcterms:modified xsi:type="dcterms:W3CDTF">2010-02-09T16:33:08Z</dcterms:modified>
  <cp:revision>31</cp:revision>
  <dc:subject/>
  <dc:title>Slide 1</dc:title>
</cp:coreProperties>
</file>