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BFCF5-3380-4A03-8A3E-C7DAF910D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8"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DDDD1-3C23-4672-8E13-D6EA3A42A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1"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A1349-DA5B-4021-B795-B0993437D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6"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B6B3C-D924-4D9E-BEFD-CEFC69B0D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51DDC-F196-4AAF-974E-1BE566D65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49"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C334E-C9E3-4763-94CD-5CD430BFA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717E6-640F-4F14-A30F-DA4253ED9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3"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FE275-27D0-4008-81B0-DC4F94174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6CB77-18C6-475D-A699-AFAA83F20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A32DC-0320-45A3-8290-3048DEF44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8"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338BB-B290-4B01-9D1C-50BDB8439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7837F-24D7-45FA-8D7A-A244B108B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2"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29134-0CD6-474D-8DC3-F6E05B439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724CA-FD30-4FA2-87EE-17B2E74CC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0"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9FD9C-F60C-4372-BC67-32B0A3B22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3"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5FC4B-57BE-47B0-9A71-B46C1F8B3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8"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B37B0-EAB3-4A2A-8544-9E36E1882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5105A-F3F1-4324-B2FD-E4AA88795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1"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14191-37DD-4D9A-87F6-ACC72565E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0EFCB-2CD2-429C-A287-796EFB0D3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1A707-382D-41E7-B054-E24BEBAF3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06F00-DB54-45FB-9669-7F12D2BBA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0"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B9B38-2A5E-4D65-8A96-6629E1E61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4"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7341E-E0F6-4CE2-B323-16BE02EEF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Click to edit the title text format</a:t>
            </a:r>
            <a:endParaRPr b="0" lang="en-US" sz="4400" spc="-1" strike="noStrike">
              <a:solidFill>
                <a:srgbClr val="000c44"/>
              </a:solidFill>
              <a:latin typeface="Arial"/>
            </a:endParaRPr>
          </a:p>
        </p:txBody>
      </p:sp>
      <p:sp>
        <p:nvSpPr>
          <p:cNvPr id="2"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1430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3DAA-1FE7-4426-9356-78C540D53F4D}"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Click to edit the title text format</a:t>
            </a:r>
            <a:endParaRPr b="1" lang="en-US" sz="4400" spc="-1" strike="noStrike">
              <a:solidFill>
                <a:srgbClr val="000c44"/>
              </a:solidFill>
              <a:latin typeface="Arial"/>
            </a:endParaRPr>
          </a:p>
        </p:txBody>
      </p:sp>
      <p:sp>
        <p:nvSpPr>
          <p:cNvPr id="44"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400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86ED-0570-48C2-82A5-6390C88E98BA}"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Alien Invasion</a:t>
            </a:r>
            <a:endParaRPr b="1" lang="en-US" sz="4400" spc="-1" strike="noStrike">
              <a:solidFill>
                <a:srgbClr val="000c44"/>
              </a:solidFill>
              <a:latin typeface="Arial"/>
            </a:endParaRPr>
          </a:p>
        </p:txBody>
      </p:sp>
      <p:sp>
        <p:nvSpPr>
          <p:cNvPr id="85"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happen if a non-native species were introduced into the wi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102"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parasite that causes whirling disease in fishes, introduced to rainbow trout in a hatchery in Pennsylvania, has now spread to many states and devastated the rainbow trout sport fishery in Montana and Colorado.</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t fishing is almost nonexistent in some American states because of the para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olutions…</a:t>
            </a:r>
            <a:endParaRPr b="0" lang="en-US" sz="4400" spc="-1" strike="noStrike">
              <a:solidFill>
                <a:srgbClr val="000c44"/>
              </a:solidFill>
              <a:latin typeface="Arial"/>
            </a:endParaRPr>
          </a:p>
        </p:txBody>
      </p:sp>
      <p:sp>
        <p:nvSpPr>
          <p:cNvPr id="104"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potentially damaging invaders out is the most cost-effective way to deal with introduced species.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ing common pathways by which invaders reach our shores can slow or stop their entry. Ship ballast water, wooden packing material, and horticultural plants are three prominent pathways for inva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olutions…</a:t>
            </a:r>
            <a:endParaRPr b="0" lang="en-US" sz="4400" spc="-1" strike="noStrike">
              <a:solidFill>
                <a:srgbClr val="000c44"/>
              </a:solidFill>
              <a:latin typeface="Arial"/>
            </a:endParaRPr>
          </a:p>
        </p:txBody>
      </p:sp>
      <p:sp>
        <p:nvSpPr>
          <p:cNvPr id="106"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ecies that is introduced despite precautions can sometimes be eradicated, especially if discovered quickly.</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ical, chemical, and mechanical control of invasives have had limited success.</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cooperation and management is the best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87"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ways in which the introduction of non-native or exotic species negatively affects our environment and the diversity of life on our plan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8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d to other threats to biodiversity, invasive introduced species rank second only to habitat destruction, such as forest clear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all 1,880 imperiled species in the United States, 49% are endangered because of introduced species alone or because of their impact combined with other forces.</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fact, introduced species are a greater threat to native biodiversity than pollution, harvest, and disease comb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3"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through damage to agriculture, forestry, fisheries, and other human enterprises, introduced species inflict an enormous economic cost, estimated at $137 billion per year to the U.S. economy alone.</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course, some introduced species (such as most of our food crops and pets) are beneficial. However, others are very dama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7d4b"/>
                </a:solidFill>
                <a:latin typeface="Arial Black"/>
              </a:rPr>
              <a:t>the greatest impact is caused by introduced species that change an entire habitat, because many native species thrive only in a particular hab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96"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Asian chestnut blight fungus virtually eliminated American chestnut from over 180 million acres of eastern United States forests in the first half of the 20th century, it was a disaster for many animals that were highly adapted to live in forests dominated by this tree species. For example, ten moth species that could live only on chestnut trees became extin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98"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the Australian paperbark tree has replaced native plants, such as sawgrass, over 400,000 acres of south Florida, because it has a combination of traits (for example, spongy outer bark and flammable leaves and litter) that increase fire frequency and intensity. Many birds and mammals adapted to the native plant community declined in abundance as paperbark spr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100"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ebra mussel, accidentally brought to the United States from southern Russia, transforms aquatic habitats by filtering prodigious amounts of water (thereby lowering densities of planktonic organisms) and settling in dense masses over vast areas. At least thirty freshwater mussel species are threatened with extinction by the zebra muss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4T23:44:35Z</dcterms:created>
  <dc:creator>hms</dc:creator>
  <dc:description/>
  <dc:language>en-US</dc:language>
  <cp:lastModifiedBy>hms</cp:lastModifiedBy>
  <dcterms:modified xsi:type="dcterms:W3CDTF">2010-04-25T00:09:26Z</dcterms:modified>
  <cp:revision>1</cp:revision>
  <dc:subject/>
  <dc:title>Alien Invasion</dc:title>
</cp:coreProperties>
</file>