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22D91-FF71-43A4-B752-ECF2859CD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AC0C-546B-4BE3-A272-E793F6A34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5058E-2968-4699-A53E-0F2B8C1D8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2B8E-5C75-4A83-B3C7-F6409A08C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E08CD-424F-4A8C-A3CA-70E727332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62B80-8678-42FB-910B-A6D6D71E0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DD82C-6187-428E-A5D6-C1E9536C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DB843-E2C4-4248-856F-63B853984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DE9C8-0F22-48C4-98C9-939E4EB2A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533C-DD93-4AC7-871F-86064675B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95F48-30F8-4BE3-8BDC-A84BFE74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DDBC-42B3-4BD4-BBDF-421A72FF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1C6FA-EBDB-4A3E-84CE-905FBC910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82796-63C8-4F5D-8113-05117A63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AEDA6-52DA-4EFD-B179-B76503A5F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7F4E6-950F-4606-8E55-8D37C4226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5A5CA-4F95-474F-9076-B5CFC9361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97E1C-9BFF-4E14-B381-C80F9346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6492-8E85-4BF8-B591-D6343FFA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A934-F164-4ECD-96FA-478E425F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350B-300C-4B2B-A5CF-C488E5DB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D32D-693F-4A98-970D-C484B3DA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4482D-6304-4B90-A107-1BFAC70C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500B-C83B-4B0B-983A-3C873572C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C888-08AD-4A43-A4F8-29B29984BB31}"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7431-D12A-4E62-9F9D-7525C85868B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0-</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es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30" name="PlaceHolder 2"/>
          <p:cNvSpPr>
            <a:spLocks noGrp="1"/>
          </p:cNvSpPr>
          <p:nvPr>
            <p:ph/>
          </p:nvPr>
        </p:nvSpPr>
        <p:spPr>
          <a:xfrm>
            <a:off x="571320" y="1981080"/>
            <a:ext cx="8001000" cy="42674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Choose a recorder and a reporter.</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ll have 5 minute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your finished, bring your lists to the front of clas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 can use what the students in the video said and add your own ideas too.</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all groups are done, the reporters will read the list to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n the video, students were talking about something they didn’t want to do. All of us do things we wish we didn</a:t>
            </a:r>
            <a:r>
              <a:rPr b="0" i="1" lang="en-US" sz="3200" spc="-1" strike="noStrike">
                <a:solidFill>
                  <a:srgbClr val="3e65a0"/>
                </a:solidFill>
                <a:latin typeface="Arial"/>
              </a:rPr>
              <a:t>’t </a:t>
            </a:r>
            <a:r>
              <a:rPr b="0" i="1" lang="en-US" sz="3200" spc="-1" strike="noStrike">
                <a:solidFill>
                  <a:srgbClr val="3e65a0"/>
                </a:solidFill>
                <a:latin typeface="Arial"/>
              </a:rPr>
              <a:t>do. What are some of the other habits teenagers have that they might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eryone in this room is capable of making changes in his/her life.  Now you</a:t>
            </a:r>
            <a:r>
              <a:rPr b="0" i="1" lang="en-US" sz="3200" spc="-1" strike="noStrike">
                <a:solidFill>
                  <a:srgbClr val="3e65a0"/>
                </a:solidFill>
                <a:latin typeface="Arial"/>
              </a:rPr>
              <a:t> are </a:t>
            </a:r>
            <a:r>
              <a:rPr b="0" i="1" lang="en-US" sz="3200" spc="-1" strike="noStrike">
                <a:solidFill>
                  <a:srgbClr val="3e65a0"/>
                </a:solidFill>
                <a:latin typeface="Arial"/>
              </a:rPr>
              <a:t>going to think about changes you may want to make in your own life. If you are smoking, that might be what you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6"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Making Changes in My Life sheet:</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a:t>
            </a:r>
            <a:r>
              <a:rPr b="0" i="1" lang="en-US" sz="2800" spc="-1" strike="noStrike">
                <a:solidFill>
                  <a:srgbClr val="3e65a0"/>
                </a:solidFill>
                <a:latin typeface="Arial"/>
              </a:rPr>
              <a:t>is sheet is for your eyes only. Fill in one or two changes you would like to see in your life. Next, write the first step you could take in order to change, and then write a date for taking this st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8"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is sheet is for you to take home.  You may want to put it somewhere you will see it every day, like on your mirror.  It may help you stay on track. Share it with your support person. It may help you make the changes you wan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t takes courage to quit smoking and to make other kinds of changes, but if you really want to you can do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n our Project ALERT classes we have been talking about resisting pressure to use drugs. Today we are going to talk about people who have already tried or started smoking - why is hard for them to quit, and how to help them stop. We’l</a:t>
            </a:r>
            <a:r>
              <a:rPr b="0" i="1" lang="en-US" sz="2800" spc="-1" strike="noStrike">
                <a:solidFill>
                  <a:srgbClr val="3e65a0"/>
                </a:solidFill>
                <a:latin typeface="Arial"/>
              </a:rPr>
              <a:t>l</a:t>
            </a:r>
            <a:r>
              <a:rPr b="0" i="1" lang="en-US" sz="2800" spc="-1" strike="noStrike">
                <a:solidFill>
                  <a:srgbClr val="3e65a0"/>
                </a:solidFill>
                <a:latin typeface="Arial"/>
              </a:rPr>
              <a:t> also see a video of teenagers talking about smoking and quit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413"/>
                </a:solidFill>
                <a:latin typeface="Arial"/>
              </a:rPr>
              <a:t> </a:t>
            </a:r>
            <a:r>
              <a:rPr b="0" i="1" lang="en-US" sz="3200" spc="-1" strike="noStrike">
                <a:solidFill>
                  <a:srgbClr val="3e65a0"/>
                </a:solidFill>
                <a:latin typeface="Arial"/>
              </a:rPr>
              <a:t>Do</a:t>
            </a:r>
            <a:r>
              <a:rPr b="0" i="1" lang="en-US" sz="3200" spc="-1" strike="noStrike">
                <a:solidFill>
                  <a:srgbClr val="3e65a0"/>
                </a:solidFill>
                <a:latin typeface="Arial"/>
              </a:rPr>
              <a:t>es anyone know an adult who smokes? Does anyone know a friend who smok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a:t>
            </a:r>
            <a:r>
              <a:rPr b="0" i="1" lang="en-US" sz="3200" spc="-1" strike="noStrike">
                <a:solidFill>
                  <a:srgbClr val="3e65a0"/>
                </a:solidFill>
                <a:latin typeface="Arial"/>
              </a:rPr>
              <a:t>en if you don</a:t>
            </a:r>
            <a:r>
              <a:rPr b="0" i="1" lang="en-US" sz="3200" spc="-1" strike="noStrike">
                <a:solidFill>
                  <a:srgbClr val="3e65a0"/>
                </a:solidFill>
                <a:latin typeface="Arial"/>
              </a:rPr>
              <a:t>’t </a:t>
            </a:r>
            <a:r>
              <a:rPr b="0" i="1" lang="en-US" sz="3200" spc="-1" strike="noStrike">
                <a:solidFill>
                  <a:srgbClr val="3e65a0"/>
                </a:solidFill>
                <a:latin typeface="Arial"/>
              </a:rPr>
              <a:t>smoke, people you care about may be smoking and it has an impact on you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t’s Hard to Quit Smoking</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f</a:t>
            </a:r>
            <a:r>
              <a:rPr b="0" i="1" lang="en-US" sz="3200" spc="-1" strike="noStrike">
                <a:solidFill>
                  <a:srgbClr val="3e65a0"/>
                </a:solidFill>
                <a:latin typeface="Arial"/>
              </a:rPr>
              <a:t> people are already smoking, why is it hard for them to stop?</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ddiction</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Friends smok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 habit, used to 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Peer Pressur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Something to do in social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ddiction?</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is addiction to smoking?</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Ca</a:t>
            </a:r>
            <a:r>
              <a:rPr b="0" i="1" lang="en-US" sz="3200" spc="-1" strike="noStrike">
                <a:solidFill>
                  <a:srgbClr val="3e65a0"/>
                </a:solidFill>
                <a:latin typeface="Arial"/>
              </a:rPr>
              <a:t>n you stop smoking if you</a:t>
            </a:r>
            <a:r>
              <a:rPr b="0" i="1" lang="en-US" sz="3200" spc="-1" strike="noStrike">
                <a:solidFill>
                  <a:srgbClr val="3e65a0"/>
                </a:solidFill>
                <a:latin typeface="Arial"/>
              </a:rPr>
              <a:t>’re</a:t>
            </a:r>
            <a:r>
              <a:rPr b="0" i="1" lang="en-US" sz="3200" spc="-1" strike="noStrike">
                <a:solidFill>
                  <a:srgbClr val="3e65a0"/>
                </a:solidFill>
                <a:latin typeface="Arial"/>
              </a:rPr>
              <a:t> addicted to cigarettes? Y</a:t>
            </a:r>
            <a:r>
              <a:rPr b="0" i="1" lang="en-US" sz="3200" spc="-1" strike="noStrike">
                <a:solidFill>
                  <a:srgbClr val="3e65a0"/>
                </a:solidFill>
                <a:latin typeface="Arial"/>
              </a:rPr>
              <a:t>o</a:t>
            </a:r>
            <a:r>
              <a:rPr b="0" i="1" lang="en-US" sz="3200" spc="-1" strike="noStrike">
                <a:solidFill>
                  <a:srgbClr val="3e65a0"/>
                </a:solidFill>
                <a:latin typeface="Arial"/>
              </a:rPr>
              <a:t>u have to want to quit. After you stop, the bad effects of addiction go away.</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happens to your lungs when you quit smo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No</a:t>
            </a:r>
            <a:r>
              <a:rPr b="0" i="1" lang="en-US" sz="3200" spc="-1" strike="noStrike">
                <a:solidFill>
                  <a:srgbClr val="3e65a0"/>
                </a:solidFill>
                <a:latin typeface="Arial"/>
              </a:rPr>
              <a:t>w we</a:t>
            </a:r>
            <a:r>
              <a:rPr b="0" i="1" lang="en-US" sz="3200" spc="-1" strike="noStrike">
                <a:solidFill>
                  <a:srgbClr val="3e65a0"/>
                </a:solidFill>
                <a:latin typeface="Arial"/>
              </a:rPr>
              <a:t>’ll</a:t>
            </a:r>
            <a:r>
              <a:rPr b="0" i="1" lang="en-US" sz="3200" spc="-1" strike="noStrike">
                <a:solidFill>
                  <a:srgbClr val="3e65a0"/>
                </a:solidFill>
                <a:latin typeface="Arial"/>
              </a:rPr>
              <a:t> see a video that shows students who have quit smoking. They talk about why they started, why it was hard to quit, and how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were the reasons the students have for quitt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How did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No</a:t>
            </a:r>
            <a:r>
              <a:rPr b="0" i="1" lang="en-US" sz="2800" spc="-1" strike="noStrike">
                <a:solidFill>
                  <a:srgbClr val="3e65a0"/>
                </a:solidFill>
                <a:latin typeface="Arial"/>
              </a:rPr>
              <a:t>w we are going to do an activity in which you come up with your own suggestions about quit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m going to divide the class into 4 groups.  Each group will get a sheet with a question about quitting. Your job is to write at least four answers to the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The questions are:</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gets people to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do people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are the good things you get from quitting?</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can you help a friend or parent who is trying to qu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6:35:06Z</dcterms:created>
  <dc:creator>asd</dc:creator>
  <dc:description/>
  <dc:language>en-US</dc:language>
  <cp:lastModifiedBy>asd</cp:lastModifiedBy>
  <dcterms:modified xsi:type="dcterms:W3CDTF">2011-03-19T16:52:35Z</dcterms:modified>
  <cp:revision>1</cp:revision>
  <dc:subject/>
  <dc:title>Project Alert</dc:title>
</cp:coreProperties>
</file>