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move the slide</a:t>
            </a:r>
            <a:endParaRPr b="0" lang="en-US" sz="4800" spc="-1" strike="noStrike">
              <a:solidFill>
                <a:srgbClr val="ffff66"/>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9EE4-E70C-47BF-A0EC-6F025A8D4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warmer due to heat ri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nvection cells are circular currents formed when heated material rise and cooler material sinks.  They transfer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loss or gain of heat energy results in a change in density that causes material to rise or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0" i="1" lang="en-US" sz="1200" spc="-1" strike="noStrike">
                <a:solidFill>
                  <a:srgbClr val="000000"/>
                </a:solidFill>
                <a:latin typeface="Arial"/>
              </a:rPr>
              <a:t>Heat from deep inside the Earth heats up the lower mantle. This increase in heat results in a decrease in density. This decrease in density causes the lower mantle material to rise. Mantle material near the crust comes in contact with cooler material. During this contact, heat energy is transferred from the warmer material to the cooler material. Once cooled, the material is denser, causing it to sink and come into contact with the heat from the interior of the Earth where it heats up, becomes less dense, and rises once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mantle was convec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crease in temp. caused some of the molecules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hot 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interior of the Earth is hot.  This provides heat energy to the material within the interior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2E866-1042-4CD2-9EFB-762445B7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8F33-ACE6-4C8D-A2A1-8522B49D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D22F8-BEFD-4AA4-AB8A-79B7F3CAE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70F73-3675-40E9-BE5B-95AD8D3FB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A4DFE-80B8-47E9-AFAB-C34B426A4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54C54-C199-4441-BA4E-CA757A47E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5FDE0-64BF-4E05-84E4-B54C3B16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C359C-C934-45E2-9ED0-E7A7E619E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FF80-E04B-4B38-9B7C-5DF8DAC72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46089-D1E4-41C7-A540-5D7C9E805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5B3D-B396-451C-A811-1E57A69E7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4F1C-A6C1-4407-84DB-16374AC2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32A21-D088-4E88-B20C-45C23FB88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28857-AF4C-404E-83F7-814CC0025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F69B0-A49C-402B-9A17-52CF43AD2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A9F41-E246-468F-8924-7BA2EC54F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52EE4-1EF5-4D1B-AC37-A3F65AA49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91C3-AEF6-4DD7-A9BB-8CF4E13A8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CA127-FE8D-41CD-957F-236A7099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7428-751C-4788-9FAA-84AE6A36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5A1D-EB7F-49C4-85BA-B97EB0945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DFAF-7C62-4E82-879B-AE863FFFE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E464-7FCF-4FE5-B358-5A2184CA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D614-FBC4-4566-8286-08D989FB7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89000"/>
          </a:bodyPr>
          <a:p>
            <a:pPr marL="305280" indent="-3052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660960" indent="-2541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01700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4241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5AC4-34F0-4BE0-A779-CBE0761CF067}"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D5ED-DF8F-4608-8237-6595F8014857}"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onvection</a:t>
            </a:r>
            <a:endParaRPr b="0" lang="en-US" sz="4800" spc="-1" strike="noStrike">
              <a:solidFill>
                <a:srgbClr val="ffff66"/>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3366"/>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Assessment Review</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 y="533520"/>
            <a:ext cx="8153280" cy="577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Other examples of convection….</a:t>
            </a:r>
            <a:endParaRPr b="0" lang="en-US" sz="4400" spc="-1" strike="noStrike">
              <a:solidFill>
                <a:srgbClr val="ffff66"/>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team rising in the sh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Balcony in a theater is warmer than l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Ocean currents</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ind</a:t>
            </a:r>
            <a:endParaRPr b="0" lang="en-US" sz="3200" spc="-1" strike="noStrike">
              <a:solidFill>
                <a:srgbClr val="ffff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a two story building, why is the second story warmer?</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7772400" cy="5333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are convection cells helpfu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y does the material rise or sink?</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does the mantle mov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449604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Mini Assessment Tomorrow!  </a:t>
            </a:r>
            <a:br>
              <a:rPr sz="4400"/>
            </a:br>
            <a:br>
              <a:rPr sz="4400"/>
            </a:br>
            <a:r>
              <a:rPr b="0" lang="en-US" sz="4400" spc="-1" strike="noStrike">
                <a:solidFill>
                  <a:srgbClr val="ffff66"/>
                </a:solidFill>
                <a:latin typeface="Verdana"/>
              </a:rPr>
              <a:t>Be prepared to show what you know….</a:t>
            </a:r>
            <a:endParaRPr b="0" lang="en-US" sz="4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Can your knowledge of Density help you understand the interior of the Earth?</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Two Ways that Scientists describe the layers of the Earth</a:t>
            </a:r>
            <a:endParaRPr b="0" lang="en-US" sz="4400" spc="-1" strike="noStrike">
              <a:solidFill>
                <a:srgbClr val="ffff66"/>
              </a:solidFill>
              <a:latin typeface="Verdana"/>
            </a:endParaRPr>
          </a:p>
        </p:txBody>
      </p:sp>
      <p:sp>
        <p:nvSpPr>
          <p:cNvPr id="93" name="PlaceHolder 2"/>
          <p:cNvSpPr>
            <a:spLocks noGrp="1"/>
          </p:cNvSpPr>
          <p:nvPr>
            <p:ph/>
          </p:nvPr>
        </p:nvSpPr>
        <p:spPr>
          <a:xfrm>
            <a:off x="685800" y="2438280"/>
            <a:ext cx="7772400" cy="36576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omposition</a:t>
            </a: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Movement</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1752120"/>
            <a:ext cx="3505320" cy="3505320"/>
          </a:xfrm>
          <a:prstGeom prst="rect">
            <a:avLst/>
          </a:prstGeom>
          <a:noFill/>
          <a:ln w="0">
            <a:noFill/>
          </a:ln>
          <a:effectLst>
            <a:outerShdw dist="25455" dir="2700000" blurRad="0" rotWithShape="0">
              <a:srgbClr val="003366"/>
            </a:outerShdw>
          </a:effectLst>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2916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se layers are based on the composition of the layers.</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rust-rocky</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Mantle-rock-metal</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ore-metal</a:t>
            </a:r>
            <a:endParaRPr b="0" lang="en-US" sz="2800" spc="-1" strike="noStrike">
              <a:solidFill>
                <a:srgbClr val="ffff66"/>
              </a:solidFill>
              <a:latin typeface="Verdana"/>
            </a:endParaRPr>
          </a:p>
        </p:txBody>
      </p:sp>
      <p:pic>
        <p:nvPicPr>
          <p:cNvPr id="95" name="" descr=""/>
          <p:cNvPicPr/>
          <p:nvPr/>
        </p:nvPicPr>
        <p:blipFill>
          <a:blip r:embed="rId2"/>
          <a:stretch/>
        </p:blipFill>
        <p:spPr>
          <a:xfrm>
            <a:off x="3809880" y="2286000"/>
            <a:ext cx="5334120" cy="3505320"/>
          </a:xfrm>
          <a:prstGeom prst="rect">
            <a:avLst/>
          </a:prstGeom>
          <a:ln w="0">
            <a:noFill/>
          </a:ln>
        </p:spPr>
      </p:pic>
      <p:sp>
        <p:nvSpPr>
          <p:cNvPr id="96" name=""/>
          <p:cNvSpPr/>
          <p:nvPr/>
        </p:nvSpPr>
        <p:spPr>
          <a:xfrm>
            <a:off x="2057400" y="533520"/>
            <a:ext cx="4800600" cy="1717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Main Layers of the Earth:</a:t>
            </a:r>
            <a:endParaRPr b="0" lang="en-US" sz="2800" spc="-1" strike="noStrike">
              <a:solidFill>
                <a:srgbClr val="ffff66"/>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Core, Mantle and Crus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133720"/>
            <a:ext cx="3352680" cy="350496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25800" indent="-3258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 layers of the interior that move:</a:t>
            </a:r>
            <a:endParaRPr b="0" lang="en-US" sz="2800" spc="-1" strike="noStrike">
              <a:solidFill>
                <a:srgbClr val="ffff66"/>
              </a:solidFill>
              <a:latin typeface="Verdana"/>
            </a:endParaRPr>
          </a:p>
          <a:p>
            <a:pPr lvl="1" marL="705600" indent="-27144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Lithosphere and asthenophere, lower mantle and outer core</a:t>
            </a:r>
            <a:endParaRPr b="0" lang="en-US" sz="2400" spc="-1" strike="noStrike">
              <a:solidFill>
                <a:srgbClr val="ffff66"/>
              </a:solidFill>
              <a:latin typeface="Verdana"/>
            </a:endParaRPr>
          </a:p>
        </p:txBody>
      </p:sp>
      <p:pic>
        <p:nvPicPr>
          <p:cNvPr id="98" name="" descr=""/>
          <p:cNvPicPr/>
          <p:nvPr/>
        </p:nvPicPr>
        <p:blipFill>
          <a:blip r:embed="rId2"/>
          <a:stretch/>
        </p:blipFill>
        <p:spPr>
          <a:xfrm>
            <a:off x="4038480" y="2895480"/>
            <a:ext cx="4940280" cy="3048120"/>
          </a:xfrm>
          <a:prstGeom prst="rect">
            <a:avLst/>
          </a:prstGeom>
          <a:ln w="0">
            <a:noFill/>
          </a:ln>
        </p:spPr>
      </p:pic>
      <p:sp>
        <p:nvSpPr>
          <p:cNvPr id="99" name=""/>
          <p:cNvSpPr/>
          <p:nvPr/>
        </p:nvSpPr>
        <p:spPr>
          <a:xfrm>
            <a:off x="380880" y="609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ea typeface="ＭＳ Ｐゴシック"/>
              </a:rPr>
              <a:t>Scientists also describe the interior of the Earth based on the movement of the layer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3000"/>
          </a:bodyPr>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cientists looks specifically at these layers to study movement</a:t>
            </a: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ich layer did the experiments from last week show as convecting?</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9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Material inside the mantle moves in convection cells.  We are going to use our knowledge of convection cells from the demonstration last week to help us understand convection cells in the mantle.</a:t>
            </a:r>
            <a:endParaRPr b="0" lang="en-US" sz="36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Glitter Demonstration Review</a:t>
            </a:r>
            <a:endParaRPr b="0" lang="en-US" sz="4400" spc="-1" strike="noStrike">
              <a:solidFill>
                <a:srgbClr val="ffff66"/>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In the demonstration, what caused some molecules to start rising?</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ere did the increase in temperature come from?</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at do you think might provide an increase in temperature inside the Earth?</a:t>
            </a: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76520"/>
            <a:ext cx="7772400" cy="44193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your journal, complete a convection cell drawing.  Be sure to include arrow showing the direction of movement.  Label the crust, mantle and the cor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4:45:21Z</dcterms:created>
  <dc:creator>hms</dc:creator>
  <dc:description/>
  <dc:language>en-US</dc:language>
  <cp:lastModifiedBy>hms</cp:lastModifiedBy>
  <dcterms:modified xsi:type="dcterms:W3CDTF">2009-09-28T15:15:44Z</dcterms:modified>
  <cp:revision>1</cp:revision>
  <dc:subject/>
  <dc:title>Convection</dc:title>
</cp:coreProperties>
</file>