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4.pct" ContentType="image/x-pict"/>
  <Override PartName="/ppt/media/image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3B8C-BC40-42A6-929A-2FEBF3750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4679-81B1-4637-B3D0-86123E42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8E28-9E81-4684-AEB1-C664AADF8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0587-B5ED-4DCF-9A0C-F4C779BFB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6839-6C33-4040-B3D4-072BF69E5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6736-079E-478F-81ED-1B57D167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FD98-A232-4508-BE7D-54A328B0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82D8-E2A4-4F79-A793-DDCF9688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5154-28F3-4C47-9C5A-0978F608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E973-3A2A-4FCE-88D0-07459989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8B57-33D9-4D78-989B-36F9D085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15B7-B18D-41C4-982B-17FB2A04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54A7-D236-43EA-AD96-E99CEA87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5968-F15F-44E1-8F97-43D5D44B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00B1-719E-4366-A93C-4C1AF285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7F8B-8B08-48B4-AF38-2DD52BCBB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A444-9D85-454A-A997-04440F1F8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C7C6D2-68FC-4640-8A5A-45ADB92D4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7E90AA-1856-4809-A246-6946D6C5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D1054C-23AC-4715-A141-EE7D88A5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482B99-0B7C-46FA-BF2C-CE1BC10B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314831-9E97-4240-BB51-DBEAECCA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BE50-4D68-4D0F-A6CC-05E8EA25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2797B2-E21A-420B-9FDF-B0725AC9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0DAB6E-9D54-4CAC-8BC0-6D6D49E6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B399A2-B5C3-4256-A6B6-5381D6C7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C3987D-9495-4E18-8BC4-55968719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814D77-E19F-4C1E-9FB9-7786E486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AE7528-C323-466F-8C86-1EDFAB76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0EE90F-1BEC-4236-BEE0-434064617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58DF-3466-4CE8-9874-4D09298F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8FE8-99BE-4DF2-BFA9-3079B3B1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E55C-AF48-4AB9-9A54-EB55A4EE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E545-BC92-44E4-B532-5BC14FF9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B269-8377-49D8-A156-3C722A69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0B3D-8234-42D6-86BD-28580B69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FDAC-0F94-4F9A-A606-7CD101576D7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64D3-A7C4-4BFE-B8D9-B764B10D89DB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8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51AA-8AC2-4CED-9544-07E616FB61C4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9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pct"/><Relationship Id="rId1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ii.org/Minerals/photocoal.html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z.about.com/d/geology/1/0/R/N/sandstone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ep.state.fl.us/geology/geologictopics/rocks/ocala_limestone.htm" TargetMode="External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ROCK IDENTIFICATION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135" name="Picture 2" descr="marble"/>
          <p:cNvPicPr/>
          <p:nvPr/>
        </p:nvPicPr>
        <p:blipFill>
          <a:blip r:embed="rId1"/>
          <a:stretch/>
        </p:blipFill>
        <p:spPr>
          <a:xfrm>
            <a:off x="152280" y="1522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granite"/>
          <p:cNvPicPr/>
          <p:nvPr/>
        </p:nvPicPr>
        <p:blipFill>
          <a:blip r:embed="rId2"/>
          <a:stretch/>
        </p:blipFill>
        <p:spPr>
          <a:xfrm>
            <a:off x="4749840" y="152280"/>
            <a:ext cx="2031840" cy="1524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gneiss"/>
          <p:cNvPicPr/>
          <p:nvPr/>
        </p:nvPicPr>
        <p:blipFill>
          <a:blip r:embed="rId3"/>
          <a:stretch/>
        </p:blipFill>
        <p:spPr>
          <a:xfrm>
            <a:off x="6934320" y="15228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://www.mii.org/Minerals/Minpics1/CoalBituminous.jpg"/>
          <p:cNvPicPr/>
          <p:nvPr/>
        </p:nvPicPr>
        <p:blipFill>
          <a:blip r:embed="rId4"/>
          <a:stretch/>
        </p:blipFill>
        <p:spPr>
          <a:xfrm>
            <a:off x="228600" y="1828800"/>
            <a:ext cx="1981080" cy="1695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obsidian"/>
          <p:cNvPicPr/>
          <p:nvPr/>
        </p:nvPicPr>
        <p:blipFill>
          <a:blip r:embed="rId5"/>
          <a:stretch/>
        </p:blipFill>
        <p:spPr>
          <a:xfrm>
            <a:off x="2438280" y="182880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http://rds.yahoo.com/_ylt=A0WTefQknuJJeCoBDNajzbkF/SIG=126t6leod/EXP=1239674788/**http%3A/z.about.com/d/geology/1/0/R/N/sandstone.jpg"/>
          <p:cNvPicPr/>
          <p:nvPr/>
        </p:nvPicPr>
        <p:blipFill>
          <a:blip r:embed="rId6"/>
          <a:stretch/>
        </p:blipFill>
        <p:spPr>
          <a:xfrm>
            <a:off x="4724280" y="1986120"/>
            <a:ext cx="2251080" cy="1366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pumice"/>
          <p:cNvPicPr/>
          <p:nvPr/>
        </p:nvPicPr>
        <p:blipFill>
          <a:blip r:embed="rId7"/>
          <a:stretch/>
        </p:blipFill>
        <p:spPr>
          <a:xfrm>
            <a:off x="7010280" y="1828800"/>
            <a:ext cx="2032200" cy="1523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scoria"/>
          <p:cNvPicPr/>
          <p:nvPr/>
        </p:nvPicPr>
        <p:blipFill>
          <a:blip r:embed="rId8"/>
          <a:stretch/>
        </p:blipFill>
        <p:spPr>
          <a:xfrm>
            <a:off x="228600" y="3657600"/>
            <a:ext cx="2108160" cy="1581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basalt"/>
          <p:cNvPicPr/>
          <p:nvPr/>
        </p:nvPicPr>
        <p:blipFill>
          <a:blip r:embed="rId9"/>
          <a:stretch/>
        </p:blipFill>
        <p:spPr>
          <a:xfrm>
            <a:off x="2590920" y="365760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slate"/>
          <p:cNvPicPr/>
          <p:nvPr/>
        </p:nvPicPr>
        <p:blipFill>
          <a:blip r:embed="rId10"/>
          <a:stretch/>
        </p:blipFill>
        <p:spPr>
          <a:xfrm>
            <a:off x="4800600" y="361944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hornfels"/>
          <p:cNvPicPr/>
          <p:nvPr/>
        </p:nvPicPr>
        <p:blipFill>
          <a:blip r:embed="rId11"/>
          <a:stretch/>
        </p:blipFill>
        <p:spPr>
          <a:xfrm>
            <a:off x="7035840" y="3638520"/>
            <a:ext cx="1955880" cy="1467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chert limestone conglomerate"/>
          <p:cNvPicPr/>
          <p:nvPr/>
        </p:nvPicPr>
        <p:blipFill>
          <a:blip r:embed="rId12"/>
          <a:stretch/>
        </p:blipFill>
        <p:spPr>
          <a:xfrm>
            <a:off x="304920" y="53341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3"/>
          <a:stretch/>
        </p:blipFill>
        <p:spPr>
          <a:xfrm>
            <a:off x="2438280" y="133200"/>
            <a:ext cx="213372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Image Source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w Cen MT"/>
              </a:rPr>
              <a:t>What type of rock is this? Where or how is it formed?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78" name="Picture 2" descr="http://www.mii.org/Minerals/Minpics1/CoalBituminous.jpg"/>
          <p:cNvPicPr/>
          <p:nvPr/>
        </p:nvPicPr>
        <p:blipFill>
          <a:blip r:embed="rId3"/>
          <a:stretch/>
        </p:blipFill>
        <p:spPr>
          <a:xfrm>
            <a:off x="2438280" y="120600"/>
            <a:ext cx="502920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75f55"/>
                </a:solidFill>
                <a:latin typeface="Tw Cen MT"/>
              </a:rPr>
              <a:t>Coal</a:t>
            </a:r>
            <a:endParaRPr b="0" lang="en-US" sz="7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175248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Sedimentar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Non-Clastic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36232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rganic Sedimentary Rock formed from plant remains usually in a swamp environ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nd where swamps used to b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82" name="Picture 2" descr="http://www.mii.org/Minerals/Minpics1/CoalBituminous.jpg"/>
          <p:cNvPicPr/>
          <p:nvPr/>
        </p:nvPicPr>
        <p:blipFill>
          <a:blip r:embed="rId1"/>
          <a:stretch/>
        </p:blipFill>
        <p:spPr>
          <a:xfrm>
            <a:off x="4724280" y="304920"/>
            <a:ext cx="388620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w Cen MT"/>
              </a:rPr>
              <a:t>What type of rock is this? Where or how is it formed?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85" name="Picture 2" descr="obsidian"/>
          <p:cNvPicPr/>
          <p:nvPr/>
        </p:nvPicPr>
        <p:blipFill>
          <a:blip r:embed="rId2"/>
          <a:stretch/>
        </p:blipFill>
        <p:spPr>
          <a:xfrm>
            <a:off x="1981080" y="15228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75f55"/>
                </a:solidFill>
                <a:latin typeface="Tw Cen MT"/>
              </a:rPr>
              <a:t>Obsidian</a:t>
            </a:r>
            <a:endParaRPr b="0" lang="en-US" sz="7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Igneou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Extrusiv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36232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ery quick cooling molten rock (lava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lass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o crystals formed because it cooled quick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89" name="Picture 2" descr="obsidian"/>
          <p:cNvPicPr/>
          <p:nvPr/>
        </p:nvPicPr>
        <p:blipFill>
          <a:blip r:embed="rId1"/>
          <a:stretch/>
        </p:blipFill>
        <p:spPr>
          <a:xfrm>
            <a:off x="4343400" y="30492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Image Source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w Cen MT"/>
              </a:rPr>
              <a:t>What type of rock is this? Where or how is it formed?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92" name="Picture 2" descr="http://rds.yahoo.com/_ylt=A0WTefQknuJJeCoBDNajzbkF/SIG=126t6leod/EXP=1239674788/**http%3A/z.about.com/d/geology/1/0/R/N/sandstone.jpg"/>
          <p:cNvPicPr/>
          <p:nvPr/>
        </p:nvPicPr>
        <p:blipFill>
          <a:blip r:embed="rId3"/>
          <a:stretch/>
        </p:blipFill>
        <p:spPr>
          <a:xfrm>
            <a:off x="1828800" y="352440"/>
            <a:ext cx="644364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75f55"/>
                </a:solidFill>
                <a:latin typeface="Tw Cen MT"/>
              </a:rPr>
              <a:t>Sandstone</a:t>
            </a:r>
            <a:endParaRPr b="0" lang="en-US" sz="7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175248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Sedimentar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Clastic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36232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61360" indent="-2613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Grains of sand and Quartz cemented by silica or lim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Formed by the action of wind, water, and ice on older rock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ost form in shallow seas or desert areas.  Where there is sand, there will be sandstone!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96" name="Picture 2" descr="http://rds.yahoo.com/_ylt=A0WTefQknuJJeCoBDNajzbkF/SIG=126t6leod/EXP=1239674788/**http%3A/z.about.com/d/geology/1/0/R/N/sandstone.jpg"/>
          <p:cNvPicPr/>
          <p:nvPr/>
        </p:nvPicPr>
        <p:blipFill>
          <a:blip r:embed="rId1"/>
          <a:stretch/>
        </p:blipFill>
        <p:spPr>
          <a:xfrm>
            <a:off x="4952880" y="1114560"/>
            <a:ext cx="381024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w Cen MT"/>
              </a:rPr>
              <a:t>What type of rock is this? Where or how is it formed?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99" name="Picture 2" descr="pumice"/>
          <p:cNvPicPr/>
          <p:nvPr/>
        </p:nvPicPr>
        <p:blipFill>
          <a:blip r:embed="rId2"/>
          <a:stretch/>
        </p:blipFill>
        <p:spPr>
          <a:xfrm>
            <a:off x="2133720" y="228600"/>
            <a:ext cx="56386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75f55"/>
                </a:solidFill>
                <a:latin typeface="Tw Cen MT"/>
              </a:rPr>
              <a:t>Pumice</a:t>
            </a:r>
            <a:endParaRPr b="0" lang="en-US" sz="7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Igneou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Felsic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Extrusiv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36232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Quick cooling molten rock (lava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No crystals formed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any holes formed - gasses released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Floats on wate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03" name="Picture 2" descr="pumice"/>
          <p:cNvPicPr/>
          <p:nvPr/>
        </p:nvPicPr>
        <p:blipFill>
          <a:blip r:embed="rId1"/>
          <a:stretch/>
        </p:blipFill>
        <p:spPr>
          <a:xfrm>
            <a:off x="4267080" y="38088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w Cen MT"/>
              </a:rPr>
              <a:t>What type of rock is this? Where or how is it formed?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206" name="Picture 2" descr="scoria"/>
          <p:cNvPicPr/>
          <p:nvPr/>
        </p:nvPicPr>
        <p:blipFill>
          <a:blip r:embed="rId2"/>
          <a:stretch/>
        </p:blipFill>
        <p:spPr>
          <a:xfrm>
            <a:off x="1981080" y="304920"/>
            <a:ext cx="556272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75f55"/>
                </a:solidFill>
                <a:latin typeface="Tw Cen MT"/>
              </a:rPr>
              <a:t>Scoria</a:t>
            </a:r>
            <a:endParaRPr b="0" lang="en-US" sz="7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Igneou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Mafic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Extrusiv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36232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Forms as a frothy crust on the top of a lava flow or as material ejected from a volcanic vent and solidifying while airborn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No crystals formed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Many holes formed - gasses released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10" name="Picture 2" descr="scoria"/>
          <p:cNvPicPr/>
          <p:nvPr/>
        </p:nvPicPr>
        <p:blipFill>
          <a:blip r:embed="rId1"/>
          <a:stretch/>
        </p:blipFill>
        <p:spPr>
          <a:xfrm>
            <a:off x="4267080" y="304920"/>
            <a:ext cx="434340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w Cen MT"/>
              </a:rPr>
              <a:t>What type of rock is this? Where or how is it formed?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50" name="Picture 2" descr="marble"/>
          <p:cNvPicPr/>
          <p:nvPr/>
        </p:nvPicPr>
        <p:blipFill>
          <a:blip r:embed="rId2"/>
          <a:stretch/>
        </p:blipFill>
        <p:spPr>
          <a:xfrm>
            <a:off x="2133720" y="152280"/>
            <a:ext cx="5790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w Cen MT"/>
              </a:rPr>
              <a:t>What type of rock is this? Where or how is it formed?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213" name="Picture 2" descr="basalt"/>
          <p:cNvPicPr/>
          <p:nvPr/>
        </p:nvPicPr>
        <p:blipFill>
          <a:blip r:embed="rId2"/>
          <a:stretch/>
        </p:blipFill>
        <p:spPr>
          <a:xfrm>
            <a:off x="2286000" y="3808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75f55"/>
                </a:solidFill>
                <a:latin typeface="Tw Cen MT"/>
              </a:rPr>
              <a:t>Basalt</a:t>
            </a:r>
            <a:endParaRPr b="0" lang="en-US" sz="7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Igneou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Mafic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Extrusiv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36232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rmed from dark dense lav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yroxene, plagioclase feldspa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ne grain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17" name="Picture 2" descr="basalt"/>
          <p:cNvPicPr/>
          <p:nvPr/>
        </p:nvPicPr>
        <p:blipFill>
          <a:blip r:embed="rId1"/>
          <a:stretch/>
        </p:blipFill>
        <p:spPr>
          <a:xfrm>
            <a:off x="4343400" y="380880"/>
            <a:ext cx="44197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w Cen MT"/>
              </a:rPr>
              <a:t>What type of rock is this? Where or how is it formed?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220" name="Picture 2" descr="slate"/>
          <p:cNvPicPr/>
          <p:nvPr/>
        </p:nvPicPr>
        <p:blipFill>
          <a:blip r:embed="rId2"/>
          <a:stretch/>
        </p:blipFill>
        <p:spPr>
          <a:xfrm>
            <a:off x="2286000" y="41904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75f55"/>
                </a:solidFill>
                <a:latin typeface="Tw Cen MT"/>
              </a:rPr>
              <a:t>Slate</a:t>
            </a:r>
            <a:endParaRPr b="0" lang="en-US" sz="7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175248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Metamorphic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Foliated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36232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etamorphism of Sha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reaks into thin “slices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24" name="Picture 2" descr="slate"/>
          <p:cNvPicPr/>
          <p:nvPr/>
        </p:nvPicPr>
        <p:blipFill>
          <a:blip r:embed="rId1"/>
          <a:stretch/>
        </p:blipFill>
        <p:spPr>
          <a:xfrm>
            <a:off x="4495680" y="380880"/>
            <a:ext cx="39880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w Cen MT"/>
              </a:rPr>
              <a:t>What type of rock is this? Where or how is it formed?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227" name="Picture 2" descr="chert limestone conglomerate"/>
          <p:cNvPicPr/>
          <p:nvPr/>
        </p:nvPicPr>
        <p:blipFill>
          <a:blip r:embed="rId2"/>
          <a:stretch/>
        </p:blipFill>
        <p:spPr>
          <a:xfrm>
            <a:off x="2133720" y="152280"/>
            <a:ext cx="5790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Tw Cen MT"/>
              </a:rPr>
              <a:t>Conglomerate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175248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Sedimentar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Clastic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36232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Rounded pebbles ¼ inch or larger cemented together by quartz or quartzit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Formed near moving water, such as beaches rivers and glacier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31" name="Picture 2" descr="chert limestone conglomerate"/>
          <p:cNvPicPr/>
          <p:nvPr/>
        </p:nvPicPr>
        <p:blipFill>
          <a:blip r:embed="rId1"/>
          <a:stretch/>
        </p:blipFill>
        <p:spPr>
          <a:xfrm>
            <a:off x="5181480" y="1066680"/>
            <a:ext cx="37339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view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ith a partner, complete the Rock Identification Unit Assessment Review in the back of your packe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75f55"/>
                </a:solidFill>
                <a:latin typeface="Tw Cen MT"/>
              </a:rPr>
              <a:t>Marble</a:t>
            </a:r>
            <a:endParaRPr b="0" lang="en-US" sz="7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175248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Metamorphic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Non-Foliated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36232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lcium Carbon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etamorphism of Limesto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54" name="Picture 2" descr="marble"/>
          <p:cNvPicPr/>
          <p:nvPr/>
        </p:nvPicPr>
        <p:blipFill>
          <a:blip r:embed="rId1"/>
          <a:stretch/>
        </p:blipFill>
        <p:spPr>
          <a:xfrm>
            <a:off x="4267080" y="30492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Image Source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w Cen MT"/>
              </a:rPr>
              <a:t>What type of rock is this? Where or how is it formed?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438280" y="38088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75f55"/>
                </a:solidFill>
                <a:latin typeface="Tw Cen MT"/>
              </a:rPr>
              <a:t>Limestone</a:t>
            </a:r>
            <a:endParaRPr b="0" lang="en-US" sz="7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175248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Sedimentar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Non-Clastic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36232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Calcium Carbonat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Forms from shells, coral, algal and fecal debri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It is found in clear, warm, shallow marine water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800600" y="114300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w Cen MT"/>
              </a:rPr>
              <a:t>What type of rock is this? Where or how is it formed?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64" name="Picture 2" descr="granite"/>
          <p:cNvPicPr/>
          <p:nvPr/>
        </p:nvPicPr>
        <p:blipFill>
          <a:blip r:embed="rId2"/>
          <a:stretch/>
        </p:blipFill>
        <p:spPr>
          <a:xfrm>
            <a:off x="2209680" y="190440"/>
            <a:ext cx="574056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75f55"/>
                </a:solidFill>
                <a:latin typeface="Tw Cen MT"/>
              </a:rPr>
              <a:t>Granite</a:t>
            </a:r>
            <a:endParaRPr b="0" lang="en-US" sz="7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Igneou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Mafic or Felsic (depends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Intrusiv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36232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arse Grained, can see crysta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tains quartz and feldspa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68" name="Picture 2" descr="granite"/>
          <p:cNvPicPr/>
          <p:nvPr/>
        </p:nvPicPr>
        <p:blipFill>
          <a:blip r:embed="rId1"/>
          <a:stretch/>
        </p:blipFill>
        <p:spPr>
          <a:xfrm>
            <a:off x="4572000" y="343080"/>
            <a:ext cx="42163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w Cen MT"/>
              </a:rPr>
              <a:t>What type of rock is this? Where or how is it formed?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71" name="Picture 2" descr="gneiss"/>
          <p:cNvPicPr/>
          <p:nvPr/>
        </p:nvPicPr>
        <p:blipFill>
          <a:blip r:embed="rId2"/>
          <a:stretch/>
        </p:blipFill>
        <p:spPr>
          <a:xfrm>
            <a:off x="2209680" y="38088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75f55"/>
                </a:solidFill>
                <a:latin typeface="Tw Cen MT"/>
              </a:rPr>
              <a:t>Gneiss</a:t>
            </a:r>
            <a:endParaRPr b="0" lang="en-US" sz="7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175248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Metamorphic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Foliated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36232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de of Quartz and Feldspa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etamorphism of Grani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75" name="Picture 2" descr="gneiss"/>
          <p:cNvPicPr/>
          <p:nvPr/>
        </p:nvPicPr>
        <p:blipFill>
          <a:blip r:embed="rId1"/>
          <a:stretch/>
        </p:blipFill>
        <p:spPr>
          <a:xfrm>
            <a:off x="4724280" y="38088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01:13:56Z</dcterms:created>
  <dc:creator>Liz</dc:creator>
  <dc:description/>
  <dc:language>en-US</dc:language>
  <cp:lastModifiedBy>asd</cp:lastModifiedBy>
  <dcterms:modified xsi:type="dcterms:W3CDTF">2011-01-21T18:18:50Z</dcterms:modified>
  <cp:revision>25</cp:revision>
  <dc:subject/>
  <dc:title>Rock identification</dc:title>
</cp:coreProperties>
</file>