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ct" ContentType="image/x-pict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023-B410-4772-8E0A-2866B894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5C2-8526-4C77-A15B-6FF7A413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B00-49C2-4235-8B2F-8B3C674B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3D7-F710-4756-A94E-C9B55D73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EFE7-DBD4-4C57-83E1-A93552E7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B351-C8D4-4621-932B-736E09E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AD65-2E95-432A-87C3-EE8D53BD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9186-5404-4A93-AEBE-42A6791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AAA0-B644-45DE-B0C1-555C088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EB4-288F-4602-8C09-6AE79BE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3096-0F45-4ADE-86CF-1BB27F46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82C-C22A-4E6B-B2BB-C86BB28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4B1-A6F0-4C8D-BCB9-EB5093B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A65C-1446-46C8-8A3E-5D34E18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3E9A-4B4C-4E26-8181-04288C27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EF88-6222-491E-A78D-53673D48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FC5A-1468-42F9-8FA1-1363A49B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E9575-487C-4DE9-B75C-78F9E474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D61C6-9FBA-4221-82C5-358953A7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83743-E8A2-4D2E-A2B8-7DFA3D2C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C381A-22BE-4ACB-B57F-FF4FC9D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56EE2-A169-40AC-B451-CD20BD49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DC1-3CC9-4A4A-9F6B-D0DF4545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F32E9-919A-4570-A192-6FB9E8A7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D2966-DAC4-4CC9-B511-DE53DC4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6BCAE-5BB6-455D-AA4B-A95598E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8ED3-F741-44F7-9EAE-53D363E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4A91C-EAF4-4264-9FAB-415CAF7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F9729-91E1-4671-85F3-4B814EDC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81355-61FF-429F-907D-AAB066C8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740-A3F7-41BA-BE6A-185D707E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8FD-9A6B-4F07-8663-1863476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359-995D-4D47-A313-B0A43B77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0A5-A753-4869-BD37-6D6B005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7B7-609E-45FF-B393-C30A0A2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D95-DB67-4B91-8A22-9BE4258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29E6-D750-4E04-8AA8-E5BF7BB0AB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A6FA-A888-4C85-86BA-0DC5A8B1F09A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DE3-9B44-44D6-823C-64B78E50446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ct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i.org/Minerals/photocoal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geology/1/0/R/N/sandstone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p.state.fl.us/geology/geologictopics/rocks/ocala_limestone.htm" TargetMode="External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OCK IDENTIFICA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35" name="Picture 2" descr="marble"/>
          <p:cNvPicPr/>
          <p:nvPr/>
        </p:nvPicPr>
        <p:blipFill>
          <a:blip r:embed="rId1"/>
          <a:stretch/>
        </p:blipFill>
        <p:spPr>
          <a:xfrm>
            <a:off x="152280" y="152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ranite"/>
          <p:cNvPicPr/>
          <p:nvPr/>
        </p:nvPicPr>
        <p:blipFill>
          <a:blip r:embed="rId2"/>
          <a:stretch/>
        </p:blipFill>
        <p:spPr>
          <a:xfrm>
            <a:off x="4749840" y="15228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neiss"/>
          <p:cNvPicPr/>
          <p:nvPr/>
        </p:nvPicPr>
        <p:blipFill>
          <a:blip r:embed="rId3"/>
          <a:stretch/>
        </p:blipFill>
        <p:spPr>
          <a:xfrm>
            <a:off x="6934320" y="152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mii.org/Minerals/Minpics1/CoalBituminous.jpg"/>
          <p:cNvPicPr/>
          <p:nvPr/>
        </p:nvPicPr>
        <p:blipFill>
          <a:blip r:embed="rId4"/>
          <a:stretch/>
        </p:blipFill>
        <p:spPr>
          <a:xfrm>
            <a:off x="228600" y="1828800"/>
            <a:ext cx="198108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obsidian"/>
          <p:cNvPicPr/>
          <p:nvPr/>
        </p:nvPicPr>
        <p:blipFill>
          <a:blip r:embed="rId5"/>
          <a:stretch/>
        </p:blipFill>
        <p:spPr>
          <a:xfrm>
            <a:off x="2438280" y="18288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rds.yahoo.com/_ylt=A0WTefQknuJJeCoBDNajzbkF/SIG=126t6leod/EXP=1239674788/**http%3A/z.about.com/d/geology/1/0/R/N/sandstone.jpg"/>
          <p:cNvPicPr/>
          <p:nvPr/>
        </p:nvPicPr>
        <p:blipFill>
          <a:blip r:embed="rId6"/>
          <a:stretch/>
        </p:blipFill>
        <p:spPr>
          <a:xfrm>
            <a:off x="4724280" y="1986120"/>
            <a:ext cx="2251080" cy="136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umice"/>
          <p:cNvPicPr/>
          <p:nvPr/>
        </p:nvPicPr>
        <p:blipFill>
          <a:blip r:embed="rId7"/>
          <a:stretch/>
        </p:blipFill>
        <p:spPr>
          <a:xfrm>
            <a:off x="7010280" y="182880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scoria"/>
          <p:cNvPicPr/>
          <p:nvPr/>
        </p:nvPicPr>
        <p:blipFill>
          <a:blip r:embed="rId8"/>
          <a:stretch/>
        </p:blipFill>
        <p:spPr>
          <a:xfrm>
            <a:off x="228600" y="3657600"/>
            <a:ext cx="2108160" cy="1581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basalt"/>
          <p:cNvPicPr/>
          <p:nvPr/>
        </p:nvPicPr>
        <p:blipFill>
          <a:blip r:embed="rId9"/>
          <a:stretch/>
        </p:blipFill>
        <p:spPr>
          <a:xfrm>
            <a:off x="2590920" y="36576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slate"/>
          <p:cNvPicPr/>
          <p:nvPr/>
        </p:nvPicPr>
        <p:blipFill>
          <a:blip r:embed="rId10"/>
          <a:stretch/>
        </p:blipFill>
        <p:spPr>
          <a:xfrm>
            <a:off x="4800600" y="3619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ornfels"/>
          <p:cNvPicPr/>
          <p:nvPr/>
        </p:nvPicPr>
        <p:blipFill>
          <a:blip r:embed="rId11"/>
          <a:stretch/>
        </p:blipFill>
        <p:spPr>
          <a:xfrm>
            <a:off x="7035840" y="3638520"/>
            <a:ext cx="1955880" cy="146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hert limestone conglomerate"/>
          <p:cNvPicPr/>
          <p:nvPr/>
        </p:nvPicPr>
        <p:blipFill>
          <a:blip r:embed="rId12"/>
          <a:stretch/>
        </p:blipFill>
        <p:spPr>
          <a:xfrm>
            <a:off x="304920" y="53341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2438280" y="133200"/>
            <a:ext cx="2133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8" name="Picture 2" descr="http://www.mii.org/Minerals/Minpics1/CoalBituminous.jpg"/>
          <p:cNvPicPr/>
          <p:nvPr/>
        </p:nvPicPr>
        <p:blipFill>
          <a:blip r:embed="rId3"/>
          <a:stretch/>
        </p:blipFill>
        <p:spPr>
          <a:xfrm>
            <a:off x="2438280" y="120600"/>
            <a:ext cx="50292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Coal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Sedimentary Rock formed from plant remains usually in a swamp enviro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nd where swamps used to b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2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4724280" y="304920"/>
            <a:ext cx="3886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5" name="Picture 2" descr="obsidian"/>
          <p:cNvPicPr/>
          <p:nvPr/>
        </p:nvPicPr>
        <p:blipFill>
          <a:blip r:embed="rId2"/>
          <a:stretch/>
        </p:blipFill>
        <p:spPr>
          <a:xfrm>
            <a:off x="1981080" y="15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Obsidian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y quick cooling molten rock (lav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as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crystals formed because it cooled quick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89" name="Picture 2" descr="obsidian"/>
          <p:cNvPicPr/>
          <p:nvPr/>
        </p:nvPicPr>
        <p:blipFill>
          <a:blip r:embed="rId1"/>
          <a:stretch/>
        </p:blipFill>
        <p:spPr>
          <a:xfrm>
            <a:off x="4343400" y="3049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2" name="Picture 2" descr="http://rds.yahoo.com/_ylt=A0WTefQknuJJeCoBDNajzbkF/SIG=126t6leod/EXP=1239674788/**http%3A/z.about.com/d/geology/1/0/R/N/sandstone.jpg"/>
          <p:cNvPicPr/>
          <p:nvPr/>
        </p:nvPicPr>
        <p:blipFill>
          <a:blip r:embed="rId3"/>
          <a:stretch/>
        </p:blipFill>
        <p:spPr>
          <a:xfrm>
            <a:off x="1828800" y="352440"/>
            <a:ext cx="6443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and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rains of sand and Quartz cemented by silica or lim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by the action of wind, water, and ice on older roc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form in shallow seas or desert areas.  Where there is sand, there will be sandston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Picture 2" descr="http://rds.yahoo.com/_ylt=A0WTefQknuJJeCoBDNajzbkF/SIG=126t6leod/EXP=1239674788/**http%3A/z.about.com/d/geology/1/0/R/N/sandstone.jpg"/>
          <p:cNvPicPr/>
          <p:nvPr/>
        </p:nvPicPr>
        <p:blipFill>
          <a:blip r:embed="rId1"/>
          <a:stretch/>
        </p:blipFill>
        <p:spPr>
          <a:xfrm>
            <a:off x="4952880" y="1114560"/>
            <a:ext cx="38102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9" name="Picture 2" descr="pumice"/>
          <p:cNvPicPr/>
          <p:nvPr/>
        </p:nvPicPr>
        <p:blipFill>
          <a:blip r:embed="rId2"/>
          <a:stretch/>
        </p:blipFill>
        <p:spPr>
          <a:xfrm>
            <a:off x="2133720" y="228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Pumic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els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Quick cooling molten rock (lava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loats on wat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3" name="Picture 2" descr="pumice"/>
          <p:cNvPicPr/>
          <p:nvPr/>
        </p:nvPicPr>
        <p:blipFill>
          <a:blip r:embed="rId1"/>
          <a:stretch/>
        </p:blipFill>
        <p:spPr>
          <a:xfrm>
            <a:off x="42670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06" name="Picture 2" descr="scoria"/>
          <p:cNvPicPr/>
          <p:nvPr/>
        </p:nvPicPr>
        <p:blipFill>
          <a:blip r:embed="rId2"/>
          <a:stretch/>
        </p:blipFill>
        <p:spPr>
          <a:xfrm>
            <a:off x="19810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coria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as a frothy crust on the top of a lava flow or as material ejected from a volcanic vent and solidifying while airborn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o crystals form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any holes formed - gasses release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Picture 2" descr="scoria"/>
          <p:cNvPicPr/>
          <p:nvPr/>
        </p:nvPicPr>
        <p:blipFill>
          <a:blip r:embed="rId1"/>
          <a:stretch/>
        </p:blipFill>
        <p:spPr>
          <a:xfrm>
            <a:off x="4267080" y="3049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0" name="Picture 2" descr="marbl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13" name="Picture 2" descr="basalt"/>
          <p:cNvPicPr/>
          <p:nvPr/>
        </p:nvPicPr>
        <p:blipFill>
          <a:blip r:embed="rId2"/>
          <a:stretch/>
        </p:blipFill>
        <p:spPr>
          <a:xfrm>
            <a:off x="2286000" y="3808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Basalt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med from dark dense lav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yroxene, plagioclase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e grain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7" name="Picture 2" descr="basalt"/>
          <p:cNvPicPr/>
          <p:nvPr/>
        </p:nvPicPr>
        <p:blipFill>
          <a:blip r:embed="rId1"/>
          <a:stretch/>
        </p:blipFill>
        <p:spPr>
          <a:xfrm>
            <a:off x="4343400" y="380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0" name="Picture 2" descr="slate"/>
          <p:cNvPicPr/>
          <p:nvPr/>
        </p:nvPicPr>
        <p:blipFill>
          <a:blip r:embed="rId2"/>
          <a:stretch/>
        </p:blipFill>
        <p:spPr>
          <a:xfrm>
            <a:off x="2286000" y="4190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Sla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Sha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eaks into thin “slices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4" name="Picture 2" descr="slate"/>
          <p:cNvPicPr/>
          <p:nvPr/>
        </p:nvPicPr>
        <p:blipFill>
          <a:blip r:embed="rId1"/>
          <a:stretch/>
        </p:blipFill>
        <p:spPr>
          <a:xfrm>
            <a:off x="4495680" y="380880"/>
            <a:ext cx="3988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27" name="Picture 2" descr="chert limestone conglomerate"/>
          <p:cNvPicPr/>
          <p:nvPr/>
        </p:nvPicPr>
        <p:blipFill>
          <a:blip r:embed="rId2"/>
          <a:stretch/>
        </p:blipFill>
        <p:spPr>
          <a:xfrm>
            <a:off x="2133720" y="1522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Conglome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ounded pebbles ¼ inch or larger cemented together by quartz or quartz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Formed near moving water, such as beaches rivers and glaci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Picture 2" descr="chert limestone conglomerate"/>
          <p:cNvPicPr/>
          <p:nvPr/>
        </p:nvPicPr>
        <p:blipFill>
          <a:blip r:embed="rId1"/>
          <a:stretch/>
        </p:blipFill>
        <p:spPr>
          <a:xfrm>
            <a:off x="5181480" y="10666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a partner, complete the Rock Identification Unit Assessment Review in the back of your packe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Marbl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Limes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4" name="Picture 2" descr="marble"/>
          <p:cNvPicPr/>
          <p:nvPr/>
        </p:nvPicPr>
        <p:blipFill>
          <a:blip r:embed="rId1"/>
          <a:stretch/>
        </p:blipFill>
        <p:spPr>
          <a:xfrm>
            <a:off x="4267080" y="304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Image Sourc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Limeston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Non-Clast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Calcium Carbonat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orms from shells, coral, algal and fecal debr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t is found in clear, warm, shallow marine water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64" name="Picture 2" descr="granite"/>
          <p:cNvPicPr/>
          <p:nvPr/>
        </p:nvPicPr>
        <p:blipFill>
          <a:blip r:embed="rId2"/>
          <a:stretch/>
        </p:blipFill>
        <p:spPr>
          <a:xfrm>
            <a:off x="2209680" y="190440"/>
            <a:ext cx="57405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ranite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fic or Felsic (depend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Intr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arse Grained, can see cryst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ins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8" name="Picture 2" descr="granite"/>
          <p:cNvPicPr/>
          <p:nvPr/>
        </p:nvPicPr>
        <p:blipFill>
          <a:blip r:embed="rId1"/>
          <a:stretch/>
        </p:blipFill>
        <p:spPr>
          <a:xfrm>
            <a:off x="4572000" y="3430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w Cen MT"/>
              </a:rPr>
              <a:t>What type of rock is this? Where or how is it formed?</a:t>
            </a: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71" name="Picture 2" descr="gneiss"/>
          <p:cNvPicPr/>
          <p:nvPr/>
        </p:nvPicPr>
        <p:blipFill>
          <a:blip r:embed="rId2"/>
          <a:stretch/>
        </p:blipFill>
        <p:spPr>
          <a:xfrm>
            <a:off x="2209680" y="380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75f55"/>
                </a:solidFill>
                <a:latin typeface="Tw Cen MT"/>
              </a:rPr>
              <a:t>Gneiss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175248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oliate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6232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de of Quartz and Feldsp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morphism of Gran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5" name="Picture 2" descr="gneiss"/>
          <p:cNvPicPr/>
          <p:nvPr/>
        </p:nvPicPr>
        <p:blipFill>
          <a:blip r:embed="rId1"/>
          <a:stretch/>
        </p:blipFill>
        <p:spPr>
          <a:xfrm>
            <a:off x="4724280" y="380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1:13:56Z</dcterms:created>
  <dc:creator>Liz</dc:creator>
  <dc:description/>
  <dc:language>en-US</dc:language>
  <cp:lastModifiedBy>asd</cp:lastModifiedBy>
  <dcterms:modified xsi:type="dcterms:W3CDTF">2011-01-21T18:18:50Z</dcterms:modified>
  <cp:revision>25</cp:revision>
  <dc:subject/>
  <dc:title>Rock identification</dc:title>
</cp:coreProperties>
</file>