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E1F-ECA2-46D1-A49F-0B55C499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2CC-257B-40B0-AEA4-0AF94EB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A34-1B82-4633-AFFA-87157B53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8E6-79A0-4EDD-AF60-4E48C64F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894-B269-4EE4-AE26-6E3E3C85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3C3-FF9C-4518-8C80-EB57012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463-5B6F-48E9-84F4-04DA18FB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23C9-B71B-4D53-8037-6C156C2A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96C-DD59-41DD-9257-7F92282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1D6-E192-4EFB-8607-F58981F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91DA-652D-4154-A72A-50E3CAF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824-F2BF-4231-ABB7-7D0D9E52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CA9-64C9-442F-8CA9-ED6381D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CBAB-9D87-41DA-8F57-C5D29910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CBD1-FD62-466A-AD2B-4347FC9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5ABC-CAE0-4E77-8D85-A51C72C8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84E0-6CF1-4F8C-9D2E-6B8C9E7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41557-CA3B-413D-A164-19A8E155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6D664-8D71-415C-A3BE-471C2E9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1D517-DA7F-4577-8CCF-09419273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3FF6E-8335-4085-9D97-400020C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FF9C4-6F0D-4A11-87A3-76FBE40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ED8-9BAC-4BCD-B554-F5B2B844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741F2-70FC-4654-BC97-4F04BFB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B229B-CB8E-4BE8-8BA2-DB0AF27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1B47-0A22-44F1-AF18-64BB9CE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42D5F-81D9-4EF7-96AD-AA2A40D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1D8C2-54AD-40F2-860E-13BECC1B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DCC4F-8D1A-49F1-9328-D6CD6D61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8F6AE-7141-48A6-BD75-037BC970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C49-34BE-4627-9541-2634411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7F6-E634-4237-A71B-2FF5FA73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3DB-CE75-43A4-A6A5-11A2F2A0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135-C969-4FC7-809F-9A4E9D7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D23-25CC-48B1-8EF4-17C85C7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7F5-2639-480B-B035-3782C99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F7E-8EEF-4A69-AC0B-1732F38073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397-2B19-4418-85F6-E59ECE5A56B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7C85-97C8-4567-9A6C-E43C4DC6DCD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ct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i.org/Minerals/photocoal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geology/1/0/R/N/sandston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p.state.fl.us/geology/geologictopics/rocks/ocala_limestone.htm" TargetMode="External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OCK IDENTIFI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35" name="Picture 2" descr="marble"/>
          <p:cNvPicPr/>
          <p:nvPr/>
        </p:nvPicPr>
        <p:blipFill>
          <a:blip r:embed="rId1"/>
          <a:stretch/>
        </p:blipFill>
        <p:spPr>
          <a:xfrm>
            <a:off x="152280" y="152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ranite"/>
          <p:cNvPicPr/>
          <p:nvPr/>
        </p:nvPicPr>
        <p:blipFill>
          <a:blip r:embed="rId2"/>
          <a:stretch/>
        </p:blipFill>
        <p:spPr>
          <a:xfrm>
            <a:off x="4749840" y="152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neiss"/>
          <p:cNvPicPr/>
          <p:nvPr/>
        </p:nvPicPr>
        <p:blipFill>
          <a:blip r:embed="rId3"/>
          <a:stretch/>
        </p:blipFill>
        <p:spPr>
          <a:xfrm>
            <a:off x="6934320" y="152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mii.org/Minerals/Minpics1/CoalBituminous.jpg"/>
          <p:cNvPicPr/>
          <p:nvPr/>
        </p:nvPicPr>
        <p:blipFill>
          <a:blip r:embed="rId4"/>
          <a:stretch/>
        </p:blipFill>
        <p:spPr>
          <a:xfrm>
            <a:off x="228600" y="1828800"/>
            <a:ext cx="198108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obsidian"/>
          <p:cNvPicPr/>
          <p:nvPr/>
        </p:nvPicPr>
        <p:blipFill>
          <a:blip r:embed="rId5"/>
          <a:stretch/>
        </p:blipFill>
        <p:spPr>
          <a:xfrm>
            <a:off x="2438280" y="18288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rds.yahoo.com/_ylt=A0WTefQknuJJeCoBDNajzbkF/SIG=126t6leod/EXP=1239674788/**http%3A/z.about.com/d/geology/1/0/R/N/sandstone.jpg"/>
          <p:cNvPicPr/>
          <p:nvPr/>
        </p:nvPicPr>
        <p:blipFill>
          <a:blip r:embed="rId6"/>
          <a:stretch/>
        </p:blipFill>
        <p:spPr>
          <a:xfrm>
            <a:off x="4724280" y="1986120"/>
            <a:ext cx="2251080" cy="136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umice"/>
          <p:cNvPicPr/>
          <p:nvPr/>
        </p:nvPicPr>
        <p:blipFill>
          <a:blip r:embed="rId7"/>
          <a:stretch/>
        </p:blipFill>
        <p:spPr>
          <a:xfrm>
            <a:off x="7010280" y="182880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scoria"/>
          <p:cNvPicPr/>
          <p:nvPr/>
        </p:nvPicPr>
        <p:blipFill>
          <a:blip r:embed="rId8"/>
          <a:stretch/>
        </p:blipFill>
        <p:spPr>
          <a:xfrm>
            <a:off x="228600" y="365760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basalt"/>
          <p:cNvPicPr/>
          <p:nvPr/>
        </p:nvPicPr>
        <p:blipFill>
          <a:blip r:embed="rId9"/>
          <a:stretch/>
        </p:blipFill>
        <p:spPr>
          <a:xfrm>
            <a:off x="2590920" y="3657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slate"/>
          <p:cNvPicPr/>
          <p:nvPr/>
        </p:nvPicPr>
        <p:blipFill>
          <a:blip r:embed="rId10"/>
          <a:stretch/>
        </p:blipFill>
        <p:spPr>
          <a:xfrm>
            <a:off x="4800600" y="3619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ornfels"/>
          <p:cNvPicPr/>
          <p:nvPr/>
        </p:nvPicPr>
        <p:blipFill>
          <a:blip r:embed="rId11"/>
          <a:stretch/>
        </p:blipFill>
        <p:spPr>
          <a:xfrm>
            <a:off x="7035840" y="3638520"/>
            <a:ext cx="1955880" cy="146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hert limestone conglomerate"/>
          <p:cNvPicPr/>
          <p:nvPr/>
        </p:nvPicPr>
        <p:blipFill>
          <a:blip r:embed="rId12"/>
          <a:stretch/>
        </p:blipFill>
        <p:spPr>
          <a:xfrm>
            <a:off x="304920" y="5334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438280" y="133200"/>
            <a:ext cx="2133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8" name="Picture 2" descr="http://www.mii.org/Minerals/Minpics1/CoalBituminous.jpg"/>
          <p:cNvPicPr/>
          <p:nvPr/>
        </p:nvPicPr>
        <p:blipFill>
          <a:blip r:embed="rId3"/>
          <a:stretch/>
        </p:blipFill>
        <p:spPr>
          <a:xfrm>
            <a:off x="2438280" y="120600"/>
            <a:ext cx="5029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Coal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Sedimentary Rock formed from plant remains usually in a swamp enviro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 where swamps used to 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2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5" name="Picture 2" descr="obsidian"/>
          <p:cNvPicPr/>
          <p:nvPr/>
        </p:nvPicPr>
        <p:blipFill>
          <a:blip r:embed="rId2"/>
          <a:stretch/>
        </p:blipFill>
        <p:spPr>
          <a:xfrm>
            <a:off x="1981080" y="15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Obsidian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y quick cooling molten rock (lav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as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rystals formed because it cooled quick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9" name="Picture 2" descr="obsidian"/>
          <p:cNvPicPr/>
          <p:nvPr/>
        </p:nvPicPr>
        <p:blipFill>
          <a:blip r:embed="rId1"/>
          <a:stretch/>
        </p:blipFill>
        <p:spPr>
          <a:xfrm>
            <a:off x="4343400" y="3049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2" name="Picture 2" descr="http://rds.yahoo.com/_ylt=A0WTefQknuJJeCoBDNajzbkF/SIG=126t6leod/EXP=1239674788/**http%3A/z.about.com/d/geology/1/0/R/N/sandstone.jpg"/>
          <p:cNvPicPr/>
          <p:nvPr/>
        </p:nvPicPr>
        <p:blipFill>
          <a:blip r:embed="rId3"/>
          <a:stretch/>
        </p:blipFill>
        <p:spPr>
          <a:xfrm>
            <a:off x="1828800" y="352440"/>
            <a:ext cx="6443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and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rains of sand and Quartz cemented by silica or lim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by the action of wind, water, and ice on older ro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form in shallow seas or desert areas.  Where there is sand, there will be sandston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Picture 2" descr="http://rds.yahoo.com/_ylt=A0WTefQknuJJeCoBDNajzbkF/SIG=126t6leod/EXP=1239674788/**http%3A/z.about.com/d/geology/1/0/R/N/sandstone.jpg"/>
          <p:cNvPicPr/>
          <p:nvPr/>
        </p:nvPicPr>
        <p:blipFill>
          <a:blip r:embed="rId1"/>
          <a:stretch/>
        </p:blipFill>
        <p:spPr>
          <a:xfrm>
            <a:off x="4952880" y="1114560"/>
            <a:ext cx="3810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9" name="Picture 2" descr="pumice"/>
          <p:cNvPicPr/>
          <p:nvPr/>
        </p:nvPicPr>
        <p:blipFill>
          <a:blip r:embed="rId2"/>
          <a:stretch/>
        </p:blipFill>
        <p:spPr>
          <a:xfrm>
            <a:off x="2133720" y="228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Pumic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Quick cooling molten rock (lav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loats on wa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3" name="Picture 2" descr="pumice"/>
          <p:cNvPicPr/>
          <p:nvPr/>
        </p:nvPicPr>
        <p:blipFill>
          <a:blip r:embed="rId1"/>
          <a:stretch/>
        </p:blipFill>
        <p:spPr>
          <a:xfrm>
            <a:off x="42670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06" name="Picture 2" descr="scoria"/>
          <p:cNvPicPr/>
          <p:nvPr/>
        </p:nvPicPr>
        <p:blipFill>
          <a:blip r:embed="rId2"/>
          <a:stretch/>
        </p:blipFill>
        <p:spPr>
          <a:xfrm>
            <a:off x="19810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coria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as a frothy crust on the top of a lava flow or as material ejected from a volcanic vent and solidifying while airbor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Picture 2" descr="scoria"/>
          <p:cNvPicPr/>
          <p:nvPr/>
        </p:nvPicPr>
        <p:blipFill>
          <a:blip r:embed="rId1"/>
          <a:stretch/>
        </p:blipFill>
        <p:spPr>
          <a:xfrm>
            <a:off x="4267080" y="3049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0" name="Picture 2" descr="marbl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13" name="Picture 2" descr="basalt"/>
          <p:cNvPicPr/>
          <p:nvPr/>
        </p:nvPicPr>
        <p:blipFill>
          <a:blip r:embed="rId2"/>
          <a:stretch/>
        </p:blipFill>
        <p:spPr>
          <a:xfrm>
            <a:off x="228600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Basalt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ed from dark dense lav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yroxene, plagioclase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e grai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7" name="Picture 2" descr="basalt"/>
          <p:cNvPicPr/>
          <p:nvPr/>
        </p:nvPicPr>
        <p:blipFill>
          <a:blip r:embed="rId1"/>
          <a:stretch/>
        </p:blipFill>
        <p:spPr>
          <a:xfrm>
            <a:off x="4343400" y="380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0" name="Picture 2" descr="slate"/>
          <p:cNvPicPr/>
          <p:nvPr/>
        </p:nvPicPr>
        <p:blipFill>
          <a:blip r:embed="rId2"/>
          <a:stretch/>
        </p:blipFill>
        <p:spPr>
          <a:xfrm>
            <a:off x="2286000" y="4190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la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Sha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ks into thin “slice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4" name="Picture 2" descr="slate"/>
          <p:cNvPicPr/>
          <p:nvPr/>
        </p:nvPicPr>
        <p:blipFill>
          <a:blip r:embed="rId1"/>
          <a:stretch/>
        </p:blipFill>
        <p:spPr>
          <a:xfrm>
            <a:off x="4495680" y="380880"/>
            <a:ext cx="3988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7" name="Picture 2" descr="chert limestone conglomerat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Conglome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ed pebbles ¼ inch or larger cemented together by quartz or quartz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near moving water, such as beaches rivers and glaci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Picture 2" descr="chert limestone conglomerate"/>
          <p:cNvPicPr/>
          <p:nvPr/>
        </p:nvPicPr>
        <p:blipFill>
          <a:blip r:embed="rId1"/>
          <a:stretch/>
        </p:blipFill>
        <p:spPr>
          <a:xfrm>
            <a:off x="5181480" y="1066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a partner, complete the Rock Identification Unit Assessment Review in the back of your pack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Marbl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Limes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4" name="Picture 2" descr="marble"/>
          <p:cNvPicPr/>
          <p:nvPr/>
        </p:nvPicPr>
        <p:blipFill>
          <a:blip r:embed="rId1"/>
          <a:stretch/>
        </p:blipFill>
        <p:spPr>
          <a:xfrm>
            <a:off x="4267080" y="304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Lime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from shells, coral, algal and fecal debr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t is found in clear, warm, shallow marine water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64" name="Picture 2" descr="granite"/>
          <p:cNvPicPr/>
          <p:nvPr/>
        </p:nvPicPr>
        <p:blipFill>
          <a:blip r:embed="rId2"/>
          <a:stretch/>
        </p:blipFill>
        <p:spPr>
          <a:xfrm>
            <a:off x="2209680" y="190440"/>
            <a:ext cx="57405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rani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 or Felsic (depend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n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rse Grained, can see cryst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8" name="Picture 2" descr="granite"/>
          <p:cNvPicPr/>
          <p:nvPr/>
        </p:nvPicPr>
        <p:blipFill>
          <a:blip r:embed="rId1"/>
          <a:stretch/>
        </p:blipFill>
        <p:spPr>
          <a:xfrm>
            <a:off x="4572000" y="3430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1" name="Picture 2" descr="gneiss"/>
          <p:cNvPicPr/>
          <p:nvPr/>
        </p:nvPicPr>
        <p:blipFill>
          <a:blip r:embed="rId2"/>
          <a:stretch/>
        </p:blipFill>
        <p:spPr>
          <a:xfrm>
            <a:off x="22096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neiss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de of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Gran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" name="Picture 2" descr="gneiss"/>
          <p:cNvPicPr/>
          <p:nvPr/>
        </p:nvPicPr>
        <p:blipFill>
          <a:blip r:embed="rId1"/>
          <a:stretch/>
        </p:blipFill>
        <p:spPr>
          <a:xfrm>
            <a:off x="4724280" y="380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13:56Z</dcterms:created>
  <dc:creator>Liz</dc:creator>
  <dc:description/>
  <dc:language>en-US</dc:language>
  <cp:lastModifiedBy>asd</cp:lastModifiedBy>
  <dcterms:modified xsi:type="dcterms:W3CDTF">2011-01-21T18:18:50Z</dcterms:modified>
  <cp:revision>25</cp:revision>
  <dc:subject/>
  <dc:title>Rock identification</dc:title>
</cp:coreProperties>
</file>