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B77-0029-4C53-B331-1DD11C68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72F-3E2B-4E64-AC98-F5B13E40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493-CA4B-49F4-A185-ED471DED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83D-2E0D-4165-8FD8-110D9E12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48A4-6B40-47A0-A32A-DE2A4F21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3F9F-4D43-42F0-8998-2D1BA70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CED3-19F3-4779-941D-FA8B6B8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AF0B-15D3-44FA-8F5D-774BBB0C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36C2-C909-4174-AA28-17C325AD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A7D-5B59-4407-BAC6-1D59BE3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4529-C0C6-4F64-8747-B3C018B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1D3-6BC1-4901-91EF-C630F37E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A414-56EA-4039-860E-088B717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AE91-72FB-4369-BC4F-983D562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E03A-039B-4F7E-A67F-9C73513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D682-6B56-4CF3-BDE0-DEE6383E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5E42-1CA7-4FD6-B2FB-A668DAB3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E26E1-5967-4657-8AEB-95B34DA7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98664-D59D-46E5-AA18-E91D0FCB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F38F3-BDF3-4F98-A7D5-2560877D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AD494-7315-4238-BD84-E79B0EC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18480-EB67-4E77-B56D-B0112E49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CED-EB70-47CE-9696-633DF7B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6A4C0-B5B8-4240-9190-CA92061D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963B0-9751-4F4B-ADC6-05E1018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00238-B53B-4F37-9C89-FB3E0B1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5983D-E731-4AA7-AFF6-B8F2E11B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CBEF5-C1AE-4F56-B0D4-643B1CC8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C975E-E39A-448E-AB5B-1C9D9367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49FC6-9D98-4FDB-BB6C-346FB59A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F22-B596-484F-B8D2-85CF507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E44-9FF4-4CA1-B4D3-8C0D90F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85A6-C84E-4D85-B097-B7AD547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129-43B6-4DA3-9D89-356B8CB5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C92-BD7B-45CE-972A-C47C4DE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D16-5E53-436D-887E-BE34F84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F18-DFF3-48DC-B5FE-03377BFA77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3F2-339A-477D-ACEC-566CBEF5ADA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EBD4-9C19-45FC-9603-7EE758491C5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ct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i.org/Minerals/photocoal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geology/1/0/R/N/sandston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p.state.fl.us/geology/geologictopics/rocks/ocala_limestone.htm" TargetMode="External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OCK IDENTIFI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35" name="Picture 2" descr="marble"/>
          <p:cNvPicPr/>
          <p:nvPr/>
        </p:nvPicPr>
        <p:blipFill>
          <a:blip r:embed="rId1"/>
          <a:stretch/>
        </p:blipFill>
        <p:spPr>
          <a:xfrm>
            <a:off x="152280" y="152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ranite"/>
          <p:cNvPicPr/>
          <p:nvPr/>
        </p:nvPicPr>
        <p:blipFill>
          <a:blip r:embed="rId2"/>
          <a:stretch/>
        </p:blipFill>
        <p:spPr>
          <a:xfrm>
            <a:off x="4749840" y="152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neiss"/>
          <p:cNvPicPr/>
          <p:nvPr/>
        </p:nvPicPr>
        <p:blipFill>
          <a:blip r:embed="rId3"/>
          <a:stretch/>
        </p:blipFill>
        <p:spPr>
          <a:xfrm>
            <a:off x="6934320" y="152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mii.org/Minerals/Minpics1/CoalBituminous.jpg"/>
          <p:cNvPicPr/>
          <p:nvPr/>
        </p:nvPicPr>
        <p:blipFill>
          <a:blip r:embed="rId4"/>
          <a:stretch/>
        </p:blipFill>
        <p:spPr>
          <a:xfrm>
            <a:off x="228600" y="1828800"/>
            <a:ext cx="198108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obsidian"/>
          <p:cNvPicPr/>
          <p:nvPr/>
        </p:nvPicPr>
        <p:blipFill>
          <a:blip r:embed="rId5"/>
          <a:stretch/>
        </p:blipFill>
        <p:spPr>
          <a:xfrm>
            <a:off x="2438280" y="18288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rds.yahoo.com/_ylt=A0WTefQknuJJeCoBDNajzbkF/SIG=126t6leod/EXP=1239674788/**http%3A/z.about.com/d/geology/1/0/R/N/sandstone.jpg"/>
          <p:cNvPicPr/>
          <p:nvPr/>
        </p:nvPicPr>
        <p:blipFill>
          <a:blip r:embed="rId6"/>
          <a:stretch/>
        </p:blipFill>
        <p:spPr>
          <a:xfrm>
            <a:off x="4724280" y="1986120"/>
            <a:ext cx="2251080" cy="136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umice"/>
          <p:cNvPicPr/>
          <p:nvPr/>
        </p:nvPicPr>
        <p:blipFill>
          <a:blip r:embed="rId7"/>
          <a:stretch/>
        </p:blipFill>
        <p:spPr>
          <a:xfrm>
            <a:off x="7010280" y="182880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scoria"/>
          <p:cNvPicPr/>
          <p:nvPr/>
        </p:nvPicPr>
        <p:blipFill>
          <a:blip r:embed="rId8"/>
          <a:stretch/>
        </p:blipFill>
        <p:spPr>
          <a:xfrm>
            <a:off x="228600" y="365760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basalt"/>
          <p:cNvPicPr/>
          <p:nvPr/>
        </p:nvPicPr>
        <p:blipFill>
          <a:blip r:embed="rId9"/>
          <a:stretch/>
        </p:blipFill>
        <p:spPr>
          <a:xfrm>
            <a:off x="2590920" y="3657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slate"/>
          <p:cNvPicPr/>
          <p:nvPr/>
        </p:nvPicPr>
        <p:blipFill>
          <a:blip r:embed="rId10"/>
          <a:stretch/>
        </p:blipFill>
        <p:spPr>
          <a:xfrm>
            <a:off x="4800600" y="3619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ornfels"/>
          <p:cNvPicPr/>
          <p:nvPr/>
        </p:nvPicPr>
        <p:blipFill>
          <a:blip r:embed="rId11"/>
          <a:stretch/>
        </p:blipFill>
        <p:spPr>
          <a:xfrm>
            <a:off x="7035840" y="3638520"/>
            <a:ext cx="1955880" cy="146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hert limestone conglomerate"/>
          <p:cNvPicPr/>
          <p:nvPr/>
        </p:nvPicPr>
        <p:blipFill>
          <a:blip r:embed="rId12"/>
          <a:stretch/>
        </p:blipFill>
        <p:spPr>
          <a:xfrm>
            <a:off x="304920" y="5334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438280" y="133200"/>
            <a:ext cx="2133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8" name="Picture 2" descr="http://www.mii.org/Minerals/Minpics1/CoalBituminous.jpg"/>
          <p:cNvPicPr/>
          <p:nvPr/>
        </p:nvPicPr>
        <p:blipFill>
          <a:blip r:embed="rId3"/>
          <a:stretch/>
        </p:blipFill>
        <p:spPr>
          <a:xfrm>
            <a:off x="2438280" y="120600"/>
            <a:ext cx="5029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Coal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Sedimentary Rock formed from plant remains usually in a swamp enviro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 where swamps used to 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2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5" name="Picture 2" descr="obsidian"/>
          <p:cNvPicPr/>
          <p:nvPr/>
        </p:nvPicPr>
        <p:blipFill>
          <a:blip r:embed="rId2"/>
          <a:stretch/>
        </p:blipFill>
        <p:spPr>
          <a:xfrm>
            <a:off x="1981080" y="15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Obsidian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y quick cooling molten rock (lav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as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rystals formed because it cooled quick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9" name="Picture 2" descr="obsidian"/>
          <p:cNvPicPr/>
          <p:nvPr/>
        </p:nvPicPr>
        <p:blipFill>
          <a:blip r:embed="rId1"/>
          <a:stretch/>
        </p:blipFill>
        <p:spPr>
          <a:xfrm>
            <a:off x="4343400" y="3049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2" name="Picture 2" descr="http://rds.yahoo.com/_ylt=A0WTefQknuJJeCoBDNajzbkF/SIG=126t6leod/EXP=1239674788/**http%3A/z.about.com/d/geology/1/0/R/N/sandstone.jpg"/>
          <p:cNvPicPr/>
          <p:nvPr/>
        </p:nvPicPr>
        <p:blipFill>
          <a:blip r:embed="rId3"/>
          <a:stretch/>
        </p:blipFill>
        <p:spPr>
          <a:xfrm>
            <a:off x="1828800" y="352440"/>
            <a:ext cx="6443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and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rains of sand and Quartz cemented by silica or lim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by the action of wind, water, and ice on older ro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form in shallow seas or desert areas.  Where there is sand, there will be sandston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Picture 2" descr="http://rds.yahoo.com/_ylt=A0WTefQknuJJeCoBDNajzbkF/SIG=126t6leod/EXP=1239674788/**http%3A/z.about.com/d/geology/1/0/R/N/sandstone.jpg"/>
          <p:cNvPicPr/>
          <p:nvPr/>
        </p:nvPicPr>
        <p:blipFill>
          <a:blip r:embed="rId1"/>
          <a:stretch/>
        </p:blipFill>
        <p:spPr>
          <a:xfrm>
            <a:off x="4952880" y="1114560"/>
            <a:ext cx="3810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9" name="Picture 2" descr="pumice"/>
          <p:cNvPicPr/>
          <p:nvPr/>
        </p:nvPicPr>
        <p:blipFill>
          <a:blip r:embed="rId2"/>
          <a:stretch/>
        </p:blipFill>
        <p:spPr>
          <a:xfrm>
            <a:off x="2133720" y="228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Pumic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Quick cooling molten rock (lav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loats on wa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3" name="Picture 2" descr="pumice"/>
          <p:cNvPicPr/>
          <p:nvPr/>
        </p:nvPicPr>
        <p:blipFill>
          <a:blip r:embed="rId1"/>
          <a:stretch/>
        </p:blipFill>
        <p:spPr>
          <a:xfrm>
            <a:off x="42670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06" name="Picture 2" descr="scoria"/>
          <p:cNvPicPr/>
          <p:nvPr/>
        </p:nvPicPr>
        <p:blipFill>
          <a:blip r:embed="rId2"/>
          <a:stretch/>
        </p:blipFill>
        <p:spPr>
          <a:xfrm>
            <a:off x="19810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coria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as a frothy crust on the top of a lava flow or as material ejected from a volcanic vent and solidifying while airbor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Picture 2" descr="scoria"/>
          <p:cNvPicPr/>
          <p:nvPr/>
        </p:nvPicPr>
        <p:blipFill>
          <a:blip r:embed="rId1"/>
          <a:stretch/>
        </p:blipFill>
        <p:spPr>
          <a:xfrm>
            <a:off x="4267080" y="3049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0" name="Picture 2" descr="marbl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13" name="Picture 2" descr="basalt"/>
          <p:cNvPicPr/>
          <p:nvPr/>
        </p:nvPicPr>
        <p:blipFill>
          <a:blip r:embed="rId2"/>
          <a:stretch/>
        </p:blipFill>
        <p:spPr>
          <a:xfrm>
            <a:off x="228600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Basalt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ed from dark dense lav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yroxene, plagioclase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e grai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7" name="Picture 2" descr="basalt"/>
          <p:cNvPicPr/>
          <p:nvPr/>
        </p:nvPicPr>
        <p:blipFill>
          <a:blip r:embed="rId1"/>
          <a:stretch/>
        </p:blipFill>
        <p:spPr>
          <a:xfrm>
            <a:off x="4343400" y="380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0" name="Picture 2" descr="slate"/>
          <p:cNvPicPr/>
          <p:nvPr/>
        </p:nvPicPr>
        <p:blipFill>
          <a:blip r:embed="rId2"/>
          <a:stretch/>
        </p:blipFill>
        <p:spPr>
          <a:xfrm>
            <a:off x="2286000" y="4190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la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Sha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ks into thin “slice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4" name="Picture 2" descr="slate"/>
          <p:cNvPicPr/>
          <p:nvPr/>
        </p:nvPicPr>
        <p:blipFill>
          <a:blip r:embed="rId1"/>
          <a:stretch/>
        </p:blipFill>
        <p:spPr>
          <a:xfrm>
            <a:off x="4495680" y="380880"/>
            <a:ext cx="3988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7" name="Picture 2" descr="chert limestone conglomerat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Conglome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ed pebbles ¼ inch or larger cemented together by quartz or quartz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near moving water, such as beaches rivers and glaci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Picture 2" descr="chert limestone conglomerate"/>
          <p:cNvPicPr/>
          <p:nvPr/>
        </p:nvPicPr>
        <p:blipFill>
          <a:blip r:embed="rId1"/>
          <a:stretch/>
        </p:blipFill>
        <p:spPr>
          <a:xfrm>
            <a:off x="5181480" y="1066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a partner, complete the Rock Identification Unit Assessment Review in the back of your pack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Marbl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Limes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4" name="Picture 2" descr="marble"/>
          <p:cNvPicPr/>
          <p:nvPr/>
        </p:nvPicPr>
        <p:blipFill>
          <a:blip r:embed="rId1"/>
          <a:stretch/>
        </p:blipFill>
        <p:spPr>
          <a:xfrm>
            <a:off x="4267080" y="304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Lime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from shells, coral, algal and fecal debr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t is found in clear, warm, shallow marine water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64" name="Picture 2" descr="granite"/>
          <p:cNvPicPr/>
          <p:nvPr/>
        </p:nvPicPr>
        <p:blipFill>
          <a:blip r:embed="rId2"/>
          <a:stretch/>
        </p:blipFill>
        <p:spPr>
          <a:xfrm>
            <a:off x="2209680" y="190440"/>
            <a:ext cx="57405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rani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 or Felsic (depend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n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rse Grained, can see cryst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8" name="Picture 2" descr="granite"/>
          <p:cNvPicPr/>
          <p:nvPr/>
        </p:nvPicPr>
        <p:blipFill>
          <a:blip r:embed="rId1"/>
          <a:stretch/>
        </p:blipFill>
        <p:spPr>
          <a:xfrm>
            <a:off x="4572000" y="3430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1" name="Picture 2" descr="gneiss"/>
          <p:cNvPicPr/>
          <p:nvPr/>
        </p:nvPicPr>
        <p:blipFill>
          <a:blip r:embed="rId2"/>
          <a:stretch/>
        </p:blipFill>
        <p:spPr>
          <a:xfrm>
            <a:off x="22096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neiss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de of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Gran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" name="Picture 2" descr="gneiss"/>
          <p:cNvPicPr/>
          <p:nvPr/>
        </p:nvPicPr>
        <p:blipFill>
          <a:blip r:embed="rId1"/>
          <a:stretch/>
        </p:blipFill>
        <p:spPr>
          <a:xfrm>
            <a:off x="4724280" y="380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13:56Z</dcterms:created>
  <dc:creator>Liz</dc:creator>
  <dc:description/>
  <dc:language>en-US</dc:language>
  <cp:lastModifiedBy>asd</cp:lastModifiedBy>
  <dcterms:modified xsi:type="dcterms:W3CDTF">2011-01-21T18:18:50Z</dcterms:modified>
  <cp:revision>25</cp:revision>
  <dc:subject/>
  <dc:title>Rock identification</dc:title>
</cp:coreProperties>
</file>