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9E8-032E-4EEC-884B-1E2A0A8E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862-DD43-46EA-9C1F-7954064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DFC-46C7-4A4E-981D-0A9B7C09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344-E357-40C8-8273-5E39D1D8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58D7-A078-4342-B7B8-AE2CDA27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50B4-5172-41F4-ADE1-0F08EC4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FA6E-CE16-4382-A94D-0F1F6F3E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4FAD-4009-42B0-8E49-9FE1BE4F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6E66-5D51-43C4-B656-BEC7B5A5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AEEF-7A2B-4BAA-95F5-BD044A95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042-5BEA-4BB9-A529-544E5359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932-A97E-4EBB-BDCD-988843C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AFFB-33E0-4B27-8DD0-0503EAA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3B3-02E9-4D90-8BE8-5077745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CEC6-C15E-458A-939A-64909E4A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6088-8049-414B-A727-F309070D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74A0-D64F-467A-829A-A1A3C066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AD9-D264-48CA-87D3-8139105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156-9E0B-4833-9833-03F7E4B9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C57-A4A9-4F18-A8AA-2B9D2CCA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D7A-C5C1-465C-B2E3-E1022C49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72C-9408-4F8A-8071-F62C89C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5C9-677A-42B7-8FF5-9437A9E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DC3-3A25-4B90-B5D9-894F841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A0BD-499E-4E15-8069-B53248EB876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1298-BE6D-4252-B856-5B7B5785044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nking Consequences and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illustrator gets to see the f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say go, the illustrator will draw a picture to illustrate the fac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team members have to guess the fact from the picture.  If they guess it, the recorder will write the fact on the pi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quickly.  You only have 2 minutes to d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help your teammates by acting and you can take short cuts by writing numbers, small helping words, labels or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ime is up, hold up your pi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eam that has guessed correctly gets a team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illustrator and recorder must be chosen from the team to draw and record each new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a few symbols you will need for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( beer can or wine gl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ction (ch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er (happy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happy feelings (sad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forge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o your homework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Alternatives to drinking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talk about drinking alcohol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people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when you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are going to play a game reviewing some facts about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review the reasons why people use marijuana.  The ones that are checked are also true for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other reasons why people might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eelings might make young people want to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let’s talk about what happens when your drink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when someone drinks just once? (any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to people who drink regularly? (Regular or heavy drin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 of drinking alcoh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one drink can make you feel out of control and affect your coordination and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ing is related to many problems: car crashes, violence, suicide, unwanted sex, drowning and fire de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gging large amounts of alcohol in a short period of time puts you at risk for coma and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while, you can become addi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p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give an example of when someone might feel like one of the listed emo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seems to make uncomfortable feelings go away.  But it only masks them for a little w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eens drink to cover feel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learn how to cope with those feel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y grow dependent on alcohol to feel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growing up is learning to cope with your emo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s to Drinking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category, write down at least 1 thing a person could do instead of drinking to feel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eparate into 5-6 different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group will select an illustrator and rec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llustrator will be given a fact about alcohol that includes some ideas about how to draw it.  You can use your own ideas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14:02Z</dcterms:created>
  <dc:creator>asd</dc:creator>
  <dc:description/>
  <dc:language>en-US</dc:language>
  <cp:lastModifiedBy>asd</cp:lastModifiedBy>
  <dcterms:modified xsi:type="dcterms:W3CDTF">2011-03-15T05:35:52Z</dcterms:modified>
  <cp:revision>1</cp:revision>
  <dc:subject/>
  <dc:title>Project Alert</dc:title>
</cp:coreProperties>
</file>