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1BF-36F2-4C24-A73E-E519ABAA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805-A800-4890-9CA5-0B5F6B52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A49-9BD8-4FE8-9A2E-BA529403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365-718B-432A-88EA-99ECC3C0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2F94-84A0-4CD6-96C3-81F27D39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B0EE-A650-40CF-89B8-4FB5444A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8CDD-9039-40E4-86C0-3F92EE08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661C-685C-4D86-B02B-A7A0BF5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D709-9733-46A8-A470-8369662D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F88-9137-41BB-A7AE-0355199C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3D66-4122-4A5A-9EE5-03FD1F6B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F7B-260F-4696-B896-81C34F13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BD0-456A-4906-9074-C8CA22F7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7331-EE4A-4C11-892F-50E6ABE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AA4-ADAA-408A-AF33-3ABC918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599E-ABCC-4A38-8584-9E146664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1735-0B28-4FB9-A823-9808935C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0B5-C548-429F-8271-193D0893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7DB-10C8-476B-BB7F-76A86BFE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54D-E441-45CC-B9D9-6222FAB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FB1-FE52-4658-A0A4-4FE6AA27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0C5-7470-409F-A284-6E68DB9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A63-2B3A-4917-9AAC-6302E6F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400-BAA7-4F0F-A3ED-9E4A02A0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9B18-0DFD-457B-AA36-541636BA425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8A72-2D34-43E8-83E8-3A866C8D1B9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nking Consequences and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illustrator gets to see the f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say go, the illustrator will draw a picture to illustrate the fac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team members have to guess the fact from the picture.  If they guess it, the recorder will write the fact on the pi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quickly.  You only have 2 minutes to d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help your teammates by acting and you can take short cuts by writing numbers, small helping words, labels or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ime is up, hold up your pi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eam that has guessed correctly gets a team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illustrator and recorder must be chosen from the team to draw and record each new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a few symbols you will need for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( beer can or wine gl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ction (ch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er (happy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happy feelings (sad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forge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o your homework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Alternatives to drinking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talk about drinking alcohol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people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when you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are going to play a game reviewing some facts about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review the reasons why people use marijuana.  The ones that are checked are also true for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other reasons why people might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eelings might make young people want to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let’s talk about what happens when your drink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when someone drinks just once? (any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to people who drink regularly? (Regular or heavy drin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 of drinking alcoh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one drink can make you feel out of control and affect your coordination and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ing is related to many problems: car crashes, violence, suicide, unwanted sex, drowning and fire de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gging large amounts of alcohol in a short period of time puts you at risk for coma and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while, you can become addi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p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give an example of when someone might feel like one of the listed emo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seems to make uncomfortable feelings go away.  But it only masks them for a little w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eens drink to cover feel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learn how to cope with those feel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y grow dependent on alcohol to feel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growing up is learning to cope with your emo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s to Drinking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category, write down at least 1 thing a person could do instead of drinking to feel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eparate into 5-6 different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group will select an illustrator and rec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llustrator will be given a fact about alcohol that includes some ideas about how to draw it.  You can use your own ideas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14:02Z</dcterms:created>
  <dc:creator>asd</dc:creator>
  <dc:description/>
  <dc:language>en-US</dc:language>
  <cp:lastModifiedBy>asd</cp:lastModifiedBy>
  <dcterms:modified xsi:type="dcterms:W3CDTF">2011-03-15T05:35:52Z</dcterms:modified>
  <cp:revision>1</cp:revision>
  <dc:subject/>
  <dc:title>Project Alert</dc:title>
</cp:coreProperties>
</file>