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224-FE9B-4218-86E8-C6939175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CEE-0020-4910-9DAD-748451A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38C-216D-4D18-98BB-144934AB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C54-F678-4C84-81BE-A0E95AF8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0CB7-7836-4638-8C29-800193A5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472-40FB-4409-83A9-E29ECBE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C99-D7D6-4494-BE95-54CEADD0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1AFA-33C7-4E8D-AED5-DC4B209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BE1A-8DE5-476D-AF33-F21E0F4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359-E467-4763-B825-921B7449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452-43E4-4096-9FC2-A585C83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700-7D59-4718-8294-784E894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43B1-6C71-455C-A10D-70C317B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840-9EBD-465A-8FAA-2EAAEE4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92C1-19FC-437F-B878-CD5F664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D7F4-966A-4198-97A9-C9264410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67C4-0FF8-4E5F-B3AB-EA337D34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87B-9856-4531-9AD3-EAB85337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E3E-8B5C-48D3-8B74-5A69BFC3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4BE-4569-4BF0-990C-B02A356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FBF-6F2F-430C-9077-1A04929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474-FDE8-40AE-967F-758B1F1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610-5B5D-452D-B404-CA5AE15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F79-F747-487C-A561-0526B6C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3BB-BA73-4131-9009-83D02F6B038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CD0-C46E-48CB-AF4A-DF09C50F0DA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nking Consequences and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illustrator gets to see the 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y go, the illustrator will draw a picture to illustrate the f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eam members have to guess the fact from the picture.  If they guess it, the recorder will write the fact on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quickly.  You only have 2 minutes to d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your teammates by acting and you can take short cuts by writing numbers, small helping words, labels or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ime is up, hold up your pi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that has guessed correctly gets a team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illustrator and recorder must be chosen from the team to draw and record each new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a few symbols you will need for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( beer can or wine gl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 (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er (happy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feelings (sad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forge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your homework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Alternatives to drinking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talk about drinking alcoho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ople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when you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are going to play a game reviewing some facts about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review the reasons why people use marijuana.  The ones that are checked are also true for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other reasons why people might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eelings might make young people want to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let’s talk about what happens when your drink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when someone drinks just once? (any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to people who drink regularly? (Regular or heavy drin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drinking alcoh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one drink can make you feel out of control and affect your coordination and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is related to many problems: car crashes, violence, suicide, unwanted sex, drowning and fire de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gging large amounts of alcohol in a short period of time puts you at risk for coma and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while, you can become addi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p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an example of when someone might feel like one of the listed emo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seems to make uncomfortable feelings go away.  But it only masks them for a little 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eens drink to cover feel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learn how to cope with those fee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grow dependent on alcohol to feel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growing up is learning to cope with your emo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s to Drinking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category, write down at least 1 thing a person could do instead of drinking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parate into 5-6 different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select an illustrator and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llustrator will be given a fact about alcohol that includes some ideas about how to draw it.  You can use your own ideas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14:02Z</dcterms:created>
  <dc:creator>asd</dc:creator>
  <dc:description/>
  <dc:language>en-US</dc:language>
  <cp:lastModifiedBy>asd</cp:lastModifiedBy>
  <dcterms:modified xsi:type="dcterms:W3CDTF">2011-03-15T05:35:52Z</dcterms:modified>
  <cp:revision>1</cp:revision>
  <dc:subject/>
  <dc:title>Project Alert</dc:title>
</cp:coreProperties>
</file>