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61B71-B47A-4F80-B409-45EB179C1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54B0-85A6-4F47-8F86-437A8C5FD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AFAC4-6EB2-4B00-BCFD-742CB8704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6B1C7-DC52-41C4-BFE4-E29620184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8795C-0A4F-4DC3-AD8E-AA402FE80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1C811-5DDF-4673-9D0D-7D7070791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6EA32-4ACC-42C3-BDF2-FB40D8335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E65F1-A9DD-4E9B-B78C-7BE018DBC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4E448-587C-4897-A93F-4CCD2EDF1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DC2F2-BF22-428A-9651-7CD1B6E25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65CD-2576-44C4-8931-A092FFA3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B587D-8BFA-4B3C-9E28-9AD6FE4C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85A74-8881-4FB1-94FC-272AEC6B5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84497-87E2-42A8-A472-58CA20AA8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6796D-E12E-418F-BAA2-A642D43F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DBB7D-BB41-4FFA-A55A-4BA38743E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E85F0-0BC7-4C7A-9F35-8F4BF8D9E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6AFCE-C8A1-4418-8675-E86B3B64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B9A61-289B-4B9E-8799-C26D3821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3B2B-5D22-4E47-AB6C-580EA25B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44B5-F183-48EC-A22B-14101EA7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9690-6417-4F72-A0EF-4CB4CF7D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94D9-D315-45E6-AD5E-D0027BE99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1BD9-C4B4-4AD3-853A-0D499DE5E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25BE-7D05-40F2-894B-D7630F595DE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C7BE-AAFA-4BB3-B7AC-797D888B75D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br>
              <a:rPr sz="4400"/>
            </a:b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8-</a:t>
            </a:r>
            <a:endParaRPr b="0" lang="en-US" sz="32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alant Ab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you can protect yourself from the dangerous effects of these chemicals. If you are using a product such as spray paint, glue, or fingernail polish, what can you do to protect yourself from breathing in toxic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533160" y="456840"/>
            <a:ext cx="8305560" cy="5638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Protect Yourself From Toxic Chemicals</a:t>
            </a: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ead and follow directions on product label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y nontoxic products, when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o the project outside, if possibl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 not put your face too close to the product or projec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Open windows, turn on fan</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Take fresh air break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Wear a safety m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always known that toxic chemicals can kill or cause permanent damage. But we’re now learning how many teenagers are dying from intentionally inhaling toxic chemicals. Most people who inhale toxic chemicals don’t know they can die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Stop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n occur after a sudden fright while the person is intoxicated. This fright, combined with the effects of these chemicals, can cause the heart to stop. This can happen to people of all ages, including pre-teens and te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idents</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affect your thinking and coordination. They can also cause people to see things that aren’t there. This has led to fatal accidents, such as getting burned, car crashes, falling off buildings, and drowning.</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Toxic Chemicals Can Kill You</a:t>
            </a:r>
            <a:endParaRPr b="0" lang="en-US" sz="3100" spc="-1" strike="noStrike">
              <a:solidFill>
                <a:srgbClr val="ffffff"/>
              </a:solidFill>
              <a:latin typeface="Arial"/>
            </a:endParaRPr>
          </a:p>
        </p:txBody>
      </p:sp>
      <p:sp>
        <p:nvSpPr>
          <p:cNvPr id="23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ocation</a:t>
            </a:r>
            <a:endParaRPr b="0" lang="en-US" sz="2800" spc="-1" strike="noStrike">
              <a:solidFill>
                <a:srgbClr val="ffffff"/>
              </a:solidFill>
              <a:latin typeface="Arial"/>
            </a:endParaRPr>
          </a:p>
          <a:p>
            <a:pPr marL="343080" indent="-34308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occurs when someone who is intoxicated passes out, throws up, and then chokes on his or her vomit.</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xic chemicals can kill you fast (heart stops) or they can kill you slowly (brain damage). Either way, they are killers. Even if they don’t kill you, many teenagers have become permanently injured when their heart stops from nerve and kidney damage or from accidents after inhaling toxic fumes. They are permanently paralyzed or shake uncontrollably, have irreversible brain dama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523520"/>
            <a:ext cx="7772400" cy="571500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of your very good friends come to you and tell you they want to try sniffing because they heard that it makes you feel good. You are worried and want to convince them NOT to. What would you say? Be convincing.</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571320" y="228240"/>
            <a:ext cx="8001000" cy="61722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divide the class into groups of 5-6.</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create a poster titled </a:t>
            </a:r>
            <a:r>
              <a:rPr b="0" i="1" lang="en-US" sz="2400" spc="-1" strike="noStrike">
                <a:solidFill>
                  <a:srgbClr val="ffffff"/>
                </a:solidFill>
                <a:latin typeface="Arial"/>
              </a:rPr>
              <a:t>Reasons Not to Inhale Toxic Fumes</a:t>
            </a:r>
            <a:r>
              <a:rPr b="0" lang="en-US" sz="2400" spc="-1" strike="noStrike">
                <a:solidFill>
                  <a:srgbClr val="ffffff"/>
                </a:solidFill>
                <a:latin typeface="Arial"/>
              </a:rPr>
              <a:t>.</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group must appoint both a Recorder and a Reporter.</a:t>
            </a:r>
            <a:endParaRPr b="0" lang="en-US" sz="2400" spc="-1" strike="noStrike">
              <a:solidFill>
                <a:srgbClr val="ffffff"/>
              </a:solidFill>
              <a:latin typeface="Arial"/>
            </a:endParaRPr>
          </a:p>
          <a:p>
            <a:pPr marL="453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er must list at least four reasons not to try sniffing.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don’t want to disrespect your friends, but they want to tell them the truth about toxic chemic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work:</a:t>
            </a:r>
            <a:endParaRPr b="0" lang="en-US" sz="32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r Family’s Guidelines for Using Household Chemicals.</a:t>
            </a:r>
            <a:endParaRPr b="0" lang="en-US" sz="3000" spc="-1" strike="noStrike">
              <a:solidFill>
                <a:srgbClr val="ffffff"/>
              </a:solidFill>
              <a:latin typeface="Arial"/>
            </a:endParaRPr>
          </a:p>
          <a:p>
            <a:pPr marL="453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53960" indent="-352440">
              <a:lnSpc>
                <a:spcPct val="110000"/>
              </a:lnSpc>
              <a:spcBef>
                <a:spcPts val="7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ork with your parent(s) or trusted adult to develop guidelines that will work for you and your fami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o show students how to protect themselves from accidental inhalant poisoning</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o motivate students not to use inhalants intentionally</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To motivate experimenters to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talked about resisting peer pressure to use alcohol, cigarettes, and other drugs. Today we are going to talk about protecting ourselves from toxic (poisonous) fu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1000"/>
          </a:bodyPr>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ai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water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 your hands if you are concerned about “body pollution.” </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our air and water are polluted, our bodies will become polluted as well.</a:t>
            </a:r>
            <a:endParaRPr b="0" lang="en-US" sz="2600" spc="-1" strike="noStrike">
              <a:solidFill>
                <a:srgbClr val="ffffff"/>
              </a:solidFill>
              <a:latin typeface="Arial"/>
            </a:endParaRPr>
          </a:p>
          <a:p>
            <a:pPr marL="4129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2920" indent="-320400">
              <a:lnSpc>
                <a:spcPct val="100000"/>
              </a:lnSpc>
              <a:spcBef>
                <a:spcPts val="6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day we are going to discuss ways to prevent body pollu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5000"/>
          </a:bodyPr>
          <a:p>
            <a:pPr marL="430920" indent="-334800">
              <a:lnSpc>
                <a:spcPct val="100000"/>
              </a:lnSpc>
              <a:spcBef>
                <a:spcPts val="624"/>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xygen is our body’s primary fuel. Let’s think about what happens when your body doesn’t have oxygen. Imagine we are on a spaceship bound for another planet. After the ship lands, you prepare to walk on the planet’s surface. What should you be wearing before you step out of your ship?  </a:t>
            </a:r>
            <a:endParaRPr b="0" lang="en-US" sz="2500" spc="-1" strike="noStrike">
              <a:solidFill>
                <a:srgbClr val="ffffff"/>
              </a:solidFill>
              <a:latin typeface="Arial"/>
            </a:endParaRPr>
          </a:p>
          <a:p>
            <a:pPr marL="430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uld it be safe to go without your helmet and oxygen tank?</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at would happen? </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y must you have oxygen to liv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47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an’t your body use other gases found on the planet? Maybe hydrogen or argon, for instance?</a:t>
            </a:r>
            <a:endParaRPr b="0" lang="en-US" sz="1900" spc="-1" strike="noStrike">
              <a:solidFill>
                <a:srgbClr val="ffffff"/>
              </a:solidFill>
              <a:latin typeface="Arial"/>
            </a:endParaRPr>
          </a:p>
          <a:p>
            <a:pPr lvl="1" marL="87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873000" indent="-333000">
              <a:lnSpc>
                <a:spcPct val="90000"/>
              </a:lnSpc>
              <a:spcBef>
                <a:spcPts val="326"/>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Why not?</a:t>
            </a:r>
            <a:r>
              <a:rPr b="0" lang="en-US" sz="1300" spc="-1" strike="noStrike">
                <a:solidFill>
                  <a:srgbClr val="ffffff"/>
                </a:solidFill>
                <a:latin typeface="Arial"/>
              </a:rPr>
              <a:t> </a:t>
            </a:r>
            <a:endParaRPr b="0" lang="en-US" sz="13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09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396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ink of a car. If you run out of gas, can you fill the tank with water, milk, or orange juice? The car is designed to run on only gasoline, so it won’t work if the gas tank is filled with something else. In fact, these other liquids could permanently damage the car. Your body can’t change fuels, either. Breathing in poisonous fumes and gases damages your body, just as the wrong liquids can damage a c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word ‘inhale’ mean?  </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ll breathe in a lot of things – oxygen in fresh air, the aroma of flowers, the smell of freshly baked cookies, medicine for asthma. BUT, many products are dangerous if you inhale their fumes (vapors).</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of you have been in a room that has been freshly painted, or used spray paint, glue, or fingernail polish remover for a long time? </a:t>
            </a:r>
            <a:endParaRPr b="0" lang="en-US" sz="2000" spc="-1" strike="noStrike">
              <a:solidFill>
                <a:srgbClr val="ffffff"/>
              </a:solidFill>
              <a:latin typeface="Arial"/>
            </a:endParaRPr>
          </a:p>
          <a:p>
            <a:pPr lvl="1" marL="919080" indent="-350640">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id you start to feel? </a:t>
            </a:r>
            <a:endParaRPr b="0" lang="en-US" sz="1800" spc="-1" strike="noStrike">
              <a:solidFill>
                <a:srgbClr val="ffffff"/>
              </a:solidFill>
              <a:latin typeface="Arial"/>
            </a:endParaRPr>
          </a:p>
          <a:p>
            <a:pPr lvl="1" marL="919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ody was reacting to the toxic ingredients in these products. They are important warning signs that you shouldn’t ign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safe to drink gasoline or hairspray?</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breathing in gasoline or hairspray fumes?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very dangerous, also. When the fumes from these products are inhaled the same chemicals enter the body, just as if they were swallowed. Poisonous chemicals are contained in the products’ fumes and these chemicals can pollute/damage your body.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race the path of fumes as they enter and then circulate throughout the bo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ter:  Toxic Chemicals Affect your Body Right Away</a:t>
            </a:r>
            <a:endParaRPr b="0" lang="en-US" sz="4000" spc="-1" strike="noStrike">
              <a:solidFill>
                <a:srgbClr val="ffffff"/>
              </a:solidFill>
              <a:latin typeface="Arial"/>
            </a:endParaRPr>
          </a:p>
        </p:txBody>
      </p:sp>
      <p:sp>
        <p:nvSpPr>
          <p:cNvPr id="223" name="PlaceHolder 2"/>
          <p:cNvSpPr>
            <a:spLocks noGrp="1"/>
          </p:cNvSpPr>
          <p:nvPr>
            <p:ph/>
          </p:nvPr>
        </p:nvSpPr>
        <p:spPr>
          <a:xfrm>
            <a:off x="571320" y="1980720"/>
            <a:ext cx="8001000" cy="44960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nts to read the sentence next to #1?</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they go to the lungs and air sacs. There they enter the bloodstream through the tiny air sacs. Who wants to read the sentence next to #2 and #3?</a:t>
            </a:r>
            <a:endParaRPr b="0" lang="en-US" sz="2000" spc="-1" strike="noStrike">
              <a:solidFill>
                <a:srgbClr val="ffffff"/>
              </a:solidFill>
              <a:latin typeface="Arial"/>
            </a:endParaRPr>
          </a:p>
          <a:p>
            <a:pPr marL="453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we can understand how inhaling poisonous fumes quickly affects first the brain, then the heart, then other vital organs and cells in the bo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12:15Z</dcterms:created>
  <dc:creator>asd</dc:creator>
  <dc:description/>
  <dc:language>en-US</dc:language>
  <cp:lastModifiedBy>asd</cp:lastModifiedBy>
  <dcterms:modified xsi:type="dcterms:W3CDTF">2011-03-24T17:19:50Z</dcterms:modified>
  <cp:revision>3</cp:revision>
  <dc:subject/>
  <dc:title>Project Alert Inhalant Abuse</dc:title>
</cp:coreProperties>
</file>