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ct" ContentType="image/x-pict"/>
  <Override PartName="/ppt/media/image8.pct" ContentType="image/x-pict"/>
  <Override PartName="/ppt/media/image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7.pct" ContentType="image/x-pict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10.pct" ContentType="image/x-pict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AB9-4740-4EE4-8DDE-D414B2AF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7F5-0454-4D3F-A371-ABE0DF20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09D-6E2F-4E86-8D02-A13D8168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4C2-BCF9-40CF-8001-81A24144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B08-1C0C-47C8-9740-AA60B845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2A8-B5A0-44F6-86C9-D997310D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28E-785F-4FA3-B64D-19616F4A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0FB-FE63-4744-866D-CDF47D0A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176-281B-4F74-8C5D-45C34DB0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F65-C3D4-4EAA-B3B7-6F0AF969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91D-8398-4234-8905-E3E88C52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DB0-C4E4-4753-A0F1-9F4D3582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3F1B-F946-473F-9ECA-C84CCE320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Inner Plane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4419360" cy="315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647960" cy="314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3768840"/>
            <a:ext cx="4343400" cy="308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0" y="3727440"/>
            <a:ext cx="44197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67.2 million miles from the Sun or .72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Similar to Earth in size, mass and d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is roughly 95% the size, 82% the mass of the Earth and has a very similar density. Because of the similarity its is often referred to as “Earth’s Twin”. However, appearances can be deceiv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Surface temperatur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860°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Hot enough to melt tin, lead and zin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Has smooth rolling plains, highland plateaus, mountains, valleys, craters, and several active volcan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276720"/>
            <a:ext cx="5715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Venut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volcan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Maat 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29000" y="2446200"/>
            <a:ext cx="5638680" cy="4335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Hostile Inf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The gas in its atmosphere and thick clouds of sulfuric acid is poisonous and makes the surface features difficult t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Atmospheric pressure is 90 times more crushing than Earth’s air at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Hostile Inf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Several soviet probes were crushed out of existence as they tried to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Carbon dioxide gas traps the heat making life as we know it impossible on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An extreme example of the Greenhous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304920"/>
            <a:ext cx="4419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Thick clouds reflect the sunlight, making it the brightest planet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Because it shines before sunrise and just after sunset, many people refer to it as the morning and evening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1440" y="152280"/>
            <a:ext cx="4386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3rd pl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Distance from Sun:  93 million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Astronomical Unit (AU) is used to measure the distance of objects in the Universe.  Based on the distance from the Su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9d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9de3"/>
                </a:solidFill>
                <a:latin typeface="Arial"/>
              </a:rPr>
              <a:t>1 AU is the distance from the Sun to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’s rotation (Day) on it’s axis is 24 hours, or 1 Earth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’s revolution (year) around the Sun is 365 days (1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he Earth is 7,926 miles in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 has ONE satellite!  Our mo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emperature ranges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-130°F to 140°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he average temperature is 70°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59280" y="1295280"/>
            <a:ext cx="3979800" cy="502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038480" y="2895120"/>
            <a:ext cx="3048120" cy="838440"/>
          </a:xfrm>
          <a:prstGeom prst="line">
            <a:avLst/>
          </a:prstGeom>
          <a:ln w="127080">
            <a:solidFill>
              <a:srgbClr val="e331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3124"/>
                </a:solidFill>
                <a:latin typeface="Arial"/>
              </a:rPr>
              <a:t>4th Pl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7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st to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st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ghtly larger than our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y i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 (Revolution):  88 Earth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(Rotation):  59 Earth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3124"/>
                </a:solidFill>
                <a:latin typeface="Arial"/>
              </a:rPr>
              <a:t>4th Pla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istance from Su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142 million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1.52 times as far as Earth (1.52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Time to Orbit the Sun (year): 26 Earth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Martian Day: 24.7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iameter-4222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Temperature on the planet’s surface hardly rises above freez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33124"/>
                </a:solidFill>
                <a:latin typeface="Arial"/>
              </a:rPr>
              <a:t>-81°F to 68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72080" y="4191120"/>
            <a:ext cx="266724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Surfac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Impact Cr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rgest volcano in the solar system (Olympus M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rgest Canyon in the Solar System (Valles Mariner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Ancient river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va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Dust is reddish from volcanic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447516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43400" y="4533840"/>
            <a:ext cx="38862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Earth and Mars Compari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43160" y="1811160"/>
            <a:ext cx="65815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72080" y="4191120"/>
            <a:ext cx="2667240" cy="2558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838080"/>
            <a:ext cx="6933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Thin, mostly carbon dioxide, 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it is unbreat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Dusty, makes the sky pinkish, 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lots of dust 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The north and south pol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Mars are covered with thick ic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fr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838080"/>
            <a:ext cx="6933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wo tiny moons named “Deimos”  (Panic) &amp; “Phobos” (F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he moons are irregular and very small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Phobos 27x22x18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eimos 15x12x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he moons are probably asteroids captured by 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34320" y="41148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7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from the Su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.7 million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.39 A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meter of Merc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050 m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o close to the sun that astronomers have a hard time see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see because Mercury is low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only be seen at twilight from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ble only a few times during its 88 day orbit around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’s Or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ls fast around the Sun (88 day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es slowly on its axis (59 day to complete one ro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means that it rotates precisely three times for every two or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-degree t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treme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as we know it could not exist on 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ranges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92° F  to 842° 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, heavy lifeless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tmosphere to hold in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no atmosphere or hydrosphere, there has been no erosion from wind or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atural satellites (mo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05160" y="0"/>
            <a:ext cx="5834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04920"/>
            <a:ext cx="472464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rface is similar to our mo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eteorites do not burn up due to friction as they do in other planetary atmospheres, therefore it i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vered with craters and has a few pl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523880"/>
            <a:ext cx="5791320" cy="67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2nd planet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is easier to observe than Merc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Revolution (year): 224.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Rotation (day): 24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Diameter: 7,50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does not have any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Planet is upside down!  Axis tilt is  17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No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22:02:04Z</dcterms:created>
  <dc:creator>asd</dc:creator>
  <dc:description/>
  <dc:language>en-US</dc:language>
  <cp:lastModifiedBy>asd</cp:lastModifiedBy>
  <dcterms:modified xsi:type="dcterms:W3CDTF">2011-02-09T06:20:24Z</dcterms:modified>
  <cp:revision>7</cp:revision>
  <dc:subject/>
  <dc:title>The Inner Planets!</dc:title>
</cp:coreProperties>
</file>