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png" ContentType="image/png"/>
  <Override PartName="/ppt/media/image9.pct" ContentType="image/x-pict"/>
  <Override PartName="/ppt/media/image8.pct" ContentType="image/x-pict"/>
  <Override PartName="/ppt/media/image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7.pct" ContentType="image/x-pict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4.png" ContentType="image/png"/>
  <Override PartName="/ppt/media/image10.pct" ContentType="image/x-pict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55EA-9E88-4B6E-8B72-5559404C7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3DF7-609E-4935-8A1D-6FAD666D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415A-9F43-4F2F-BA27-86D74FF6C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B1E7-DE22-4816-B4BF-A08E1501B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ECCF-D570-4EC3-89F5-6DF0A8F7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C700-8635-4CBE-8078-B2AC6F68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2E1B-7620-4CC9-A796-9D296507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2292-5522-439C-9F0A-56ED34A0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64A1-25EB-4C9F-9FF4-9D2B6238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1DBA-5040-4084-BF25-AD0D0357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B018-936D-4A56-9366-C2DC6CBE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0B67-E25E-4CFB-BA86-887A8F18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A4FA-32B0-4F58-B491-0F18C928B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The Inner Plane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4419360" cy="3159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0"/>
            <a:ext cx="4647960" cy="3149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52280" y="3768840"/>
            <a:ext cx="4343400" cy="3089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572000" y="3727440"/>
            <a:ext cx="441972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34120" y="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bf43"/>
                </a:solidFill>
                <a:latin typeface="Arial"/>
              </a:rPr>
              <a:t>V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1295280"/>
            <a:ext cx="5715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f43"/>
                </a:solidFill>
                <a:latin typeface="Arial"/>
              </a:rPr>
              <a:t>67.2 million miles from the Sun or .72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f43"/>
                </a:solidFill>
                <a:latin typeface="Arial"/>
              </a:rPr>
              <a:t>Similar to Earth in size, mass and den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f43"/>
                </a:solidFill>
                <a:latin typeface="Arial"/>
              </a:rPr>
              <a:t>Venus is roughly 95% the size, 82% the mass of the Earth and has a very similar density. Because of the similarity its is often referred to as “Earth’s Twin”. However, appearances can be deceiv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ffbf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34120" y="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bf43"/>
                </a:solidFill>
                <a:latin typeface="Arial"/>
              </a:rPr>
              <a:t>V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1295280"/>
            <a:ext cx="5715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f43"/>
                </a:solidFill>
                <a:latin typeface="Arial"/>
              </a:rPr>
              <a:t>Surface temperature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f4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bf43"/>
                </a:solidFill>
                <a:latin typeface="Arial"/>
              </a:rPr>
              <a:t>860°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f43"/>
                </a:solidFill>
                <a:latin typeface="Arial"/>
              </a:rPr>
              <a:t>Hot enough to melt tin, lead and zinc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f43"/>
                </a:solidFill>
                <a:latin typeface="Arial"/>
              </a:rPr>
              <a:t>Has smooth rolling plains, highland plateaus, mountains, valleys, craters, and several active volcan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ffbf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3276720"/>
            <a:ext cx="5715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f43"/>
                </a:solidFill>
                <a:latin typeface="Arial"/>
              </a:rPr>
              <a:t>Venut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f43"/>
                </a:solidFill>
                <a:latin typeface="Arial"/>
              </a:rPr>
              <a:t>volcano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f43"/>
                </a:solidFill>
                <a:latin typeface="Arial"/>
              </a:rPr>
              <a:t>Maat M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bf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429000" y="2446200"/>
            <a:ext cx="5638680" cy="43354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2666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334120" y="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bf43"/>
                </a:solidFill>
                <a:latin typeface="Arial"/>
              </a:rPr>
              <a:t>Hostile Infer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1295280"/>
            <a:ext cx="5715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f43"/>
                </a:solidFill>
                <a:latin typeface="Arial"/>
              </a:rPr>
              <a:t>The gas in its atmosphere and thick clouds of sulfuric acid is poisonous and makes the surface features difficult to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f43"/>
                </a:solidFill>
                <a:latin typeface="Arial"/>
              </a:rPr>
              <a:t>Atmospheric pressure is 90 times more crushing than Earth’s air at sea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bf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34120" y="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bf43"/>
                </a:solidFill>
                <a:latin typeface="Arial"/>
              </a:rPr>
              <a:t>Hostile Infer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1295280"/>
            <a:ext cx="5715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f43"/>
                </a:solidFill>
                <a:latin typeface="Arial"/>
              </a:rPr>
              <a:t>Several soviet probes were crushed out of existence as they tried to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f43"/>
                </a:solidFill>
                <a:latin typeface="Arial"/>
              </a:rPr>
              <a:t>Carbon dioxide gas traps the heat making life as we know it impossible on Ve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f43"/>
                </a:solidFill>
                <a:latin typeface="Arial"/>
              </a:rPr>
              <a:t>An extreme example of the Greenhouse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bf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2280" y="304920"/>
            <a:ext cx="441972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f43"/>
                </a:solidFill>
                <a:latin typeface="Arial"/>
              </a:rPr>
              <a:t>Thick clouds reflect the sunlight, making it the brightest planet in the sk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f43"/>
                </a:solidFill>
                <a:latin typeface="Arial"/>
              </a:rPr>
              <a:t>Because it shines before sunrise and just after sunset, many people refer to it as the morning and evening st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ffbf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81440" y="152280"/>
            <a:ext cx="43862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866920" y="3045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c9de3"/>
                </a:solidFill>
                <a:latin typeface="Arial Bold"/>
              </a:rPr>
              <a:t>Ear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267080" y="3105000"/>
            <a:ext cx="4984920" cy="37562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228600"/>
            <a:ext cx="52578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9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9de3"/>
                </a:solidFill>
                <a:latin typeface="Arial"/>
              </a:rPr>
              <a:t>3rd pla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9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9de3"/>
                </a:solidFill>
                <a:latin typeface="Arial"/>
              </a:rPr>
              <a:t>Distance from Sun:  93 million m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9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9de3"/>
                </a:solidFill>
                <a:latin typeface="Arial"/>
              </a:rPr>
              <a:t>Astronomical Unit (AU) is used to measure the distance of objects in the Universe.  Based on the distance from the Sun to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c9d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9de3"/>
                </a:solidFill>
                <a:latin typeface="Arial"/>
              </a:rPr>
              <a:t>1 AU is the distance from the Sun to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c9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866920" y="3045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c9de3"/>
                </a:solidFill>
                <a:latin typeface="Arial Bold"/>
              </a:rPr>
              <a:t>Ear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267080" y="3105000"/>
            <a:ext cx="4984920" cy="37562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228600"/>
            <a:ext cx="52578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9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9de3"/>
                </a:solidFill>
                <a:latin typeface="Arial"/>
              </a:rPr>
              <a:t>Earth’s rotation (Day) on it’s axis is 24 hours, or 1 Earth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9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9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9de3"/>
                </a:solidFill>
                <a:latin typeface="Arial"/>
              </a:rPr>
              <a:t>Earth’s revolution (year) around the Sun is 365 days (1 y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c9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66920" y="3045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c9de3"/>
                </a:solidFill>
                <a:latin typeface="Arial Bold"/>
              </a:rPr>
              <a:t>Ear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267080" y="3105000"/>
            <a:ext cx="4984920" cy="37562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228600"/>
            <a:ext cx="52578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9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9de3"/>
                </a:solidFill>
                <a:latin typeface="Arial"/>
              </a:rPr>
              <a:t>The Earth is 7,926 miles in dia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9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9de3"/>
                </a:solidFill>
                <a:latin typeface="Arial"/>
              </a:rPr>
              <a:t>Earth has ONE satellite!  Our mo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9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9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9de3"/>
                </a:solidFill>
                <a:latin typeface="Arial"/>
              </a:rPr>
              <a:t>Temperature ranges fr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9de3"/>
                </a:solidFill>
                <a:latin typeface="Arial"/>
              </a:rPr>
              <a:t>-130°F to 140°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c9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9de3"/>
                </a:solidFill>
                <a:latin typeface="Arial"/>
              </a:rPr>
              <a:t>The average temperature is 70°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9d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66920" y="3045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3124"/>
                </a:solidFill>
                <a:latin typeface="Arial Bold"/>
              </a:rPr>
              <a:t>Ma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859280" y="1295280"/>
            <a:ext cx="3979800" cy="5029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V="1">
            <a:off x="4038480" y="2895120"/>
            <a:ext cx="3048120" cy="838440"/>
          </a:xfrm>
          <a:prstGeom prst="line">
            <a:avLst/>
          </a:prstGeom>
          <a:ln w="127080">
            <a:solidFill>
              <a:srgbClr val="e3312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3124"/>
                </a:solidFill>
                <a:latin typeface="Arial"/>
              </a:rPr>
              <a:t>4th Pla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457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rc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est to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est pla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ightly larger than our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y in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ar (Revolution):  88 Earth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y (Rotation):  59 Earth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487840" y="0"/>
            <a:ext cx="365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866920" y="3045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3124"/>
                </a:solidFill>
                <a:latin typeface="Arial Bold"/>
              </a:rPr>
              <a:t>Ma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3124"/>
                </a:solidFill>
                <a:latin typeface="Arial"/>
              </a:rPr>
              <a:t>4th Pla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e331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Distance from Su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e3312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124"/>
                </a:solidFill>
                <a:latin typeface="Arial"/>
              </a:rPr>
              <a:t>142 million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e3312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124"/>
                </a:solidFill>
                <a:latin typeface="Arial"/>
              </a:rPr>
              <a:t>1.52 times as far as Earth (1.52 A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e331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Time to Orbit the Sun (year): 26 Earth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e331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Martian Day: 24.7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e331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Diameter-4222 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e331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Temperature on the planet’s surface hardly rises above freezing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312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33124"/>
                </a:solidFill>
                <a:latin typeface="Arial"/>
              </a:rPr>
              <a:t>-81°F to 68°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472080" y="4191120"/>
            <a:ext cx="2667240" cy="25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866920" y="3045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3124"/>
                </a:solidFill>
                <a:latin typeface="Arial Bold"/>
              </a:rPr>
              <a:t>Ma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Surfac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1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33124"/>
                </a:solidFill>
                <a:latin typeface="Arial"/>
              </a:rPr>
              <a:t>Impact Cra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1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33124"/>
                </a:solidFill>
                <a:latin typeface="Arial"/>
              </a:rPr>
              <a:t>Largest volcano in the solar system (Olympus M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1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33124"/>
                </a:solidFill>
                <a:latin typeface="Arial"/>
              </a:rPr>
              <a:t>Largest Canyon in the Solar System (Valles Mariner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1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33124"/>
                </a:solidFill>
                <a:latin typeface="Arial"/>
              </a:rPr>
              <a:t>Ancient river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1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33124"/>
                </a:solidFill>
                <a:latin typeface="Arial"/>
              </a:rPr>
              <a:t>Lava R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12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33124"/>
                </a:solidFill>
                <a:latin typeface="Arial"/>
              </a:rPr>
              <a:t>Dust is reddish from volcanic r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8600" y="4475160"/>
            <a:ext cx="2895480" cy="2178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343400" y="4533840"/>
            <a:ext cx="388620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3124"/>
                </a:solidFill>
                <a:latin typeface="Arial Bold"/>
              </a:rPr>
              <a:t>Earth and Mars Comparis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43160" y="1811160"/>
            <a:ext cx="65815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866920" y="3045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3124"/>
                </a:solidFill>
                <a:latin typeface="Arial Bold"/>
              </a:rPr>
              <a:t>Ma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472080" y="4191120"/>
            <a:ext cx="2667240" cy="25588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838080"/>
            <a:ext cx="69339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e331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Atm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-Thin, mostly carbon dioxide, s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it is unbreath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-Dusty, makes the sky pinkish, </a:t>
            </a: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lots of dust st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e331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-The north and south poles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Mars are covered with thick ice 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fr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866920" y="3045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3124"/>
                </a:solidFill>
                <a:latin typeface="Arial Bold"/>
              </a:rPr>
              <a:t>Ma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838080"/>
            <a:ext cx="69339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e331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3124"/>
                </a:solidFill>
                <a:latin typeface="Arial"/>
              </a:rPr>
              <a:t>Two tiny moons named “Deimos”  (Panic) &amp; “Phobos” (F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331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3124"/>
                </a:solidFill>
                <a:latin typeface="Arial"/>
              </a:rPr>
              <a:t>The moons are irregular and very small in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00"/>
              </a:spcBef>
              <a:buClr>
                <a:srgbClr val="e3312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Phobos 27x22x18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00"/>
              </a:spcBef>
              <a:buClr>
                <a:srgbClr val="e3312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124"/>
                </a:solidFill>
                <a:latin typeface="Arial"/>
              </a:rPr>
              <a:t>Deimos 15x12x10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331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3124"/>
                </a:solidFill>
                <a:latin typeface="Arial"/>
              </a:rPr>
              <a:t>The moons are probably asteroids captured by M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58000" y="1676520"/>
            <a:ext cx="1828800" cy="2438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934320" y="4114800"/>
            <a:ext cx="1828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457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rc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ance from the Su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3.7 million m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.39 A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meter of Mercu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,050 mi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487840" y="0"/>
            <a:ext cx="365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rc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so close to the sun that astronomers have a hard time seeing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icult to see because Mercury is low in the s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only be seen at twilight from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ible only a few times during its 88 day orbit around the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487840" y="0"/>
            <a:ext cx="365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rcury’s Orb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vels fast around the Sun (88 day ye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tates slowly on its axis (59 day to complete one rot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is means that it rotates precisely three times for every two or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-degree ti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487840" y="0"/>
            <a:ext cx="365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xtreme 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e as we know it could not exist on Merc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erature ranges fr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292° F  to 842° F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487840" y="0"/>
            <a:ext cx="365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-360" y="304920"/>
            <a:ext cx="5181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t, heavy lifeless pla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little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atmosphere to hold in the 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ith no atmosphere or hydrosphere, there has been no erosion from wind or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natural satellites (mo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487840" y="0"/>
            <a:ext cx="365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305160" y="0"/>
            <a:ext cx="583416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304920"/>
            <a:ext cx="472464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rface is similar to our mo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Meteorites do not burn up due to friction as they do in other planetary atmospheres, therefore it is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vered with craters and has a few pla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34120" y="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bf43"/>
                </a:solidFill>
                <a:latin typeface="Arial"/>
              </a:rPr>
              <a:t>V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1523880"/>
            <a:ext cx="5791320" cy="67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f43"/>
                </a:solidFill>
                <a:latin typeface="Arial"/>
              </a:rPr>
              <a:t>2nd planet from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f43"/>
                </a:solidFill>
                <a:latin typeface="Arial"/>
              </a:rPr>
              <a:t>Venus is easier to observe than Merc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f43"/>
                </a:solidFill>
                <a:latin typeface="Arial"/>
              </a:rPr>
              <a:t>Revolution (year): 224.7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f43"/>
                </a:solidFill>
                <a:latin typeface="Arial"/>
              </a:rPr>
              <a:t>Rotation (day): 243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f43"/>
                </a:solidFill>
                <a:latin typeface="Arial"/>
              </a:rPr>
              <a:t>Diameter: 7,500 m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f43"/>
                </a:solidFill>
                <a:latin typeface="Arial"/>
              </a:rPr>
              <a:t>Venus does not have any mo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f43"/>
                </a:solidFill>
                <a:latin typeface="Arial"/>
              </a:rPr>
              <a:t>Planet is upside down!  Axis tilt is  177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f43"/>
                </a:solidFill>
                <a:latin typeface="Arial"/>
              </a:rPr>
              <a:t>No mo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bf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22:02:04Z</dcterms:created>
  <dc:creator>asd</dc:creator>
  <dc:description/>
  <dc:language>en-US</dc:language>
  <cp:lastModifiedBy>asd</cp:lastModifiedBy>
  <dcterms:modified xsi:type="dcterms:W3CDTF">2011-02-09T06:20:24Z</dcterms:modified>
  <cp:revision>7</cp:revision>
  <dc:subject/>
  <dc:title>The Inner Planets!</dc:title>
</cp:coreProperties>
</file>