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7.pct" ContentType="image/x-pict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10.pct" ContentType="image/x-pict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9A3-2C3D-4E91-BB19-6F2FEB1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01F-CF41-462A-978D-F6514CAC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6F3-D8D5-4D52-9C20-EBB4B08C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AD3-50C2-4A3A-8CD2-ECF0945B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E06-1BBC-49DF-8627-9D3A5720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338-2A8F-4DD6-8C0C-41FCF4B8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869-A947-4463-A82D-D316FEFC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B74-80EB-4CAA-B7A2-A3B5B802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E65-284A-4458-A269-75D7DAB1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44E-25C2-427E-A479-49FBB571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08E-A585-4E6D-BAA3-6250BC89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C9E-E8FF-4A0F-96D9-C0194E1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423-864B-4FE2-AE6E-E7456CA8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Inner Plane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19360" cy="315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647960" cy="31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768840"/>
            <a:ext cx="4343400" cy="308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3727440"/>
            <a:ext cx="44197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67.2 million miles from the Sun or .72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Similar to Earth in size, mass and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roughly 95% the size, 82% the mass of the Earth and has a very similar density. Because of the similarity its is often referred to as “Earth’s Twin”. However, appearances can be deceiv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urface temperatur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860°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ot enough to melt tin, lead and zin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as smooth rolling plains, highland plateaus, mountains, valleys, craters, and several active volcan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276720"/>
            <a:ext cx="5715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enut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olcan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Maat 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2446200"/>
            <a:ext cx="5638680" cy="433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e gas in its atmosphere and thick clouds of sulfuric acid is poisonous and makes the surface features difficult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Atmospheric pressure is 90 times more crushing than Earth’s air at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everal soviet probes were crushed out of existence as they tried to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Carbon dioxide gas traps the heat making life as we know it impossible on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An extreme example of the 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3049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ick clouds reflect the sunlight, making it the brightest planet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Because it shines before sunrise and just after sunset, many people refer to it as the morning and evening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1440" y="152280"/>
            <a:ext cx="4386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3rd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Distance from Sun:  93 million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Astronomical Unit (AU) is used to measure the distance of objects in the Universe.  Based on the distance from the Su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9d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9de3"/>
                </a:solidFill>
                <a:latin typeface="Arial"/>
              </a:rPr>
              <a:t>1 AU is the distance from the Sun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otation (Day) on it’s axis is 24 hours, or 1 Eart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evolution (year) around the Sun is 365 days (1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Earth is 7,926 mile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 has ONE satellite!  Our mo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-130°F to 14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average temperature is 7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1295280"/>
            <a:ext cx="39798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038480" y="2895120"/>
            <a:ext cx="3048120" cy="838440"/>
          </a:xfrm>
          <a:prstGeom prst="line">
            <a:avLst/>
          </a:prstGeom>
          <a:ln w="127080">
            <a:solidFill>
              <a:srgbClr val="e331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s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larger than our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y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 (Revolution):  88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(Rotation):  59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stance from S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42 millio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.52 times as far as Earth (1.52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ime to Orbit the Sun (year): 26 Earth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tian Day: 24.7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ameter-4222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emperature on the planet’s surface hardly rises above freez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-81°F to 68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Surfa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Impact Cr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volcano in the solar system (Olympus 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Canyon in the Solar System (Valles Marine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Ancient river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va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Dust is reddish from volcanic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47516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4533840"/>
            <a:ext cx="3886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Earth and Mars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43160" y="1811160"/>
            <a:ext cx="6581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in, mostly carbon dioxide,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it is unbreat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Dusty, makes the sky pinkish, 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lots of du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e north and south pol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s are covered with thick 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wo tiny moons named “Deimos”  (Panic) &amp; “Phobos” (F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irregular and very small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Phobos 27x22x18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eimos 15x12x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probably asteroids captured by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from the Su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7 million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.39 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of Merc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050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 close to the sun that astronomers have a hard time see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see because Mercury is low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nly be seen at twilight from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only a few times during its 88 day orbit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s fast around the Sun (88 day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es slowly on its axis (59 day to complete one r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it rotates precisely three times for every two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degree t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trem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we know it could not exist on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92° F  to 842° 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, heavy lifeless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tmosphere to hold in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no atmosphere or hydrosphere, there has been no erosion from wind o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ural satellites (mo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0516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47246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face is similar to our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eteorites do not burn up due to friction as they do in other planetary atmospheres, therefore it i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ed with craters and has a few pl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79132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2nd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easier to observe than 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evolution (year): 224.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otation (day): 24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Diameter: 7,5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does not have any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Planet is upside down!  Axis tilt is  17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No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02:04Z</dcterms:created>
  <dc:creator>asd</dc:creator>
  <dc:description/>
  <dc:language>en-US</dc:language>
  <cp:lastModifiedBy>asd</cp:lastModifiedBy>
  <dcterms:modified xsi:type="dcterms:W3CDTF">2011-02-09T06:20:24Z</dcterms:modified>
  <cp:revision>7</cp:revision>
  <dc:subject/>
  <dc:title>The Inner Planets!</dc:title>
</cp:coreProperties>
</file>