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6D325-18E0-4BC4-A2BC-E1565B97A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92B68-7189-4C91-A7D9-47E653C4B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29B87-7AA3-4B07-9A92-4CEDB224E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A792D-1BBB-4870-8032-5A3B37DEE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4E325-AAE4-4DEC-973C-8F95A00A8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DC7FE-26ED-4093-A48D-4AB87B909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9969B-413D-4D6F-A71F-811F54A70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974E7-60ED-4831-B925-9F99867DB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23D06-4481-4F89-B389-4FE168C2F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DEEDC-B53D-4101-AA01-10DD8C5E0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3706-2932-450E-B6A4-37731BD88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E41EF-1483-4246-AAFA-8D464948E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1D64-772C-4649-9FF9-9A2E8FC4B1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ography4kids.com/files/land_erosion.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carry away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ivers</a:t>
            </a:r>
            <a:endParaRPr b="0" lang="en-US" sz="8800" spc="-1" strike="noStrike">
              <a:solidFill>
                <a:srgbClr val="000000"/>
              </a:solidFill>
              <a:latin typeface="Arial"/>
            </a:endParaRPr>
          </a:p>
        </p:txBody>
      </p:sp>
      <p:sp>
        <p:nvSpPr>
          <p:cNvPr id="59"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572000" cy="3429000"/>
          </a:xfrm>
          <a:prstGeom prst="rect">
            <a:avLst/>
          </a:prstGeom>
          <a:ln w="0">
            <a:noFill/>
          </a:ln>
        </p:spPr>
      </p:pic>
      <p:pic>
        <p:nvPicPr>
          <p:cNvPr id="61" name="" descr=""/>
          <p:cNvPicPr/>
          <p:nvPr/>
        </p:nvPicPr>
        <p:blipFill>
          <a:blip r:embed="rId2"/>
          <a:stretch/>
        </p:blipFill>
        <p:spPr>
          <a:xfrm>
            <a:off x="4419720" y="1219320"/>
            <a:ext cx="4724280" cy="4000320"/>
          </a:xfrm>
          <a:prstGeom prst="rect">
            <a:avLst/>
          </a:prstGeom>
          <a:ln w="0">
            <a:noFill/>
          </a:ln>
        </p:spPr>
      </p:pic>
      <p:pic>
        <p:nvPicPr>
          <p:cNvPr id="62"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carry away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Erosion is the process that carries away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erod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badi MT Condensed Light"/>
                <a:hlinkClick r:id="rId1"/>
              </a:rPr>
              <a:t>Intro Websi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5"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streams, rivers, ocean, rills and gullies etc.</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Glaciers</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abrasion and deflation</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slump, rockslides, mudflow, creep</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Tide</a:t>
            </a:r>
            <a:endParaRPr b="0" lang="en-US" sz="8800" spc="-1" strike="noStrike">
              <a:solidFill>
                <a:srgbClr val="000000"/>
              </a:solidFill>
              <a:latin typeface="Arial"/>
            </a:endParaRPr>
          </a:p>
        </p:txBody>
      </p:sp>
      <p:sp>
        <p:nvSpPr>
          <p:cNvPr id="49"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ain</a:t>
            </a:r>
            <a:endParaRPr b="0" lang="en-US" sz="8800" spc="-1" strike="noStrike">
              <a:solidFill>
                <a:srgbClr val="000000"/>
              </a:solidFill>
              <a:latin typeface="Arial"/>
            </a:endParaRPr>
          </a:p>
        </p:txBody>
      </p:sp>
      <p:sp>
        <p:nvSpPr>
          <p:cNvPr id="53"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013280" y="0"/>
            <a:ext cx="5130720" cy="6858000"/>
          </a:xfrm>
          <a:prstGeom prst="rect">
            <a:avLst/>
          </a:prstGeom>
          <a:ln w="0">
            <a:noFill/>
          </a:ln>
        </p:spPr>
      </p:pic>
      <p:sp>
        <p:nvSpPr>
          <p:cNvPr id="55"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Erosion</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20:07:06Z</dcterms:modified>
  <cp:revision>7</cp:revision>
  <dc:subject/>
  <dc:title>Essential Student Outcome I can explain how a given landform has been shaped by processes that build up structures and breakdown and carry away material.</dc:title>
</cp:coreProperties>
</file>